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28.png" ContentType="image/png"/>
  <Override PartName="/ppt/media/image8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7552-117C-4136-B5FE-007D8AA57D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5A23-81FD-4C89-9945-37977DA1B4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36B6-2AB2-4A8C-8E45-B554304755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2055-D922-423B-A386-316A6D5A00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A1B7-88F5-43A7-9CC6-D0D4C47516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AF4-A110-4512-9479-83879AC9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AC4-B4A0-45A4-835A-7E8F41E9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AC6-6072-491D-9CB9-7F0ECA12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458-B9CB-4648-929C-B0365F6A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76D-6573-454C-8A3F-014CB74F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0FA-4B5A-441E-B551-4F5D3207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B10-E107-43F3-A97E-849A8624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098-6534-48D0-B204-9B62F771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12D-490D-47BE-A96D-E7AC7C0B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237-1835-4517-A570-6F927AD8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085-F025-4F5D-BDB9-DB86D28A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130D-9306-42A7-9D50-9DD68AAC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A2A4-9580-4379-87EF-19DAAB68817C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267"/>
          <p:cNvSpPr/>
          <p:nvPr/>
        </p:nvSpPr>
        <p:spPr>
          <a:xfrm>
            <a:off x="571680" y="285840"/>
            <a:ext cx="7992720" cy="6094440"/>
          </a:xfrm>
          <a:prstGeom prst="horizontalScroll">
            <a:avLst>
              <a:gd name="adj" fmla="val 12500"/>
            </a:avLst>
          </a:prstGeom>
          <a:solidFill>
            <a:srgbClr val="ffff00">
              <a:alpha val="20000"/>
            </a:srgbClr>
          </a:solidFill>
          <a:ln w="9360">
            <a:solidFill>
              <a:srgbClr val="990099"/>
            </a:solidFill>
            <a:miter/>
          </a:ln>
          <a:effectLst>
            <a:outerShdw dist="50938" dir="3061439" blurRad="0" rotWithShape="0">
              <a:srgbClr val="ffffff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Исполнение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бюджета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муниципального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образования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Нагорски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муниципальны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район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Кировско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област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за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2018год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68360" y="5661000"/>
            <a:ext cx="856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60640" indent="-797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Georgia"/>
                <a:ea typeface="Arial"/>
              </a:rPr>
              <a:t>    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6972480" cy="1542960"/>
          </a:xfrm>
          <a:prstGeom prst="rect">
            <a:avLst/>
          </a:prstGeom>
          <a:solidFill>
            <a:srgbClr val="c0bab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c0099"/>
                </a:solidFill>
                <a:latin typeface="Calibri"/>
              </a:rPr>
              <a:t>Динамика поступления безвозмездных поступлений бюджета Нагорского муниципального района за 2018 год к уровню 2017 года, тыс. руб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57120" y="1785960"/>
          <a:ext cx="8215560" cy="4949640"/>
        </p:xfrm>
        <a:graphic>
          <a:graphicData uri="http://schemas.openxmlformats.org/drawingml/2006/table">
            <a:tbl>
              <a:tblPr/>
              <a:tblGrid>
                <a:gridCol w="2757600"/>
                <a:gridCol w="1785960"/>
                <a:gridCol w="1857240"/>
                <a:gridCol w="1814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17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18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2018 года от 2017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та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085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097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 988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сид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 074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 925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 14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вен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 082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 107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 975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ые МБ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6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51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 от негосударственных организац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2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6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84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безвозмездные поступлен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3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остатков субсидий, субвенц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0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2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безвозмездных поступл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 80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 209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4 590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pic>
        <p:nvPicPr>
          <p:cNvPr id="81" name="Picture 2" descr="&amp;Pcy;&amp;lcy;&amp;acy;&amp;ncy; &amp;pcy;&amp;ocy; &amp;dcy;&amp;ocy;&amp;khcy;&amp;ocy;&amp;dcy;&amp;acy;&amp;mcy; &amp;gcy;&amp;ocy;&amp;rcy;&amp;ocy;&amp;dcy;&amp;scy;&amp;kcy;&amp;ocy;&amp;gcy;&amp;ocy; &amp;bcy;&amp;yucy;&amp;dcy;&amp;zhcy;&amp;iecy;&amp;tcy;&amp;acy; &amp;ncy;&amp;acy; 2012 &amp;gcy;&amp;ocy;&amp;dcy; &amp;vcy;&amp;ycy;&amp;pcy;&amp;ocy;&amp;lcy;&amp;ncy;&amp;iecy;&amp;ncy; &amp;ncy;&amp;acy; 95"/>
          <p:cNvPicPr/>
          <p:nvPr/>
        </p:nvPicPr>
        <p:blipFill>
          <a:blip r:embed="rId1"/>
          <a:stretch/>
        </p:blipFill>
        <p:spPr>
          <a:xfrm>
            <a:off x="7286760" y="214200"/>
            <a:ext cx="1517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14292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95b22"/>
                </a:solidFill>
                <a:latin typeface="Calibri"/>
              </a:rPr>
              <a:t>Анализ недоимки в консолидированный бюджет Нагорского района за 2018 год,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14200" y="1785960"/>
          <a:ext cx="8501040" cy="4929120"/>
        </p:xfrm>
        <a:graphic>
          <a:graphicData uri="http://schemas.openxmlformats.org/drawingml/2006/table">
            <a:tbl>
              <a:tblPr/>
              <a:tblGrid>
                <a:gridCol w="3386160"/>
                <a:gridCol w="1805040"/>
                <a:gridCol w="1654200"/>
                <a:gridCol w="1655640"/>
              </a:tblGrid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латеж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имка на 01.01.2018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имка на 01.01.2019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, тыс. руб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 т.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08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7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00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ДФ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8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5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В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0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физических лиц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3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78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ельный нало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, в т.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09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09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9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686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а земл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9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2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7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686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а имущест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7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7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686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45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17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45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17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45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00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4545"/>
                    </a:solidFill>
                  </a:tcPr>
                </a:tc>
              </a:tr>
            </a:tbl>
          </a:graphicData>
        </a:graphic>
      </p:graphicFrame>
      <p:pic>
        <p:nvPicPr>
          <p:cNvPr id="84" name="Picture 2" descr="&amp;Dcy;&amp;ocy;&amp;pcy;&amp;ocy;&amp;lcy;&amp;ncy;&amp;icy;&amp;tcy;&amp;iecy;&amp;lcy;&amp;softcy;&amp;ncy;&amp;ycy;&amp;iecy; &amp;dcy;&amp;ocy;&amp;khcy;&amp;ocy;&amp;dcy;&amp;ycy; &amp;bcy;&amp;yucy;&amp;dcy;&amp;zhcy;&amp;iecy;&amp;tcy;&amp;acy; &amp;pcy;&amp;ocy;&amp;jcy;&amp;dcy;&amp;ucy;&amp;tcy; &amp;ncy;&amp;acy; &amp;scy;&amp;iecy;&amp;lcy;&amp;softcy;&amp;scy;&amp;kcy;&amp;ocy;&amp;iecy; &amp;khcy;&amp;ocy;&amp;zcy;&amp;yacy;&amp;jcy;&amp;scy;&amp;tcy;&amp;vcy;&amp;ocy; &amp;icy; &amp;gcy;&amp;acy;&amp;rcy;&amp;acy;&amp;ncy;&amp;tcy;&amp;icy;&amp;icy; &amp;pcy;&amp;ocy; &amp;icy;&amp;ncy;&amp;vcy;&amp;iecy;&amp;scy;&amp;tcy;&amp;kcy;&amp;rcy;&amp;iecy;&amp;dcy;&amp;icy;&amp;tcy;&amp;acy;&amp;mcy;: &amp;Pcy;&amp;ocy;&amp;rcy;&amp;tcy;&amp;acy;&amp;lcy; &amp;mcy;&amp;acy;&amp;lcy;&amp;ocy;&amp;gcy;&amp;ocy; &amp;icy; &amp;scy;&amp;rcy;&amp;iecy;&amp;dcy;&amp;ncy;&amp;iecy;&amp;gcy;&amp;ocy; &amp;pcy;&amp;rcy;&amp;iecy;&amp;dcy;&amp;pcy;&amp;rcy;&amp;icy;&amp;ncy;&amp;icy;&amp;mcy;&amp;acy;&amp;tcy;&amp;iecy;&amp;lcy;"/>
          <p:cNvPicPr/>
          <p:nvPr/>
        </p:nvPicPr>
        <p:blipFill>
          <a:blip r:embed="rId1"/>
          <a:stretch/>
        </p:blipFill>
        <p:spPr>
          <a:xfrm>
            <a:off x="428760" y="142920"/>
            <a:ext cx="2071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725400"/>
          </a:xfrm>
          <a:prstGeom prst="rect">
            <a:avLst/>
          </a:prstGeom>
          <a:solidFill>
            <a:srgbClr val="ebb391"/>
          </a:solidFill>
          <a:ln w="9360">
            <a:solidFill>
              <a:srgbClr val="968c8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Calibri"/>
              </a:rPr>
              <a:t>Работа, проводимая  в районе по привлечению и увеличению </a:t>
            </a:r>
            <a:br>
              <a:rPr sz="1600"/>
            </a:br>
            <a:r>
              <a:rPr b="0" i="1" lang="ru-RU" sz="1600" spc="-1" strike="noStrike">
                <a:solidFill>
                  <a:srgbClr val="404040"/>
                </a:solidFill>
                <a:latin typeface="Calibri"/>
              </a:rPr>
              <a:t>доходной части бюджета в 2018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"/>
          <p:cNvPicPr/>
          <p:nvPr/>
        </p:nvPicPr>
        <p:blipFill>
          <a:blip r:embed="rId1"/>
          <a:stretch/>
        </p:blipFill>
        <p:spPr>
          <a:xfrm>
            <a:off x="122400" y="1133640"/>
            <a:ext cx="8905680" cy="5548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spasitepomogite.ru/wp-content/uploads/Upravlenie-debitorskoj-zadolzhennostyu.jpg"/>
          <p:cNvPicPr/>
          <p:nvPr/>
        </p:nvPicPr>
        <p:blipFill>
          <a:blip r:embed="rId2"/>
          <a:stretch/>
        </p:blipFill>
        <p:spPr>
          <a:xfrm>
            <a:off x="136440" y="214200"/>
            <a:ext cx="2649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3" descr=""/>
          <p:cNvPicPr/>
          <p:nvPr/>
        </p:nvPicPr>
        <p:blipFill>
          <a:blip r:embed="rId1"/>
          <a:stretch/>
        </p:blipFill>
        <p:spPr>
          <a:xfrm>
            <a:off x="268200" y="1249200"/>
            <a:ext cx="8558280" cy="5475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kayrosblog.ru/wp-content/uploads/2016/12/Rashody-lichnogo-byudzheta-kak-derzhat-sebya-v-rukah-5-768x511.jpg"/>
          <p:cNvPicPr/>
          <p:nvPr/>
        </p:nvPicPr>
        <p:blipFill>
          <a:blip r:embed="rId2"/>
          <a:stretch/>
        </p:blipFill>
        <p:spPr>
          <a:xfrm>
            <a:off x="4714920" y="142920"/>
            <a:ext cx="42148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24000" y="549360"/>
            <a:ext cx="8135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 РАСХОДОВ БЮДЖЕТА МУНИЦИПАЛЬНОГО ОБРАЗОВАНИЯ НАГОРСКИЙ МУНИЦИПАЛЬНЫЙ РАЙОН КИРОВСКОЙ ОБЛАСТИ</a:t>
            </a:r>
            <a:br>
              <a:rPr sz="18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724360" y="157176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2018 г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887640" y="2871720"/>
            <a:ext cx="10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39640" y="15717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2017 г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3527280" y="3392640"/>
            <a:ext cx="2124360" cy="0"/>
          </a:xfrm>
          <a:prstGeom prst="line">
            <a:avLst/>
          </a:prstGeom>
          <a:ln w="19044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3527280" y="2708280"/>
            <a:ext cx="1441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8913,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с. руб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50920" y="2421000"/>
            <a:ext cx="3168720" cy="2628720"/>
          </a:xfrm>
          <a:prstGeom prst="flowChartMultidocumen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56921,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ыс. руб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724360" y="2205000"/>
            <a:ext cx="3168720" cy="3168720"/>
          </a:xfrm>
          <a:prstGeom prst="flowChartMultidocumen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38008,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ыс. руб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став расходов бюджета Нагорского муниципального района в 2018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Диаграмма 5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4507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  <a:ea typeface="Arial"/>
              </a:rPr>
              <a:t>Отраслевая структура расходов в 2018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14200" y="1071720"/>
          <a:ext cx="8715600" cy="5357520"/>
        </p:xfrm>
        <a:graphic>
          <a:graphicData uri="http://schemas.openxmlformats.org/drawingml/2006/table">
            <a:tbl>
              <a:tblPr/>
              <a:tblGrid>
                <a:gridCol w="4094280"/>
                <a:gridCol w="841320"/>
                <a:gridCol w="1190520"/>
                <a:gridCol w="1121040"/>
                <a:gridCol w="1468440"/>
              </a:tblGrid>
              <a:tr h="89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ый расход, тыс.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исполнения, %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льный вес,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6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55d7e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008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48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щегосударственные вопрос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354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48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оборо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4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813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безопасность и правоохранительная деятельност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9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48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эконом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61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48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храна окружающей ср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5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разов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572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48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ультура и кинематография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44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66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оциальная полит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5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5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ическая культура и спор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79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служивание государственного и муниципального долг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9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492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жбюджетные трансферты общего характер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92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ирование отраслей социально – культурной сферы в 2018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Диаграмма 4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держка отраслей экономики района в 2018 г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Диаграмма 3" descr=""/>
          <p:cNvPicPr/>
          <p:nvPr/>
        </p:nvPicPr>
        <p:blipFill>
          <a:blip r:embed="rId1"/>
          <a:stretch/>
        </p:blipFill>
        <p:spPr>
          <a:xfrm>
            <a:off x="500040" y="228600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служивание муниципального долга в 2018 го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Диаграмма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Вертикальный свиток 4"/>
          <p:cNvSpPr/>
          <p:nvPr/>
        </p:nvSpPr>
        <p:spPr>
          <a:xfrm>
            <a:off x="0" y="500040"/>
            <a:ext cx="9144000" cy="5786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Бюджет муниципального образования Нагорский муниципальный район Кировской области за 2018 год исполнен по доходам в сумме 245004,5 тыс. рублей и по расходам в сумме 238008,5 тыс. рублей, с профицитом       6996,0 тыс. рубл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&amp;Pcy;&amp;iecy;&amp;rcy;&amp;iecy;&amp;vcy;&amp;ycy;&amp;pcy;&amp;ocy;&amp;lcy;&amp;ncy;&amp;iecy;&amp;ncy; &amp;pcy;&amp;lcy;&amp;acy;&amp;ncy; &amp;pcy;&amp;ocy; &amp;dcy;&amp;ocy;&amp;khcy;&amp;ocy;&amp;dcy;&amp;acy;&amp;mcy; &amp;kcy;&amp;rcy;&amp;acy;&amp;iecy;&amp;vcy;&amp;ocy;&amp;gcy;&amp;ocy; &amp;bcy;&amp;yucy;&amp;dcy;&amp;zhcy;&amp;iecy;&amp;tcy;&amp;acy; LifeNews.pro"/>
          <p:cNvPicPr/>
          <p:nvPr/>
        </p:nvPicPr>
        <p:blipFill>
          <a:blip r:embed="rId1"/>
          <a:stretch/>
        </p:blipFill>
        <p:spPr>
          <a:xfrm>
            <a:off x="2428920" y="3929040"/>
            <a:ext cx="4357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бюджетные трансферты общего характера  поселениям района в 2018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Диаграмма 3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жбюджетные трансферты целевого характера поселениям района в 2018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Диаграмма 3" descr=""/>
          <p:cNvPicPr/>
          <p:nvPr/>
        </p:nvPicPr>
        <p:blipFill>
          <a:blip r:embed="rId1"/>
          <a:stretch/>
        </p:blipFill>
        <p:spPr>
          <a:xfrm>
            <a:off x="500040" y="1928880"/>
            <a:ext cx="8229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установленного норматива расходов на содержание органов местного самоуправления в 2018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Диаграмма 4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4" descr=""/>
          <p:cNvPicPr/>
          <p:nvPr/>
        </p:nvPicPr>
        <p:blipFill>
          <a:blip r:embed="rId2"/>
          <a:stretch/>
        </p:blipFill>
        <p:spPr>
          <a:xfrm>
            <a:off x="1428840" y="2214720"/>
            <a:ext cx="61912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работная плата с начислениями за 2018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Диаграмма 3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8115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редиторская задолженность по заработной плате с начислениями за 2018 г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Диаграмма 5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8001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Д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о численности и денежном содержании муниципальных служащих и работников муниципальных учреждений, финансируемых из бюджета муниципального района, за 2018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28760" y="2500200"/>
          <a:ext cx="8143920" cy="343872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760"/>
              </a:tblGrid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ь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чная численность, челове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содержание (фактически произведенные выплаты по оплате труда с начислениями), тыс. рубл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е служащие и работники органов местного самоуправления райо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2996,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и образова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384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и культур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63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ниципальные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Диаграмма 3" descr=""/>
          <p:cNvPicPr/>
          <p:nvPr/>
        </p:nvPicPr>
        <p:blipFill>
          <a:blip r:embed="rId1"/>
          <a:stretch/>
        </p:blipFill>
        <p:spPr>
          <a:xfrm>
            <a:off x="1429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программные меропри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Диаграмма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фицит и муниципальный дол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14240" y="1214280"/>
          <a:ext cx="7715520" cy="5187960"/>
        </p:xfrm>
        <a:graphic>
          <a:graphicData uri="http://schemas.openxmlformats.org/drawingml/2006/table">
            <a:tbl>
              <a:tblPr/>
              <a:tblGrid>
                <a:gridCol w="4060800"/>
                <a:gridCol w="1876680"/>
                <a:gridCol w="1778040"/>
              </a:tblGrid>
              <a:tr h="731880"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(тыс. рубле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 (тыс. рубле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ОВ БЮДЖЕТО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558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996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490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490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 бюджетом муниципального района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бюджетом муниципального района  кредитов от кредитных организаций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90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90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 бюджетных кредитов от других бюджетов бюджетной системы Российской Федерации бюджетом муниципального района  в валюте 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бюджетом муниципального района кредитов от других бюджетов бюджетной системы Российской Федерации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средств бюджет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1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05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400" spc="-1" strike="noStrike">
                <a:solidFill>
                  <a:srgbClr val="361fc3"/>
                </a:solidFill>
                <a:latin typeface="Monotype Corsiva"/>
              </a:rPr>
              <a:t>Спасибо за внимание !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26868"/>
          </a:solidFill>
          <a:ln w="9360">
            <a:solidFill>
              <a:srgbClr val="b39d9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ение доходной части бюджета Нагорского муниципального района за 2018 год,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7120" y="1996920"/>
          <a:ext cx="8329680" cy="2718000"/>
        </p:xfrm>
        <a:graphic>
          <a:graphicData uri="http://schemas.openxmlformats.org/drawingml/2006/table">
            <a:tbl>
              <a:tblPr/>
              <a:tblGrid>
                <a:gridCol w="2522520"/>
                <a:gridCol w="2017800"/>
                <a:gridCol w="1944720"/>
                <a:gridCol w="184464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ХОД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2018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18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ственные доход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 201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 794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 96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 209,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доход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 167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 004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" descr="&amp;Ncy;&amp;ocy;&amp;vcy;&amp;ocy;&amp;scy;&amp;tcy;&amp;icy; &quot; &amp;Scy; 2014 &amp;gcy;&amp;ocy;&amp;dcy;&amp;acy; &amp;mcy;&amp;iecy;&amp;ncy;&amp;yacy;&amp;yucy;&amp;tcy;&amp;scy;&amp;yacy; &amp;ncy;&amp;ocy;&amp;rcy;&amp;mcy;&amp;acy;&amp;tcy;&amp;icy;&amp;vcy;&amp;ycy; &amp;rcy;&amp;acy;&amp;scy;&amp;pcy;&amp;rcy;&amp;iecy;&amp;dcy;&amp;iecy;&amp;lcy;&amp;iecy;&amp;ncy;&amp;icy;&amp;yacy; &amp;ncy;&amp;iecy;&amp;ncy;&amp;acy;&amp;lcy;&amp;ocy;&amp;gcy;&amp;ocy;&amp;vcy;&amp;ycy;&amp;khcy; &amp;dcy;&amp;ocy;&amp;khcy;&amp;ocy;&amp;dcy;&amp;ocy;&amp;vcy; &amp;vcy; &amp;bcy;&amp;yucy;&amp;dcy;&amp;zhcy;&amp;iecy;&amp;tcy;&amp;ycy; &amp;gcy;&amp;ocy;&amp;rcy;&amp;ocy;&amp;dcy;&amp;scy;&amp;kcy;&amp;icy;&amp;khcy; &amp;ocy;&amp;kcy;&amp;rcy;&amp;ucy;&amp;gcy;&amp;ocy;&amp;vcy; &quot; &amp;Mcy;&amp;icy;&amp;ncy;&amp;icy;&amp;scy;&amp;tcy;&amp;iecy;&amp;rcy;&amp;scy;&amp;tcy;&amp;vcy;&amp;ocy; &amp;icy;&amp;mcy;&amp;ucy;&amp;shchcy;&amp;iecy;&amp;scy;&amp;tcy;&amp;vcy;&amp;iecy;&amp;ncy;"/>
          <p:cNvPicPr/>
          <p:nvPr/>
        </p:nvPicPr>
        <p:blipFill>
          <a:blip r:embed="rId1"/>
          <a:stretch/>
        </p:blipFill>
        <p:spPr>
          <a:xfrm>
            <a:off x="2500200" y="4857840"/>
            <a:ext cx="2786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Диаграмма 3" descr=""/>
          <p:cNvPicPr/>
          <p:nvPr/>
        </p:nvPicPr>
        <p:blipFill>
          <a:blip r:embed="rId1"/>
          <a:stretch/>
        </p:blipFill>
        <p:spPr>
          <a:xfrm>
            <a:off x="214200" y="1477800"/>
            <a:ext cx="8786880" cy="5166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доходов бюджета Нагорского 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муниципального района  2018 год к уровню 2017 года, тыс. рублей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Выноска 2 3"/>
          <p:cNvSpPr/>
          <p:nvPr/>
        </p:nvSpPr>
        <p:spPr>
          <a:xfrm>
            <a:off x="2786040" y="3500280"/>
            <a:ext cx="1071720" cy="42876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45759"/>
              <a:gd name="adj6" fmla="val -35106"/>
            </a:avLst>
          </a:prstGeom>
          <a:solidFill>
            <a:srgbClr val="92d050"/>
          </a:solidFill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+8 828,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Выноска 2 4"/>
          <p:cNvSpPr/>
          <p:nvPr/>
        </p:nvSpPr>
        <p:spPr>
          <a:xfrm>
            <a:off x="6929280" y="1643040"/>
            <a:ext cx="1357560" cy="3571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6189"/>
              <a:gd name="adj5" fmla="val 138092"/>
              <a:gd name="adj6" fmla="val -52967"/>
            </a:avLst>
          </a:prstGeom>
          <a:solidFill>
            <a:srgbClr val="92d050"/>
          </a:solidFill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24 590,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1143000"/>
          </a:xfrm>
          <a:prstGeom prst="rect">
            <a:avLst/>
          </a:prstGeom>
          <a:solidFill>
            <a:srgbClr val="c0bab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нение уточненного годового план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налоговым доходам за 2018 год п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горскому муниципальному райо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8760" y="1357200"/>
          <a:ext cx="8143920" cy="5025960"/>
        </p:xfrm>
        <a:graphic>
          <a:graphicData uri="http://schemas.openxmlformats.org/drawingml/2006/table">
            <a:tbl>
              <a:tblPr/>
              <a:tblGrid>
                <a:gridCol w="2557440"/>
                <a:gridCol w="1009440"/>
                <a:gridCol w="1211400"/>
                <a:gridCol w="1077840"/>
                <a:gridCol w="1143000"/>
                <a:gridCol w="1144800"/>
              </a:tblGrid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 на 2018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поступление за 2018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тыс. рубля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та в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650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293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42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Налог на доходы физических лиц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52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94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кциз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17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350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3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Упрощенная система налогообло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433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439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5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Единый сельскохозяйственный нало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Единый налог на вмененный дох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26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78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атентная система налогообло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5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5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Налог на имущество организац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8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6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Госпошлин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4" descr="https://im0-tub-ru.yandex.net/i?id=be48b5f7c614fd6dbd40b31ad88a09a1&amp;n=33&amp;h=215&amp;w=325"/>
          <p:cNvPicPr/>
          <p:nvPr/>
        </p:nvPicPr>
        <p:blipFill>
          <a:blip r:embed="rId1"/>
          <a:stretch/>
        </p:blipFill>
        <p:spPr>
          <a:xfrm>
            <a:off x="136440" y="285840"/>
            <a:ext cx="1863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42560"/>
            <a:ext cx="8640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поступлений основных налоговых доходов  бюджета Нагорского муниципального района в 2017 и 20</a:t>
            </a:r>
            <a:r>
              <a:rPr b="1" lang="en-US" sz="1800" spc="-1" strike="noStrike">
                <a:solidFill>
                  <a:srgbClr val="333399"/>
                </a:solidFill>
                <a:latin typeface="Georgia"/>
                <a:ea typeface="Arial"/>
              </a:rPr>
              <a:t>1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  <a:ea typeface="Arial"/>
              </a:rPr>
              <a:t>8 гг., тыс</a:t>
            </a: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. рубле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8" descr=""/>
          <p:cNvPicPr/>
          <p:nvPr/>
        </p:nvPicPr>
        <p:blipFill>
          <a:blip r:embed="rId1"/>
          <a:stretch/>
        </p:blipFill>
        <p:spPr>
          <a:xfrm>
            <a:off x="0" y="1214280"/>
            <a:ext cx="89503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право с вырезом 4"/>
          <p:cNvSpPr/>
          <p:nvPr/>
        </p:nvSpPr>
        <p:spPr>
          <a:xfrm rot="19057200">
            <a:off x="344160" y="3466800"/>
            <a:ext cx="996840" cy="482400"/>
          </a:xfrm>
          <a:custGeom>
            <a:avLst/>
            <a:gdLst>
              <a:gd name="textAreaLeft" fmla="*/ 85320 w 996840"/>
              <a:gd name="textAreaRight" fmla="*/ 911520 w 996840"/>
              <a:gd name="textAreaTop" fmla="*/ 120600 h 482400"/>
              <a:gd name="textAreaBottom" fmla="*/ 361800 h 48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89" y="5400"/>
                </a:lnTo>
                <a:lnTo>
                  <a:pt x="17889" y="0"/>
                </a:lnTo>
                <a:lnTo>
                  <a:pt x="21600" y="10800"/>
                </a:lnTo>
                <a:lnTo>
                  <a:pt x="17889" y="21600"/>
                </a:lnTo>
                <a:lnTo>
                  <a:pt x="17889" y="16200"/>
                </a:lnTo>
                <a:lnTo>
                  <a:pt x="0" y="16200"/>
                </a:lnTo>
                <a:lnTo>
                  <a:pt x="185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+525,4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право с вырезом 5"/>
          <p:cNvSpPr/>
          <p:nvPr/>
        </p:nvSpPr>
        <p:spPr>
          <a:xfrm rot="19435800">
            <a:off x="1531800" y="2949120"/>
            <a:ext cx="1011240" cy="435240"/>
          </a:xfrm>
          <a:custGeom>
            <a:avLst/>
            <a:gdLst>
              <a:gd name="textAreaLeft" fmla="*/ 108720 w 1011240"/>
              <a:gd name="textAreaRight" fmla="*/ 902520 w 1011240"/>
              <a:gd name="textAreaTop" fmla="*/ 108720 h 435240"/>
              <a:gd name="textAreaBottom" fmla="*/ 326520 h 435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48" y="5400"/>
                </a:lnTo>
                <a:lnTo>
                  <a:pt x="16948" y="0"/>
                </a:lnTo>
                <a:lnTo>
                  <a:pt x="21600" y="10800"/>
                </a:lnTo>
                <a:lnTo>
                  <a:pt x="16948" y="21600"/>
                </a:lnTo>
                <a:lnTo>
                  <a:pt x="16948" y="16200"/>
                </a:lnTo>
                <a:lnTo>
                  <a:pt x="0" y="16200"/>
                </a:lnTo>
                <a:lnTo>
                  <a:pt x="232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+1 152,8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право с вырезом 6"/>
          <p:cNvSpPr/>
          <p:nvPr/>
        </p:nvSpPr>
        <p:spPr>
          <a:xfrm rot="1812600">
            <a:off x="2507760" y="3800520"/>
            <a:ext cx="874800" cy="414360"/>
          </a:xfrm>
          <a:custGeom>
            <a:avLst/>
            <a:gdLst>
              <a:gd name="textAreaLeft" fmla="*/ 103320 w 874800"/>
              <a:gd name="textAreaRight" fmla="*/ 771480 w 874800"/>
              <a:gd name="textAreaTop" fmla="*/ 103680 h 414360"/>
              <a:gd name="textAreaBottom" fmla="*/ 311040 h 41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89" y="5400"/>
                </a:lnTo>
                <a:lnTo>
                  <a:pt x="16489" y="0"/>
                </a:lnTo>
                <a:lnTo>
                  <a:pt x="21600" y="10800"/>
                </a:lnTo>
                <a:lnTo>
                  <a:pt x="16489" y="21600"/>
                </a:lnTo>
                <a:lnTo>
                  <a:pt x="16489" y="16200"/>
                </a:lnTo>
                <a:lnTo>
                  <a:pt x="0" y="16200"/>
                </a:lnTo>
                <a:lnTo>
                  <a:pt x="255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-735,1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трелка вправо с вырезом 7"/>
          <p:cNvSpPr/>
          <p:nvPr/>
        </p:nvSpPr>
        <p:spPr>
          <a:xfrm rot="19627200">
            <a:off x="3552840" y="1355400"/>
            <a:ext cx="1041480" cy="441360"/>
          </a:xfrm>
          <a:custGeom>
            <a:avLst/>
            <a:gdLst>
              <a:gd name="textAreaLeft" fmla="*/ 110160 w 1041480"/>
              <a:gd name="textAreaRight" fmla="*/ 931320 w 104148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32" y="5400"/>
                </a:lnTo>
                <a:lnTo>
                  <a:pt x="17032" y="0"/>
                </a:lnTo>
                <a:lnTo>
                  <a:pt x="21600" y="10800"/>
                </a:lnTo>
                <a:lnTo>
                  <a:pt x="17032" y="21600"/>
                </a:lnTo>
                <a:lnTo>
                  <a:pt x="17032" y="16200"/>
                </a:lnTo>
                <a:lnTo>
                  <a:pt x="0" y="16200"/>
                </a:lnTo>
                <a:lnTo>
                  <a:pt x="228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+7 755,2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трелка вправо с вырезом 9"/>
          <p:cNvSpPr/>
          <p:nvPr/>
        </p:nvSpPr>
        <p:spPr>
          <a:xfrm rot="19102800">
            <a:off x="5524200" y="3704760"/>
            <a:ext cx="842760" cy="414360"/>
          </a:xfrm>
          <a:custGeom>
            <a:avLst/>
            <a:gdLst>
              <a:gd name="textAreaLeft" fmla="*/ 103680 w 842760"/>
              <a:gd name="textAreaRight" fmla="*/ 739080 w 842760"/>
              <a:gd name="textAreaTop" fmla="*/ 103680 h 414360"/>
              <a:gd name="textAreaBottom" fmla="*/ 311040 h 41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74" y="5400"/>
                </a:lnTo>
                <a:lnTo>
                  <a:pt x="16274" y="0"/>
                </a:lnTo>
                <a:lnTo>
                  <a:pt x="21600" y="10800"/>
                </a:lnTo>
                <a:lnTo>
                  <a:pt x="16274" y="21600"/>
                </a:lnTo>
                <a:lnTo>
                  <a:pt x="16274" y="16200"/>
                </a:lnTo>
                <a:lnTo>
                  <a:pt x="0" y="16200"/>
                </a:lnTo>
                <a:lnTo>
                  <a:pt x="26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+15,9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Стрелка вправо с вырезом 10" descr=""/>
          <p:cNvPicPr/>
          <p:nvPr/>
        </p:nvPicPr>
        <p:blipFill>
          <a:blip r:embed="rId2"/>
          <a:stretch/>
        </p:blipFill>
        <p:spPr>
          <a:xfrm>
            <a:off x="4572000" y="3852720"/>
            <a:ext cx="87156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solidFill>
            <a:srgbClr val="c9cdb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нение уточненного годового пла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неналоговым доходам за 2018 год п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горскому муниципальному рай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28760" y="1276200"/>
          <a:ext cx="8229600" cy="3997440"/>
        </p:xfrm>
        <a:graphic>
          <a:graphicData uri="http://schemas.openxmlformats.org/drawingml/2006/table">
            <a:tbl>
              <a:tblPr/>
              <a:tblGrid>
                <a:gridCol w="2257200"/>
                <a:gridCol w="1214640"/>
                <a:gridCol w="1357200"/>
                <a:gridCol w="1071720"/>
                <a:gridCol w="1143000"/>
                <a:gridCol w="118584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на 2018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исполнение за 2018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тыс. рубля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551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501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ренда земл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70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33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ренда имуществ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81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26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родажа земл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Реализация имуществ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ВО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раф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782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808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рочие доходы от оказания платных услуг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05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42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6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2" descr="http://lance24.ru/wp-content/uploads/2017/03/money.jpg"/>
          <p:cNvPicPr/>
          <p:nvPr/>
        </p:nvPicPr>
        <p:blipFill>
          <a:blip r:embed="rId1"/>
          <a:stretch/>
        </p:blipFill>
        <p:spPr>
          <a:xfrm>
            <a:off x="1714680" y="5214960"/>
            <a:ext cx="4071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f8e6d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Динамика поступлений неналоговых доходов в бюджет Нагорского муниципального района за 2018 год в сравнении с 2017 годом, тыс. руб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Содержимое 3"/>
          <p:cNvGraphicFramePr/>
          <p:nvPr/>
        </p:nvGraphicFramePr>
        <p:xfrm>
          <a:off x="428760" y="1720800"/>
          <a:ext cx="792936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720800"/>
                    <a:ext cx="79293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              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Исполнение плана по безвозмездным поступлениям по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                            бюджету Нагорского муниципального района за 2018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42960" y="1500120"/>
          <a:ext cx="8258040" cy="5303880"/>
        </p:xfrm>
        <a:graphic>
          <a:graphicData uri="http://schemas.openxmlformats.org/drawingml/2006/table">
            <a:tbl>
              <a:tblPr/>
              <a:tblGrid>
                <a:gridCol w="2786040"/>
                <a:gridCol w="1143000"/>
                <a:gridCol w="1214280"/>
                <a:gridCol w="928800"/>
                <a:gridCol w="1000080"/>
                <a:gridCol w="118584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на 2018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исполнение за 2018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тыс. рубля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та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097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097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сид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 605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 925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80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вен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 107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 107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ые межбюджетные трансферт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61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6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 от негосударственных организац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6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6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безвозмездные поступлен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7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3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остатков субсидий, субвенций прошлых ле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0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0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безвозмездных поступл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 965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 209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55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pic>
        <p:nvPicPr>
          <p:cNvPr id="78" name="Picture 2" descr="http://www.pencioner.ru/upload/iblock/f03/planirovshchik.jpg"/>
          <p:cNvPicPr/>
          <p:nvPr/>
        </p:nvPicPr>
        <p:blipFill>
          <a:blip r:embed="rId1"/>
          <a:stretch/>
        </p:blipFill>
        <p:spPr>
          <a:xfrm>
            <a:off x="136440" y="214200"/>
            <a:ext cx="22208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6:40:34Z</dcterms:created>
  <dc:creator>Лариса Патрушева</dc:creator>
  <dc:description/>
  <dc:language>en-US</dc:language>
  <cp:lastModifiedBy>ВодоносоваЕЮ</cp:lastModifiedBy>
  <dcterms:modified xsi:type="dcterms:W3CDTF">2019-02-28T06:13:14Z</dcterms:modified>
  <cp:revision>598</cp:revision>
  <dc:subject/>
  <dc:title>Департамент финансов  Кировской области</dc:title>
</cp:coreProperties>
</file>