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1.jpeg" ContentType="image/jpeg"/>
  <Override PartName="/ppt/media/image39.png" ContentType="image/png"/>
  <Override PartName="/ppt/media/image64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4.png" ContentType="image/png"/>
  <Override PartName="/ppt/media/image74.jpeg" ContentType="image/jpeg"/>
  <Override PartName="/ppt/media/image33.png" ContentType="image/png"/>
  <Override PartName="/ppt/media/image54.jpeg" ContentType="image/jpeg"/>
  <Override PartName="/ppt/media/image32.jpeg" ContentType="image/jpeg"/>
  <Override PartName="/ppt/media/image87.png" ContentType="image/png"/>
  <Override PartName="/ppt/media/image5.jpeg" ContentType="image/jpeg"/>
  <Override PartName="/ppt/media/image17.jpeg" ContentType="image/jpeg"/>
  <Override PartName="/ppt/media/image22.png" ContentType="image/png"/>
  <Override PartName="/ppt/media/image24.jpeg" ContentType="image/jpeg"/>
  <Override PartName="/ppt/media/image27.png" ContentType="image/png"/>
  <Override PartName="/ppt/media/image7.jpeg" ContentType="image/jpeg"/>
  <Override PartName="/ppt/media/image29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66.jpeg" ContentType="image/jpeg"/>
  <Override PartName="/ppt/media/image9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88.png" ContentType="image/png"/>
  <Override PartName="/ppt/media/image76.jpeg" ContentType="image/jpeg"/>
  <Override PartName="/ppt/media/image55.jpeg" ContentType="image/jpeg"/>
  <Override PartName="/ppt/media/image81.jpeg" ContentType="image/jpeg"/>
  <Override PartName="/ppt/media/image75.png" ContentType="image/png"/>
  <Override PartName="/ppt/media/image70.jpeg" ContentType="image/jpeg"/>
  <Override PartName="/ppt/media/image4.jpeg" ContentType="image/jpeg"/>
  <Override PartName="/ppt/media/image86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77.jpeg" ContentType="image/jpeg"/>
  <Override PartName="/ppt/media/image26.png" ContentType="image/png"/>
  <Override PartName="/ppt/media/image73.jpeg" ContentType="image/jpeg"/>
  <Override PartName="/ppt/media/image82.png" ContentType="image/png"/>
  <Override PartName="/ppt/media/image71.jpeg" ContentType="image/jpeg"/>
  <Override PartName="/ppt/media/image69.jpeg" ContentType="image/jpeg"/>
  <Override PartName="/ppt/media/image62.jpeg" ContentType="image/jpeg"/>
  <Override PartName="/ppt/media/image84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0.png" ContentType="image/png"/>
  <Override PartName="/ppt/media/image36.jpeg" ContentType="image/jpeg"/>
  <Override PartName="/ppt/media/image31.png" ContentType="image/png"/>
  <Override PartName="/ppt/media/image2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25.jpeg" ContentType="image/jpeg"/>
  <Override PartName="/ppt/media/image8.png" ContentType="image/png"/>
  <Override PartName="/ppt/media/image85.png" ContentType="image/png"/>
  <Override PartName="/ppt/media/image11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6E6D387-F5A0-4D3F-B0A1-788FFC0F36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8646D29-4ABC-4DEE-8F70-529CBF795C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72A3CC4-37F2-42E7-9CED-FDB4209EB7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8AC3CC5-00E4-4331-91B4-086695817D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648077F-8190-4F27-BC8B-EB954FD2F6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12BA124-AA8D-4034-B268-4808A233EC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59EFDA1-537A-4825-84BF-FEDA4DC847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0DE71A6-A0B8-418A-8ED3-97B605A802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47C-F6CC-4762-96EE-8B654EFD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F7E-A924-4FFD-A6EB-4A7801DB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7B6-3097-4E87-8C8A-9B2B4E58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AC3-BFC1-4099-B2D8-C750D8EF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F0A-B81D-4999-A54F-3A09A4C4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932-27DE-41AB-9FF7-E892011B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D42-08FF-49B1-B3C3-7987A953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910-2DA7-4525-82AF-D871FC05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C9C-330A-4E79-85BA-90A6920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7F0-BA3D-4B49-90F9-E5B4EDD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711-21D2-4702-973B-C7D6C980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DD5-3542-40C7-A7F2-AB2C9B82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8420-8550-46FF-92FA-CBEEAF8F8306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9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3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4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19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0 и 2021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19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4600" y="1960560"/>
          <a:ext cx="8072280" cy="5424480"/>
        </p:xfrm>
        <a:graphic>
          <a:graphicData uri="http://schemas.openxmlformats.org/drawingml/2006/table">
            <a:tbl>
              <a:tblPr/>
              <a:tblGrid>
                <a:gridCol w="2422440"/>
                <a:gridCol w="1027080"/>
                <a:gridCol w="954000"/>
                <a:gridCol w="1027080"/>
                <a:gridCol w="881280"/>
                <a:gridCol w="879480"/>
                <a:gridCol w="880920"/>
              </a:tblGrid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в 2018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2019 года к  уточненному плану 2018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9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7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1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2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реализации муниципального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43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9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2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6" name="Рисунок 8" descr="26785.jpeg"/>
          <p:cNvPicPr/>
          <p:nvPr/>
        </p:nvPicPr>
        <p:blipFill>
          <a:blip r:embed="rId1"/>
          <a:stretch/>
        </p:blipFill>
        <p:spPr>
          <a:xfrm>
            <a:off x="-6480" y="280980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17080" y="5162400"/>
            <a:ext cx="15904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29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30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32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67 990,43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57 053,34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56 516,64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19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0 и 2021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1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0 и 2021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38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41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44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19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50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 с режимом эконом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53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6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57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58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17"/>
          <p:cNvGrpSpPr/>
          <p:nvPr/>
        </p:nvGrpSpPr>
        <p:grpSpPr>
          <a:xfrm>
            <a:off x="4753080" y="1243080"/>
            <a:ext cx="4178160" cy="2500200"/>
            <a:chOff x="4753080" y="1243080"/>
            <a:chExt cx="4178160" cy="2500200"/>
          </a:xfrm>
        </p:grpSpPr>
        <p:sp>
          <p:nvSpPr>
            <p:cNvPr id="161" name="Скругленный прямоугольник 18"/>
            <p:cNvSpPr/>
            <p:nvPr/>
          </p:nvSpPr>
          <p:spPr>
            <a:xfrm>
              <a:off x="4753080" y="1355760"/>
              <a:ext cx="4178160" cy="19717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Скругленный прямоугольник 4"/>
            <p:cNvSpPr/>
            <p:nvPr/>
          </p:nvSpPr>
          <p:spPr>
            <a:xfrm>
              <a:off x="5070600" y="1243080"/>
              <a:ext cx="374436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фактического фонда оплаты труда за 2017 год с учетом повышений  в 2018 году на 12 месяцев, отчисления  от заработной платы предусмотрены на 12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64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66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67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05,6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24943,13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32059,2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8,6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ject 11" descr=""/>
          <p:cNvPicPr/>
          <p:nvPr/>
        </p:nvPicPr>
        <p:blipFill>
          <a:blip r:embed="rId1"/>
          <a:stretch/>
        </p:blipFill>
        <p:spPr>
          <a:xfrm>
            <a:off x="614520" y="1457280"/>
            <a:ext cx="8858160" cy="5357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1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19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1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3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9,7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756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3163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9 - 2021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9 -2021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19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0 и 2021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19 год запланирован на предоставление межбюджетных трансфертов в сумме 675,6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Диаграмма 7" descr=""/>
          <p:cNvPicPr/>
          <p:nvPr/>
        </p:nvPicPr>
        <p:blipFill>
          <a:blip r:embed="rId2"/>
          <a:stretch/>
        </p:blipFill>
        <p:spPr>
          <a:xfrm>
            <a:off x="190440" y="2886120"/>
            <a:ext cx="579456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961,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ile"/>
          <p:cNvSpPr/>
          <p:nvPr/>
        </p:nvSpPr>
        <p:spPr>
          <a:xfrm>
            <a:off x="936720" y="1886040"/>
            <a:ext cx="2950920" cy="2357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34" name="File"/>
          <p:cNvSpPr/>
          <p:nvPr/>
        </p:nvSpPr>
        <p:spPr>
          <a:xfrm>
            <a:off x="4043520" y="1957320"/>
            <a:ext cx="2950920" cy="231156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ile"/>
          <p:cNvSpPr/>
          <p:nvPr/>
        </p:nvSpPr>
        <p:spPr>
          <a:xfrm>
            <a:off x="7186680" y="1957320"/>
            <a:ext cx="3000240" cy="22860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9,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4191,7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0,0 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1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48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0,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0637,3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150,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77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7324,8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8788,9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50,0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021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096,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0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1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2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73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1550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20,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918,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592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88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89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File"/>
          <p:cNvSpPr/>
          <p:nvPr/>
        </p:nvSpPr>
        <p:spPr>
          <a:xfrm>
            <a:off x="3043080" y="33861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97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 548,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548,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 798,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398,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 120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820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02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4400640" y="4386240"/>
            <a:ext cx="3384360" cy="21002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34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3"/>
          <p:cNvSpPr/>
          <p:nvPr/>
        </p:nvSpPr>
        <p:spPr>
          <a:xfrm>
            <a:off x="4686480" y="4815000"/>
            <a:ext cx="2714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8559,6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200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12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1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7949000">
            <a:off x="3042360" y="2526120"/>
            <a:ext cx="941400" cy="3006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09560"/>
            <a:ext cx="4780080" cy="483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0 и 2021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5" descr=""/>
          <p:cNvPicPr/>
          <p:nvPr/>
        </p:nvPicPr>
        <p:blipFill>
          <a:blip r:embed="rId2"/>
          <a:stretch/>
        </p:blipFill>
        <p:spPr>
          <a:xfrm>
            <a:off x="5491080" y="167940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0 и 2021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25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19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19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5280" y="2968560"/>
            <a:ext cx="4967280" cy="57960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18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45 832,9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 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2 27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 045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3 69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43680" y="374328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 53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49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2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5972040" y="4386240"/>
            <a:ext cx="1500480" cy="571680"/>
          </a:xfrm>
          <a:custGeom>
            <a:avLst/>
            <a:gdLst>
              <a:gd name="textAreaLeft" fmla="*/ 142920 w 1500480"/>
              <a:gd name="textAreaRight" fmla="*/ 1357560 w 1500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03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38360" y="5224320"/>
            <a:ext cx="4821120" cy="53676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1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19 году к уточненному плану 2018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6563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45900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очненный план  на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19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19г к плану 2018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06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83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 2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2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19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69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49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3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4 364,0 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19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19 год -12 271,3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18 года рост на 2,7% или 319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0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имка по налоговым доходам, предусмотренным в бюджете Нагорского муниципального района в 2019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Вертикальный свиток 2"/>
          <p:cNvGrpSpPr/>
          <p:nvPr/>
        </p:nvGrpSpPr>
        <p:grpSpPr>
          <a:xfrm>
            <a:off x="2627280" y="1616040"/>
            <a:ext cx="7473960" cy="3041640"/>
            <a:chOff x="2627280" y="1616040"/>
            <a:chExt cx="7473960" cy="3041640"/>
          </a:xfrm>
        </p:grpSpPr>
        <p:pic>
          <p:nvPicPr>
            <p:cNvPr id="104" name="Вертик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2627280" y="1616040"/>
              <a:ext cx="747396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105000" y="2090880"/>
              <a:ext cx="651996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 прогнозе налоговых доходов бюджета Нагорского муниципального района на 2019 год учтена недоимка по налоговым платежам без учета недоимки отсутствующих должников, организаций, не осуществляющих деятельность, а также находящихся в процедурах банкротства или направивших заявления Арбитражный суд о признании банкротом, в сум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775,3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3"/>
          <p:cNvGrpSpPr/>
          <p:nvPr/>
        </p:nvGrpSpPr>
        <p:grpSpPr>
          <a:xfrm>
            <a:off x="19080" y="4724280"/>
            <a:ext cx="2187720" cy="2328840"/>
            <a:chOff x="19080" y="4724280"/>
            <a:chExt cx="2187720" cy="2328840"/>
          </a:xfrm>
        </p:grpSpPr>
        <p:pic>
          <p:nvPicPr>
            <p:cNvPr id="107" name="Овал 3" descr=""/>
            <p:cNvPicPr/>
            <p:nvPr/>
          </p:nvPicPr>
          <p:blipFill>
            <a:blip r:embed="rId3"/>
            <a:stretch/>
          </p:blipFill>
          <p:spPr>
            <a:xfrm>
              <a:off x="19080" y="4724280"/>
              <a:ext cx="218772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5180040"/>
              <a:ext cx="1314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Налог на доходы физических лиц 245,7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4"/>
          <p:cNvGrpSpPr/>
          <p:nvPr/>
        </p:nvGrpSpPr>
        <p:grpSpPr>
          <a:xfrm>
            <a:off x="2090880" y="4724280"/>
            <a:ext cx="2116080" cy="2328840"/>
            <a:chOff x="2090880" y="4724280"/>
            <a:chExt cx="2116080" cy="2328840"/>
          </a:xfrm>
        </p:grpSpPr>
        <p:pic>
          <p:nvPicPr>
            <p:cNvPr id="110" name="Овал 4" descr=""/>
            <p:cNvPicPr/>
            <p:nvPr/>
          </p:nvPicPr>
          <p:blipFill>
            <a:blip r:embed="rId4"/>
            <a:stretch/>
          </p:blipFill>
          <p:spPr>
            <a:xfrm>
              <a:off x="2090880" y="4724280"/>
              <a:ext cx="211608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519280" y="5180040"/>
              <a:ext cx="12621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УСН- 160,3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6"/>
          <p:cNvGrpSpPr/>
          <p:nvPr/>
        </p:nvGrpSpPr>
        <p:grpSpPr>
          <a:xfrm>
            <a:off x="4091040" y="4651200"/>
            <a:ext cx="2333520" cy="2401920"/>
            <a:chOff x="4091040" y="4651200"/>
            <a:chExt cx="2333520" cy="2401920"/>
          </a:xfrm>
        </p:grpSpPr>
        <p:pic>
          <p:nvPicPr>
            <p:cNvPr id="113" name="Овал 6" descr=""/>
            <p:cNvPicPr/>
            <p:nvPr/>
          </p:nvPicPr>
          <p:blipFill>
            <a:blip r:embed="rId5"/>
            <a:stretch/>
          </p:blipFill>
          <p:spPr>
            <a:xfrm>
              <a:off x="4091040" y="4651200"/>
              <a:ext cx="23335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551480" y="5118120"/>
              <a:ext cx="141264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ЕНВД – 13,2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C:\Users\ВодоносоваЕЮ\Desktop\i.jpg"/>
          <p:cNvPicPr/>
          <p:nvPr/>
        </p:nvPicPr>
        <p:blipFill>
          <a:blip r:embed="rId6"/>
          <a:stretch/>
        </p:blipFill>
        <p:spPr>
          <a:xfrm>
            <a:off x="328680" y="1886040"/>
            <a:ext cx="2500200" cy="271440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8"/>
          <p:cNvSpPr/>
          <p:nvPr/>
        </p:nvSpPr>
        <p:spPr>
          <a:xfrm>
            <a:off x="6329520" y="4815000"/>
            <a:ext cx="1857240" cy="207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емельный налог -39,6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9"/>
          <p:cNvSpPr/>
          <p:nvPr/>
        </p:nvSpPr>
        <p:spPr>
          <a:xfrm>
            <a:off x="8472600" y="4815000"/>
            <a:ext cx="1928880" cy="207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Налог на имущество физических лиц – 316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19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19 году его наполнение по администрируемым неналоговыми доходами в сумме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3 723,8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7 001 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18 года – 16 250,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19 год -10 725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ВодоносоваЕЮ</cp:lastModifiedBy>
  <cp:lastPrinted>2003-10-16T12:19:06Z</cp:lastPrinted>
  <dcterms:modified xsi:type="dcterms:W3CDTF">2018-11-21T12:52:52Z</dcterms:modified>
  <cp:revision>1119</cp:revision>
  <dc:subject/>
  <dc:title>Заголовок слайда отсутствует</dc:title>
</cp:coreProperties>
</file>