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83.png" ContentType="image/png"/>
  <Override PartName="/ppt/media/image58.jpeg" ContentType="image/jpeg"/>
  <Override PartName="/ppt/media/image57.jpeg" ContentType="image/jpeg"/>
  <Override PartName="/ppt/media/image56.png" ContentType="image/pn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3.jpeg" ContentType="image/jpeg"/>
  <Override PartName="/ppt/media/image39.png" ContentType="image/png"/>
  <Override PartName="/ppt/media/image64.jpeg" ContentType="image/jpeg"/>
  <Override PartName="/ppt/media/image37.png" ContentType="image/png"/>
  <Override PartName="/ppt/media/image33.png" ContentType="image/png"/>
  <Override PartName="/ppt/media/image54.jpeg" ContentType="image/jpeg"/>
  <Override PartName="/ppt/media/image32.png" ContentType="image/png"/>
  <Override PartName="/ppt/media/image47.wmf" ContentType="image/x-wmf"/>
  <Override PartName="/ppt/media/image31.jpeg" ContentType="image/jpeg"/>
  <Override PartName="/ppt/media/image30.jpeg" ContentType="image/jpeg"/>
  <Override PartName="/ppt/media/image34.png" ContentType="image/png"/>
  <Override PartName="/ppt/media/image74.jpeg" ContentType="image/jpeg"/>
  <Override PartName="/ppt/media/image12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6.png" ContentType="image/png"/>
  <Override PartName="/ppt/media/image51.jpeg" ContentType="image/jpeg"/>
  <Override PartName="/ppt/media/image22.png" ContentType="image/png"/>
  <Override PartName="/ppt/media/image27.png" ContentType="image/png"/>
  <Override PartName="/ppt/media/image60.png" ContentType="image/png"/>
  <Override PartName="/ppt/media/image6.jpeg" ContentType="image/jpeg"/>
  <Override PartName="/ppt/media/image55.jpeg" ContentType="image/jpeg"/>
  <Override PartName="/ppt/media/image81.jpeg" ContentType="image/jpeg"/>
  <Override PartName="/ppt/media/image4.jpeg" ContentType="image/jpeg"/>
  <Override PartName="/ppt/media/image40.png" ContentType="image/png"/>
  <Override PartName="/ppt/media/image61.jpeg" ContentType="image/jpeg"/>
  <Override PartName="/ppt/media/image78.jpeg" ContentType="image/jpeg"/>
  <Override PartName="/ppt/media/image87.png" ContentType="image/png"/>
  <Override PartName="/ppt/media/image5.jpeg" ContentType="image/jpeg"/>
  <Override PartName="/ppt/media/image48.wmf" ContentType="image/x-wmf"/>
  <Override PartName="/ppt/media/image50.png" ContentType="image/png"/>
  <Override PartName="/ppt/media/image62.jpeg" ContentType="image/jpeg"/>
  <Override PartName="/ppt/media/image84.png" ContentType="image/png"/>
  <Override PartName="/ppt/media/image17.jpeg" ContentType="image/jpeg"/>
  <Override PartName="/ppt/media/image63.jpeg" ContentType="image/jpeg"/>
  <Override PartName="/ppt/media/image29.png" ContentType="image/png"/>
  <Override PartName="/ppt/media/image65.jpeg" ContentType="image/jpeg"/>
  <Override PartName="/ppt/media/image66.jpeg" ContentType="image/jpeg"/>
  <Override PartName="/ppt/media/image73.jpeg" ContentType="image/jpeg"/>
  <Override PartName="/ppt/media/image24.png" ContentType="image/png"/>
  <Override PartName="/ppt/media/image91.png" ContentType="image/png"/>
  <Override PartName="/ppt/media/image69.jpeg" ContentType="image/jpeg"/>
  <Override PartName="/ppt/media/image70.jpeg" ContentType="image/jpeg"/>
  <Override PartName="/ppt/media/image67.jpeg" ContentType="image/jpeg"/>
  <Override PartName="/ppt/media/image86.png" ContentType="image/png"/>
  <Override PartName="/ppt/media/image77.jpeg" ContentType="image/jpeg"/>
  <Override PartName="/ppt/media/image80.jpeg" ContentType="image/jpeg"/>
  <Override PartName="/ppt/media/image76.jpeg" ContentType="image/jpeg"/>
  <Override PartName="/ppt/media/image75.jpeg" ContentType="image/jpeg"/>
  <Override PartName="/ppt/media/image72.jpeg" ContentType="image/jpeg"/>
  <Override PartName="/ppt/media/image71.jpeg" ContentType="image/jpeg"/>
  <Override PartName="/ppt/media/image68.jpeg" ContentType="image/jpeg"/>
  <Override PartName="/ppt/media/image79.png" ContentType="image/png"/>
  <Override PartName="/ppt/media/image26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49.jpeg" ContentType="image/jpeg"/>
  <Override PartName="/ppt/media/image88.png" ContentType="image/png"/>
  <Override PartName="/ppt/media/image14.jpeg" ContentType="image/jpeg"/>
  <Override PartName="/ppt/media/image41.jpeg" ContentType="image/jpeg"/>
  <Override PartName="/ppt/media/image21.png" ContentType="image/png"/>
  <Override PartName="/ppt/media/image89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90.png" ContentType="image/png"/>
  <Override PartName="/ppt/media/image25.png" ContentType="image/png"/>
  <Override PartName="/ppt/media/image19.jpeg" ContentType="image/jpeg"/>
  <Override PartName="/ppt/media/image10.jpeg" ContentType="image/jpeg"/>
  <Override PartName="/ppt/media/image8.png" ContentType="image/png"/>
  <Override PartName="/ppt/media/image85.png" ContentType="image/png"/>
  <Override PartName="/ppt/media/image82.jpeg" ContentType="image/jpeg"/>
  <Override PartName="/ppt/media/image2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799763" cy="7199313"/>
  <p:notesSz cx="9799638" cy="6735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799200" cy="673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4512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54440" y="-360"/>
            <a:ext cx="4244760" cy="33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99360"/>
            <a:ext cx="424512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5444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B1540988-42FA-4D96-AE94-4975044D09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D79B1DC-4A43-4604-AD6A-C461F172C3F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34ED16C1-42A0-4FA0-AB63-A403C0C8EF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7222EB3-3936-4712-BFDE-CC521B46EE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2A976CD-03A5-4A08-8EDE-BCD6885966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E0B9CA0-2F38-432A-84DA-D7C075A80E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66E378E4-73DD-4F20-9F03-7C0CD3FC1C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5554800" y="6399360"/>
            <a:ext cx="424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46734C9-3F8E-4815-B415-8844F95158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3008160" y="504720"/>
            <a:ext cx="3786480" cy="2525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04640" y="3200400"/>
            <a:ext cx="7189560" cy="30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616-6E52-486C-91D9-B5143BC4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F33-2975-49DB-BEF6-3820415F9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77D-C72B-4894-A483-4A03470DD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67904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4161600"/>
            <a:ext cx="31302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BB4-56DB-4474-AE18-147FA5C2A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EF5-4C98-4307-B57A-7A50DBC4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6E13-099F-49C9-87FD-567F4C80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6C3-D634-4CC9-91E5-C6C9A71D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27E-1FA5-49CC-9E97-E0C0F5F2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88720"/>
            <a:ext cx="972180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B6F-192D-4D01-8027-93B39C16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187-F041-4351-9E49-0DB06343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416160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F31-D458-49A0-94D2-9719B740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679040"/>
            <a:ext cx="474408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4161600"/>
            <a:ext cx="9721800" cy="226692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F14-F392-4A68-9783-6C0CFE3F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79040"/>
            <a:ext cx="9721800" cy="47530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rmAutofit/>
          </a:bodyPr>
          <a:p>
            <a:pPr marL="385920" indent="-385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320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285920" indent="-257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800360" indent="-2574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5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6" marL="2314440" indent="-2570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673680"/>
            <a:ext cx="25210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673680"/>
            <a:ext cx="341928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673680"/>
            <a:ext cx="2520720" cy="3844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1D2E-ACB1-493B-A41F-2896114A9F80}" type="slidenum">
              <a:rPr b="0" lang="ru-RU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3.png"/><Relationship Id="rId6" Type="http://schemas.openxmlformats.org/officeDocument/2006/relationships/image" Target="../media/image27.pn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6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7.jpeg"/><Relationship Id="rId8" Type="http://schemas.openxmlformats.org/officeDocument/2006/relationships/image" Target="../media/image17.jpeg"/><Relationship Id="rId9" Type="http://schemas.openxmlformats.org/officeDocument/2006/relationships/image" Target="../media/image17.jpeg"/><Relationship Id="rId10" Type="http://schemas.openxmlformats.org/officeDocument/2006/relationships/image" Target="../media/image17.jpeg"/><Relationship Id="rId11" Type="http://schemas.openxmlformats.org/officeDocument/2006/relationships/image" Target="../media/image17.jpeg"/><Relationship Id="rId12" Type="http://schemas.openxmlformats.org/officeDocument/2006/relationships/image" Target="../media/image17.jpeg"/><Relationship Id="rId13" Type="http://schemas.openxmlformats.org/officeDocument/2006/relationships/image" Target="../media/image17.jpeg"/><Relationship Id="rId14" Type="http://schemas.openxmlformats.org/officeDocument/2006/relationships/image" Target="../media/image17.jpeg"/><Relationship Id="rId15" Type="http://schemas.openxmlformats.org/officeDocument/2006/relationships/image" Target="../media/image17.jpeg"/><Relationship Id="rId16" Type="http://schemas.openxmlformats.org/officeDocument/2006/relationships/image" Target="../media/image17.jpeg"/><Relationship Id="rId17" Type="http://schemas.openxmlformats.org/officeDocument/2006/relationships/image" Target="../media/image17.jpeg"/><Relationship Id="rId18" Type="http://schemas.openxmlformats.org/officeDocument/2006/relationships/image" Target="../media/image17.jpeg"/><Relationship Id="rId19" Type="http://schemas.openxmlformats.org/officeDocument/2006/relationships/image" Target="../media/image17.jpeg"/><Relationship Id="rId20" Type="http://schemas.openxmlformats.org/officeDocument/2006/relationships/image" Target="../media/image17.jpeg"/><Relationship Id="rId21" Type="http://schemas.openxmlformats.org/officeDocument/2006/relationships/image" Target="../media/image17.jpeg"/><Relationship Id="rId22" Type="http://schemas.openxmlformats.org/officeDocument/2006/relationships/image" Target="../media/image17.jpeg"/><Relationship Id="rId23" Type="http://schemas.openxmlformats.org/officeDocument/2006/relationships/image" Target="../media/image17.jpeg"/><Relationship Id="rId24" Type="http://schemas.openxmlformats.org/officeDocument/2006/relationships/image" Target="../media/image17.jpeg"/><Relationship Id="rId25" Type="http://schemas.openxmlformats.org/officeDocument/2006/relationships/image" Target="../media/image17.jpeg"/><Relationship Id="rId26" Type="http://schemas.openxmlformats.org/officeDocument/2006/relationships/image" Target="../media/image17.jpeg"/><Relationship Id="rId27" Type="http://schemas.openxmlformats.org/officeDocument/2006/relationships/image" Target="../media/image17.jpeg"/><Relationship Id="rId28" Type="http://schemas.openxmlformats.org/officeDocument/2006/relationships/image" Target="../media/image17.jpeg"/><Relationship Id="rId29" Type="http://schemas.openxmlformats.org/officeDocument/2006/relationships/image" Target="../media/image17.jpeg"/><Relationship Id="rId30" Type="http://schemas.openxmlformats.org/officeDocument/2006/relationships/image" Target="../media/image17.jpeg"/><Relationship Id="rId31" Type="http://schemas.openxmlformats.org/officeDocument/2006/relationships/image" Target="../media/image17.jpeg"/><Relationship Id="rId32" Type="http://schemas.openxmlformats.org/officeDocument/2006/relationships/image" Target="../media/image17.jpeg"/><Relationship Id="rId33" Type="http://schemas.openxmlformats.org/officeDocument/2006/relationships/image" Target="../media/image17.jpeg"/><Relationship Id="rId34" Type="http://schemas.openxmlformats.org/officeDocument/2006/relationships/image" Target="../media/image17.jpeg"/><Relationship Id="rId35" Type="http://schemas.openxmlformats.org/officeDocument/2006/relationships/image" Target="../media/image17.jpeg"/><Relationship Id="rId36" Type="http://schemas.openxmlformats.org/officeDocument/2006/relationships/image" Target="../media/image18.jpeg"/><Relationship Id="rId3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Users\МалыгинаНВ\Desktop\1.jpg"/>
          <p:cNvPicPr/>
          <p:nvPr/>
        </p:nvPicPr>
        <p:blipFill>
          <a:blip r:embed="rId1"/>
          <a:stretch/>
        </p:blipFill>
        <p:spPr>
          <a:xfrm>
            <a:off x="614520" y="2529000"/>
            <a:ext cx="7286400" cy="4429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0" y="0"/>
            <a:ext cx="10461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560" rIns="115560" tIns="57960" bIns="57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8000"/>
                </a:solidFill>
                <a:latin typeface="Times New Roman"/>
              </a:rPr>
              <a:t>Проект бюджета</a:t>
            </a:r>
            <a:r>
              <a:rPr b="1" lang="ru-RU" sz="41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4100"/>
            </a:br>
            <a:r>
              <a:rPr b="1" i="1" lang="ru-RU" sz="4100" spc="-1" strike="noStrike">
                <a:solidFill>
                  <a:srgbClr val="008000"/>
                </a:solidFill>
                <a:latin typeface="Times New Roman"/>
              </a:rPr>
              <a:t>муниципального образования </a:t>
            </a:r>
            <a:br>
              <a:rPr sz="4100"/>
            </a:br>
            <a:r>
              <a:rPr b="1" i="1" lang="ru-RU" sz="4100" spc="-1" strike="noStrike">
                <a:solidFill>
                  <a:srgbClr val="008000"/>
                </a:solidFill>
                <a:latin typeface="Times New Roman"/>
              </a:rPr>
              <a:t>Нагорский муниципальный район Кировской области на 2015 год</a:t>
            </a:r>
            <a:r>
              <a:rPr b="1" i="1" lang="en-US" sz="41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n-US" sz="4100" spc="-1" strike="noStrike">
                <a:solidFill>
                  <a:srgbClr val="008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4100" spc="-1" strike="noStrike">
                <a:solidFill>
                  <a:srgbClr val="008000"/>
                </a:solidFill>
                <a:latin typeface="Times New Roman"/>
              </a:rPr>
              <a:t>и плановый период 2016 и 2017 годов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Овал 15"/>
          <p:cNvGrpSpPr/>
          <p:nvPr/>
        </p:nvGrpSpPr>
        <p:grpSpPr>
          <a:xfrm>
            <a:off x="0" y="0"/>
            <a:ext cx="9145080" cy="3960360"/>
            <a:chOff x="0" y="0"/>
            <a:chExt cx="9145080" cy="3960360"/>
          </a:xfrm>
        </p:grpSpPr>
        <p:pic>
          <p:nvPicPr>
            <p:cNvPr id="120" name="Овал 15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0" y="0"/>
              <a:ext cx="9145080" cy="396036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21" name="Text Box 10"/>
            <p:cNvSpPr/>
            <p:nvPr/>
          </p:nvSpPr>
          <p:spPr>
            <a:xfrm>
              <a:off x="1827720" y="1188000"/>
              <a:ext cx="4179960" cy="14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2" descr="E:\картинки\деньги\22276.jpg"/>
          <p:cNvPicPr/>
          <p:nvPr/>
        </p:nvPicPr>
        <p:blipFill>
          <a:blip r:embed="rId2"/>
          <a:stretch/>
        </p:blipFill>
        <p:spPr>
          <a:xfrm>
            <a:off x="7777080" y="287280"/>
            <a:ext cx="2808360" cy="2737080"/>
          </a:xfrm>
          <a:prstGeom prst="rect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</p:pic>
      <p:sp>
        <p:nvSpPr>
          <p:cNvPr id="123" name="Text Box 6"/>
          <p:cNvSpPr/>
          <p:nvPr/>
        </p:nvSpPr>
        <p:spPr>
          <a:xfrm>
            <a:off x="0" y="3816360"/>
            <a:ext cx="108014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Объем безвозмездных поступлений установлен в объеме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28728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201678,2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745080" y="6408720"/>
            <a:ext cx="350964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44437,9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7345440" y="6408720"/>
            <a:ext cx="3151080" cy="4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990000"/>
                </a:solidFill>
                <a:latin typeface="Arial"/>
              </a:rPr>
              <a:t>149874,2 тыс. ру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1008000" y="720720"/>
            <a:ext cx="56880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Объем безвозмезд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ступлений на 2015 год и пла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2016 и 2017 годов установл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соответствии с проектом зако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«Об областном бюд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ировской области на 2015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 плановый период 2016 и 2017 год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0"/>
          <p:cNvGrpSpPr/>
          <p:nvPr/>
        </p:nvGrpSpPr>
        <p:grpSpPr>
          <a:xfrm>
            <a:off x="720720" y="4321080"/>
            <a:ext cx="2447640" cy="2087280"/>
            <a:chOff x="720720" y="4321080"/>
            <a:chExt cx="2447640" cy="2087280"/>
          </a:xfrm>
        </p:grpSpPr>
        <p:pic>
          <p:nvPicPr>
            <p:cNvPr id="129" name="Picture 21" descr="255966"/>
            <p:cNvPicPr/>
            <p:nvPr/>
          </p:nvPicPr>
          <p:blipFill>
            <a:blip r:embed="rId3">
              <a:lum contrast="30000"/>
            </a:blip>
            <a:srcRect l="5468" t="0" r="4567" b="0"/>
            <a:stretch/>
          </p:blipFill>
          <p:spPr>
            <a:xfrm>
              <a:off x="720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22"/>
            <p:cNvSpPr/>
            <p:nvPr/>
          </p:nvSpPr>
          <p:spPr>
            <a:xfrm>
              <a:off x="943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0"/>
          <p:cNvGrpSpPr/>
          <p:nvPr/>
        </p:nvGrpSpPr>
        <p:grpSpPr>
          <a:xfrm>
            <a:off x="4176720" y="4321080"/>
            <a:ext cx="2447640" cy="2087280"/>
            <a:chOff x="4176720" y="4321080"/>
            <a:chExt cx="2447640" cy="2087280"/>
          </a:xfrm>
        </p:grpSpPr>
        <p:pic>
          <p:nvPicPr>
            <p:cNvPr id="132" name="Picture 21" descr="255966"/>
            <p:cNvPicPr/>
            <p:nvPr/>
          </p:nvPicPr>
          <p:blipFill>
            <a:blip r:embed="rId4">
              <a:lum contrast="30000"/>
            </a:blip>
            <a:srcRect l="5468" t="0" r="4567" b="0"/>
            <a:stretch/>
          </p:blipFill>
          <p:spPr>
            <a:xfrm>
              <a:off x="4176720" y="432108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2"/>
            <p:cNvSpPr/>
            <p:nvPr/>
          </p:nvSpPr>
          <p:spPr>
            <a:xfrm>
              <a:off x="4399200" y="561132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0"/>
          <p:cNvGrpSpPr/>
          <p:nvPr/>
        </p:nvGrpSpPr>
        <p:grpSpPr>
          <a:xfrm>
            <a:off x="7705800" y="4248000"/>
            <a:ext cx="2447640" cy="2087280"/>
            <a:chOff x="7705800" y="4248000"/>
            <a:chExt cx="2447640" cy="2087280"/>
          </a:xfrm>
        </p:grpSpPr>
        <p:pic>
          <p:nvPicPr>
            <p:cNvPr id="135" name="Picture 21" descr="255966"/>
            <p:cNvPicPr/>
            <p:nvPr/>
          </p:nvPicPr>
          <p:blipFill>
            <a:blip r:embed="rId5">
              <a:lum contrast="30000"/>
            </a:blip>
            <a:srcRect l="5468" t="0" r="4567" b="0"/>
            <a:stretch/>
          </p:blipFill>
          <p:spPr>
            <a:xfrm>
              <a:off x="7705800" y="4248000"/>
              <a:ext cx="2447640" cy="20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Rectangle 22"/>
            <p:cNvSpPr/>
            <p:nvPr/>
          </p:nvSpPr>
          <p:spPr>
            <a:xfrm>
              <a:off x="7928280" y="5538240"/>
              <a:ext cx="1927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20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2" descr=""/>
          <p:cNvPicPr/>
          <p:nvPr/>
        </p:nvPicPr>
        <p:blipFill>
          <a:blip r:embed="rId1"/>
          <a:stretch/>
        </p:blipFill>
        <p:spPr>
          <a:xfrm>
            <a:off x="5967360" y="4594320"/>
            <a:ext cx="4834080" cy="26067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0" y="0"/>
            <a:ext cx="10801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В 2013-2014 годах в целях реализации Указов Президента было обеспечено увеличение фондов оплаты (тарифных ставок, окладов) работникам муниципальных учрежд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297000" y="3146400"/>
            <a:ext cx="1029312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верх 23"/>
          <p:cNvSpPr/>
          <p:nvPr/>
        </p:nvSpPr>
        <p:spPr>
          <a:xfrm>
            <a:off x="257040" y="1386000"/>
            <a:ext cx="10080720" cy="122400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верх 24"/>
          <p:cNvSpPr/>
          <p:nvPr/>
        </p:nvSpPr>
        <p:spPr>
          <a:xfrm>
            <a:off x="328680" y="2600280"/>
            <a:ext cx="10082160" cy="122400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 1 октября 2013 года – фонд оплаты труда основного  персонала муниципальных учреждений культуры на 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верх 26"/>
          <p:cNvSpPr/>
          <p:nvPr/>
        </p:nvSpPr>
        <p:spPr>
          <a:xfrm>
            <a:off x="360360" y="3816360"/>
            <a:ext cx="10080720" cy="122400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 1 января 2014 года – на 7,6% фонд оплаты труда педагогических работников муниципальных образовательных учреждений дополнительного образования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7"/>
          <p:cNvSpPr/>
          <p:nvPr/>
        </p:nvSpPr>
        <p:spPr>
          <a:xfrm>
            <a:off x="2305080" y="1655640"/>
            <a:ext cx="5796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 1 января 2013 года – фонд оплаты труда работников муниципальных общеобразовательных организаций на 1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9"/>
          <p:cNvSpPr/>
          <p:nvPr/>
        </p:nvSpPr>
        <p:spPr>
          <a:xfrm>
            <a:off x="0" y="4968720"/>
            <a:ext cx="604836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 2015 году предусматривается дальнейшее совершенствование системы оплаты труда работников бюджетной сферы, поставленных в Указах Президента Российской Федерации от 7 мая 2012 года, а именно повышение заработной платы основного персонала работников культуры на 5,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1944720" cy="15127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2"/>
          <p:cNvSpPr/>
          <p:nvPr/>
        </p:nvSpPr>
        <p:spPr>
          <a:xfrm>
            <a:off x="1800360" y="0"/>
            <a:ext cx="9001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асходная часть бюджета Нагорского муниципального района на 2015 год состав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11"/>
          <p:cNvGrpSpPr/>
          <p:nvPr/>
        </p:nvGrpSpPr>
        <p:grpSpPr>
          <a:xfrm>
            <a:off x="144360" y="3887640"/>
            <a:ext cx="3095640" cy="3025800"/>
            <a:chOff x="144360" y="3887640"/>
            <a:chExt cx="3095640" cy="3025800"/>
          </a:xfrm>
        </p:grpSpPr>
        <p:sp>
          <p:nvSpPr>
            <p:cNvPr id="148" name="Скругленный прямоугольник 12"/>
            <p:cNvSpPr/>
            <p:nvPr/>
          </p:nvSpPr>
          <p:spPr>
            <a:xfrm>
              <a:off x="144360" y="3887640"/>
              <a:ext cx="3095640" cy="3025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Скругленный прямоугольник 4"/>
            <p:cNvSpPr/>
            <p:nvPr/>
          </p:nvSpPr>
          <p:spPr>
            <a:xfrm>
              <a:off x="237960" y="3976200"/>
              <a:ext cx="2913120" cy="24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Социальные выплаты, связанные с оплатой жилищно – коммунальных услуг проиндексированы на 4,5%, другие социальные выплаты гражданам предусмотрены без индексаци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Группа 14"/>
          <p:cNvGrpSpPr/>
          <p:nvPr/>
        </p:nvGrpSpPr>
        <p:grpSpPr>
          <a:xfrm>
            <a:off x="3456000" y="3960720"/>
            <a:ext cx="3889440" cy="2519280"/>
            <a:chOff x="3456000" y="3960720"/>
            <a:chExt cx="3889440" cy="2519280"/>
          </a:xfrm>
        </p:grpSpPr>
        <p:sp>
          <p:nvSpPr>
            <p:cNvPr id="151" name="Скругленный прямоугольник 15"/>
            <p:cNvSpPr/>
            <p:nvPr/>
          </p:nvSpPr>
          <p:spPr>
            <a:xfrm>
              <a:off x="3456000" y="3990600"/>
              <a:ext cx="3889440" cy="24894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Скругленный прямоугольник 4"/>
            <p:cNvSpPr/>
            <p:nvPr/>
          </p:nvSpPr>
          <p:spPr>
            <a:xfrm>
              <a:off x="3476520" y="3960720"/>
              <a:ext cx="3848400" cy="24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материальные затраты муниципальных учреждений предусмотрены без индексации с режимом экономи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Группа 17"/>
          <p:cNvGrpSpPr/>
          <p:nvPr/>
        </p:nvGrpSpPr>
        <p:grpSpPr>
          <a:xfrm>
            <a:off x="4753080" y="1224000"/>
            <a:ext cx="4103640" cy="2448000"/>
            <a:chOff x="4753080" y="1224000"/>
            <a:chExt cx="4103640" cy="2448000"/>
          </a:xfrm>
        </p:grpSpPr>
        <p:sp>
          <p:nvSpPr>
            <p:cNvPr id="154" name="Скругленный прямоугольник 18"/>
            <p:cNvSpPr/>
            <p:nvPr/>
          </p:nvSpPr>
          <p:spPr>
            <a:xfrm>
              <a:off x="4753080" y="1398600"/>
              <a:ext cx="4103640" cy="170496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Скругленный прямоугольник 4"/>
            <p:cNvSpPr/>
            <p:nvPr/>
          </p:nvSpPr>
          <p:spPr>
            <a:xfrm>
              <a:off x="5064840" y="1224000"/>
              <a:ext cx="367776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800" spc="-1" strike="noStrike">
                  <a:solidFill>
                    <a:srgbClr val="660066"/>
                  </a:solidFill>
                  <a:latin typeface="Arial"/>
                </a:rPr>
                <a:t>Расходы на оплату труда и начисления работников бюджетной сферы рассчитаны исходя из планового фонда оплаты труда на 12 месяцев, с учетом повышения с 1.10.2013г на 5,5%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456000" y="2376360"/>
            <a:ext cx="5832360" cy="12956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57" name="AutoShape 11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360360" y="2592360"/>
            <a:ext cx="792000" cy="1297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158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3887640" y="1008000"/>
            <a:ext cx="1225800" cy="65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grpSp>
        <p:nvGrpSpPr>
          <p:cNvPr id="159" name="Группа 17"/>
          <p:cNvGrpSpPr/>
          <p:nvPr/>
        </p:nvGrpSpPr>
        <p:grpSpPr>
          <a:xfrm>
            <a:off x="7488360" y="3456000"/>
            <a:ext cx="3168360" cy="4465800"/>
            <a:chOff x="7488360" y="3456000"/>
            <a:chExt cx="3168360" cy="4465800"/>
          </a:xfrm>
        </p:grpSpPr>
        <p:sp>
          <p:nvSpPr>
            <p:cNvPr id="160" name="Скругленный прямоугольник 18"/>
            <p:cNvSpPr/>
            <p:nvPr/>
          </p:nvSpPr>
          <p:spPr>
            <a:xfrm>
              <a:off x="7488360" y="3774960"/>
              <a:ext cx="3168360" cy="311004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Скругленный прямоугольник 4"/>
            <p:cNvSpPr/>
            <p:nvPr/>
          </p:nvSpPr>
          <p:spPr>
            <a:xfrm>
              <a:off x="7729200" y="3456000"/>
              <a:ext cx="2839320" cy="44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Группа 17"/>
          <p:cNvGrpSpPr/>
          <p:nvPr/>
        </p:nvGrpSpPr>
        <p:grpSpPr>
          <a:xfrm>
            <a:off x="4753080" y="1152360"/>
            <a:ext cx="4178160" cy="2521080"/>
            <a:chOff x="4753080" y="1152360"/>
            <a:chExt cx="4178160" cy="2521080"/>
          </a:xfrm>
        </p:grpSpPr>
        <p:sp>
          <p:nvSpPr>
            <p:cNvPr id="163" name="Скругленный прямоугольник 18"/>
            <p:cNvSpPr/>
            <p:nvPr/>
          </p:nvSpPr>
          <p:spPr>
            <a:xfrm>
              <a:off x="4753080" y="1333080"/>
              <a:ext cx="4178160" cy="175428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8f7f3"/>
                </a:gs>
                <a:gs pos="100000">
                  <a:srgbClr val="ffffcc"/>
                </a:gs>
              </a:gsLst>
              <a:lin ang="0"/>
            </a:gradFill>
            <a:ln w="25560">
              <a:solidFill>
                <a:srgbClr val="c4bd97"/>
              </a:solidFill>
              <a:miter/>
            </a:ln>
            <a:effectLst>
              <a:outerShdw dist="50760" dir="5400000" blurRad="0" rotWithShape="0">
                <a:srgbClr val="953735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Скругленный прямоугольник 4"/>
            <p:cNvSpPr/>
            <p:nvPr/>
          </p:nvSpPr>
          <p:spPr>
            <a:xfrm>
              <a:off x="5070600" y="1152360"/>
              <a:ext cx="3744360" cy="25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25560" bIns="255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r>
                <a:rPr b="1" lang="ru-RU" sz="1600" spc="-1" strike="noStrike">
                  <a:solidFill>
                    <a:srgbClr val="660066"/>
                  </a:solidFill>
                  <a:latin typeface="Arial"/>
                </a:rPr>
                <a:t>Расходы на оплату труда работников бюджетной сферы, муниципальным служащим рассчитаны исходя из планового фонда оплаты труда на 12 месяцев, отчисления  от заработной платы предусмотрены на 11 месяце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887400"/>
                  <a:tab algn="l" pos="1774800"/>
                  <a:tab algn="l" pos="2662200"/>
                  <a:tab algn="l" pos="3549600"/>
                  <a:tab algn="l" pos="4437000"/>
                  <a:tab algn="l" pos="5324400"/>
                  <a:tab algn="l" pos="6211800"/>
                  <a:tab algn="l" pos="7099200"/>
                  <a:tab algn="l" pos="7986600"/>
                  <a:tab algn="l" pos="8874000"/>
                  <a:tab algn="l" pos="9761400"/>
                  <a:tab algn="l" pos="106488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sp>
        <p:nvSpPr>
          <p:cNvPr id="166" name="Rectangle 28"/>
          <p:cNvSpPr/>
          <p:nvPr/>
        </p:nvSpPr>
        <p:spPr>
          <a:xfrm>
            <a:off x="7561440" y="3816360"/>
            <a:ext cx="324000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сходы на оплату коммунальных услуг муниципальных учреждений предусмотрены с учетом роста тарифов на планируемый период по данным региональной службы по тарифам Кировской области из расчета на 11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Овал 15"/>
          <p:cNvGrpSpPr/>
          <p:nvPr/>
        </p:nvGrpSpPr>
        <p:grpSpPr>
          <a:xfrm>
            <a:off x="0" y="863640"/>
            <a:ext cx="5184720" cy="2158920"/>
            <a:chOff x="0" y="863640"/>
            <a:chExt cx="5184720" cy="2158920"/>
          </a:xfrm>
        </p:grpSpPr>
        <p:pic>
          <p:nvPicPr>
            <p:cNvPr id="168" name="Овал 15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0" y="863640"/>
              <a:ext cx="5184720" cy="2158920"/>
            </a:xfrm>
            <a:prstGeom prst="rect">
              <a:avLst/>
            </a:prstGeom>
            <a:ln w="0">
              <a:noFill/>
            </a:ln>
            <a:effectLst>
              <a:outerShdw dist="50760" dir="5400000" blurRad="0" rotWithShape="0">
                <a:srgbClr val="0000ff"/>
              </a:outerShdw>
            </a:effectLst>
          </p:spPr>
        </p:pic>
        <p:sp>
          <p:nvSpPr>
            <p:cNvPr id="169" name="Text Box 10"/>
            <p:cNvSpPr/>
            <p:nvPr/>
          </p:nvSpPr>
          <p:spPr>
            <a:xfrm>
              <a:off x="1036080" y="1511280"/>
              <a:ext cx="236988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2960" rIns="102960" tIns="51480" bIns="51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27080"/>
                  <a:tab algn="l" pos="2054160"/>
                  <a:tab algn="l" pos="3081240"/>
                  <a:tab algn="l" pos="4108320"/>
                  <a:tab algn="l" pos="5135400"/>
                  <a:tab algn="l" pos="6162840"/>
                  <a:tab algn="l" pos="7189920"/>
                  <a:tab algn="l" pos="8217000"/>
                  <a:tab algn="l" pos="9244080"/>
                  <a:tab algn="l" pos="1027116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Приоритеты бюджетной полити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AutoShape 11" descr=""/>
          <p:cNvPicPr/>
          <p:nvPr/>
        </p:nvPicPr>
        <p:blipFill>
          <a:blip r:embed="rId7">
            <a:grayscl/>
          </a:blip>
          <a:stretch/>
        </p:blipFill>
        <p:spPr>
          <a:xfrm rot="15802200">
            <a:off x="2231280" y="3024720"/>
            <a:ext cx="1789200" cy="63504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7" descr=""/>
          <p:cNvPicPr/>
          <p:nvPr/>
        </p:nvPicPr>
        <p:blipFill>
          <a:blip r:embed="rId1"/>
          <a:stretch/>
        </p:blipFill>
        <p:spPr>
          <a:xfrm>
            <a:off x="5977080" y="3643200"/>
            <a:ext cx="4824360" cy="3557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8"/>
          <p:cNvSpPr/>
          <p:nvPr/>
        </p:nvSpPr>
        <p:spPr>
          <a:xfrm>
            <a:off x="1944720" y="0"/>
            <a:ext cx="88567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огласно основных направлений бюджетной политики Российской Федерации, одной из приоритетных задач является внедрение программно-целевого принципа организации деятельности органов исполнительной власти и соответственно принятие программных бюдж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0" descr=""/>
          <p:cNvPicPr/>
          <p:nvPr/>
        </p:nvPicPr>
        <p:blipFill>
          <a:blip r:embed="rId2"/>
          <a:stretch/>
        </p:blipFill>
        <p:spPr>
          <a:xfrm>
            <a:off x="0" y="0"/>
            <a:ext cx="2016000" cy="187164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21"/>
          <p:cNvSpPr/>
          <p:nvPr/>
        </p:nvSpPr>
        <p:spPr>
          <a:xfrm>
            <a:off x="4321080" y="1944720"/>
            <a:ext cx="5832720" cy="13842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целью решения данных задач, в проекте предусмотр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2"/>
          <p:cNvSpPr/>
          <p:nvPr/>
        </p:nvSpPr>
        <p:spPr>
          <a:xfrm>
            <a:off x="216000" y="2160720"/>
            <a:ext cx="3240000" cy="2736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6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3"/>
          <p:cNvSpPr/>
          <p:nvPr/>
        </p:nvSpPr>
        <p:spPr>
          <a:xfrm>
            <a:off x="2521080" y="4392720"/>
            <a:ext cx="3456000" cy="2592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программ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39,6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0,9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4"/>
          <p:cNvSpPr/>
          <p:nvPr/>
        </p:nvSpPr>
        <p:spPr>
          <a:xfrm rot="10800000">
            <a:off x="3529080" y="2592000"/>
            <a:ext cx="790560" cy="485640"/>
          </a:xfrm>
          <a:prstGeom prst="rightArrow">
            <a:avLst>
              <a:gd name="adj1" fmla="val 50000"/>
              <a:gd name="adj2" fmla="val 4069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5"/>
          <p:cNvSpPr/>
          <p:nvPr/>
        </p:nvSpPr>
        <p:spPr>
          <a:xfrm rot="5400000">
            <a:off x="4965120" y="3604320"/>
            <a:ext cx="925200" cy="486000"/>
          </a:xfrm>
          <a:prstGeom prst="rightArrow">
            <a:avLst>
              <a:gd name="adj1" fmla="val 50000"/>
              <a:gd name="adj2" fmla="val 4759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9"/>
          <p:cNvSpPr/>
          <p:nvPr/>
        </p:nvSpPr>
        <p:spPr>
          <a:xfrm>
            <a:off x="216000" y="2521080"/>
            <a:ext cx="2881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 семи муниципаль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44064,5 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99,1% от расход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униципальные программы Нагорского муниципального рай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Диаграмма 2" descr=""/>
          <p:cNvPicPr/>
          <p:nvPr/>
        </p:nvPicPr>
        <p:blipFill>
          <a:blip r:embed="rId1"/>
          <a:stretch/>
        </p:blipFill>
        <p:spPr>
          <a:xfrm>
            <a:off x="185760" y="1243080"/>
            <a:ext cx="10429920" cy="571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5"/>
          <p:cNvSpPr/>
          <p:nvPr/>
        </p:nvSpPr>
        <p:spPr>
          <a:xfrm>
            <a:off x="6480000" y="1728720"/>
            <a:ext cx="3961080" cy="231948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6"/>
          <p:cNvSpPr/>
          <p:nvPr/>
        </p:nvSpPr>
        <p:spPr>
          <a:xfrm>
            <a:off x="6480000" y="1728720"/>
            <a:ext cx="3961080" cy="231948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287280" y="1440000"/>
            <a:ext cx="5545080" cy="540036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0" y="0"/>
            <a:ext cx="10801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Социально значимые расходы муниципальных учреждений в проекте бюджета составляют 170928,4 тыс.ру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(69,4 % от всех расходов бюдж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Object 11" descr=""/>
          <p:cNvPicPr/>
          <p:nvPr/>
        </p:nvPicPr>
        <p:blipFill>
          <a:blip r:embed="rId1"/>
          <a:stretch/>
        </p:blipFill>
        <p:spPr>
          <a:xfrm>
            <a:off x="50760" y="2211480"/>
            <a:ext cx="5780160" cy="436068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3"/>
          <p:cNvSpPr/>
          <p:nvPr/>
        </p:nvSpPr>
        <p:spPr>
          <a:xfrm>
            <a:off x="1944720" y="1512720"/>
            <a:ext cx="223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cc"/>
                </a:solidFill>
                <a:uFillTx/>
                <a:latin typeface="Times New Roman"/>
              </a:rPr>
              <a:t>2015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7"/>
          <p:cNvSpPr/>
          <p:nvPr/>
        </p:nvSpPr>
        <p:spPr>
          <a:xfrm>
            <a:off x="6408720" y="4392720"/>
            <a:ext cx="3960720" cy="2319120"/>
          </a:xfrm>
          <a:prstGeom prst="flowChartAlternate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9"/>
          <p:cNvSpPr/>
          <p:nvPr/>
        </p:nvSpPr>
        <p:spPr>
          <a:xfrm>
            <a:off x="7488360" y="1728720"/>
            <a:ext cx="136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0"/>
          <p:cNvSpPr/>
          <p:nvPr/>
        </p:nvSpPr>
        <p:spPr>
          <a:xfrm>
            <a:off x="7632720" y="4321080"/>
            <a:ext cx="1361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2017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ject 21" descr=""/>
          <p:cNvPicPr/>
          <p:nvPr/>
        </p:nvPicPr>
        <p:blipFill>
          <a:blip r:embed="rId2"/>
          <a:stretch/>
        </p:blipFill>
        <p:spPr>
          <a:xfrm>
            <a:off x="6553080" y="2087640"/>
            <a:ext cx="3287880" cy="2033640"/>
          </a:xfrm>
          <a:prstGeom prst="rect">
            <a:avLst/>
          </a:prstGeom>
          <a:ln w="0">
            <a:noFill/>
          </a:ln>
        </p:spPr>
      </p:pic>
      <p:pic>
        <p:nvPicPr>
          <p:cNvPr id="194" name="Object 22" descr=""/>
          <p:cNvPicPr/>
          <p:nvPr/>
        </p:nvPicPr>
        <p:blipFill>
          <a:blip r:embed="rId3"/>
          <a:stretch/>
        </p:blipFill>
        <p:spPr>
          <a:xfrm>
            <a:off x="6480000" y="4680000"/>
            <a:ext cx="3287880" cy="2033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4"/>
          <p:cNvSpPr/>
          <p:nvPr/>
        </p:nvSpPr>
        <p:spPr>
          <a:xfrm>
            <a:off x="0" y="0"/>
            <a:ext cx="1080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Основные направления финансирования в 2015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ile"/>
          <p:cNvSpPr/>
          <p:nvPr/>
        </p:nvSpPr>
        <p:spPr>
          <a:xfrm>
            <a:off x="217440" y="792000"/>
            <a:ext cx="10296720" cy="11527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ile"/>
          <p:cNvSpPr/>
          <p:nvPr/>
        </p:nvSpPr>
        <p:spPr>
          <a:xfrm>
            <a:off x="217440" y="2087640"/>
            <a:ext cx="1029672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ile"/>
          <p:cNvSpPr/>
          <p:nvPr/>
        </p:nvSpPr>
        <p:spPr>
          <a:xfrm>
            <a:off x="216000" y="3384720"/>
            <a:ext cx="10296360" cy="10792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ile"/>
          <p:cNvSpPr/>
          <p:nvPr/>
        </p:nvSpPr>
        <p:spPr>
          <a:xfrm>
            <a:off x="217440" y="4608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ile"/>
          <p:cNvSpPr/>
          <p:nvPr/>
        </p:nvSpPr>
        <p:spPr>
          <a:xfrm>
            <a:off x="217440" y="5832360"/>
            <a:ext cx="10296720" cy="11509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0" descr=""/>
          <p:cNvPicPr/>
          <p:nvPr/>
        </p:nvPicPr>
        <p:blipFill>
          <a:blip r:embed="rId1"/>
          <a:stretch/>
        </p:blipFill>
        <p:spPr>
          <a:xfrm>
            <a:off x="1079640" y="936720"/>
            <a:ext cx="2017440" cy="936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1" descr=""/>
          <p:cNvPicPr/>
          <p:nvPr/>
        </p:nvPicPr>
        <p:blipFill>
          <a:blip r:embed="rId2"/>
          <a:stretch/>
        </p:blipFill>
        <p:spPr>
          <a:xfrm>
            <a:off x="1079640" y="5977080"/>
            <a:ext cx="2090520" cy="936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2" descr=""/>
          <p:cNvPicPr/>
          <p:nvPr/>
        </p:nvPicPr>
        <p:blipFill>
          <a:blip r:embed="rId3"/>
          <a:stretch/>
        </p:blipFill>
        <p:spPr>
          <a:xfrm>
            <a:off x="1079640" y="4753080"/>
            <a:ext cx="2089080" cy="936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3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2089080" cy="936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3816360" y="1224000"/>
            <a:ext cx="6985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Arial"/>
              </a:rPr>
              <a:t>Отрасль образование – 56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4248000" y="5040360"/>
            <a:ext cx="5616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трасль культура – 8,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184720" y="2448000"/>
            <a:ext cx="3349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529080" y="6264360"/>
            <a:ext cx="756108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600" spc="-1" strike="noStrike">
                <a:solidFill>
                  <a:srgbClr val="333300"/>
                </a:solidFill>
                <a:latin typeface="Arial"/>
              </a:rPr>
              <a:t>Социальная политика, спорт– 4,3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248000" y="3672000"/>
            <a:ext cx="61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333300"/>
                </a:solidFill>
                <a:latin typeface="Arial"/>
              </a:rPr>
              <a:t>Общегосударственное управление – 15,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0" descr="E:\презентация 2013\слайды\оололо.jpg"/>
          <p:cNvPicPr/>
          <p:nvPr/>
        </p:nvPicPr>
        <p:blipFill>
          <a:blip r:embed="rId5"/>
          <a:stretch/>
        </p:blipFill>
        <p:spPr>
          <a:xfrm>
            <a:off x="1079640" y="2160720"/>
            <a:ext cx="2017440" cy="93636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9"/>
          <p:cNvSpPr/>
          <p:nvPr/>
        </p:nvSpPr>
        <p:spPr>
          <a:xfrm>
            <a:off x="3600360" y="2376360"/>
            <a:ext cx="7488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300" spc="-1" strike="noStrike">
                <a:solidFill>
                  <a:srgbClr val="333300"/>
                </a:solidFill>
                <a:latin typeface="Arial"/>
              </a:rPr>
              <a:t>ЖКХ, транспорт, дорожное хозяйство, сельское хозяйство– 15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21"/>
          <p:cNvSpPr/>
          <p:nvPr/>
        </p:nvSpPr>
        <p:spPr>
          <a:xfrm>
            <a:off x="369720" y="152280"/>
            <a:ext cx="10225080" cy="1440000"/>
          </a:xfrm>
          <a:prstGeom prst="roundRect">
            <a:avLst>
              <a:gd name="adj" fmla="val 1382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На обеспечение исполнения публично-нормативных  обязательств Нагорского муниципального района в проекте бюджета предусмотрены рас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Выноска 1 (граница и черта) 13"/>
          <p:cNvSpPr/>
          <p:nvPr/>
        </p:nvSpPr>
        <p:spPr>
          <a:xfrm>
            <a:off x="7056360" y="1655640"/>
            <a:ext cx="9144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Выноска 1 (граница и черта) 14"/>
          <p:cNvSpPr/>
          <p:nvPr/>
        </p:nvSpPr>
        <p:spPr>
          <a:xfrm>
            <a:off x="8353440" y="1655640"/>
            <a:ext cx="914400" cy="61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286"/>
                </a:moveTo>
                <a:lnTo>
                  <a:pt x="-1800" y="4029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Выноска 1 (граница и черта) 15"/>
          <p:cNvSpPr/>
          <p:nvPr/>
        </p:nvSpPr>
        <p:spPr>
          <a:xfrm>
            <a:off x="9648720" y="1663560"/>
            <a:ext cx="914400" cy="64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288" y="24029"/>
                </a:moveTo>
                <a:lnTo>
                  <a:pt x="-1800" y="380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с двумя скругленными противолежащими углами 16"/>
          <p:cNvSpPr/>
          <p:nvPr/>
        </p:nvSpPr>
        <p:spPr>
          <a:xfrm>
            <a:off x="289080" y="2232000"/>
            <a:ext cx="6696000" cy="115416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Предоставление гражданам субсидий на оплату жилого помещения и коммунальных услу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с двумя скругленными противолежащими углами 19"/>
          <p:cNvSpPr/>
          <p:nvPr/>
        </p:nvSpPr>
        <p:spPr>
          <a:xfrm>
            <a:off x="217440" y="3600360"/>
            <a:ext cx="6696000" cy="115272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Компенсация части платы, взимаемой за содержание детей в образовательных организациях, реализующих основную общеобразовательную программу дошко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с двумя скругленными противолежащими углами 21"/>
          <p:cNvSpPr/>
          <p:nvPr/>
        </p:nvSpPr>
        <p:spPr>
          <a:xfrm>
            <a:off x="217440" y="4824360"/>
            <a:ext cx="6696000" cy="122400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Вознаграждение, причитающееся приемному родите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с двумя скругленными противолежащими углами 22"/>
          <p:cNvSpPr/>
          <p:nvPr/>
        </p:nvSpPr>
        <p:spPr>
          <a:xfrm>
            <a:off x="217440" y="6121440"/>
            <a:ext cx="6624720" cy="86364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Ежемесячные денежные выплаты на детей – сирот, детей оставшихся без попечения родителей, находящихся под опекой (попечительством), в приемной сем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6"/>
          <p:cNvSpPr/>
          <p:nvPr/>
        </p:nvSpPr>
        <p:spPr>
          <a:xfrm>
            <a:off x="6913440" y="3600360"/>
            <a:ext cx="9162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371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7"/>
          <p:cNvSpPr/>
          <p:nvPr/>
        </p:nvSpPr>
        <p:spPr>
          <a:xfrm>
            <a:off x="8209080" y="3600360"/>
            <a:ext cx="13348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312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8"/>
          <p:cNvSpPr/>
          <p:nvPr/>
        </p:nvSpPr>
        <p:spPr>
          <a:xfrm flipH="1">
            <a:off x="9363240" y="3600360"/>
            <a:ext cx="11808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503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9"/>
          <p:cNvSpPr/>
          <p:nvPr/>
        </p:nvSpPr>
        <p:spPr>
          <a:xfrm>
            <a:off x="6913440" y="5040360"/>
            <a:ext cx="1344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085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0"/>
          <p:cNvSpPr/>
          <p:nvPr/>
        </p:nvSpPr>
        <p:spPr>
          <a:xfrm>
            <a:off x="8137440" y="5040360"/>
            <a:ext cx="1440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920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1"/>
          <p:cNvSpPr/>
          <p:nvPr/>
        </p:nvSpPr>
        <p:spPr>
          <a:xfrm flipH="1">
            <a:off x="9435960" y="5040360"/>
            <a:ext cx="1370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974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2"/>
          <p:cNvSpPr/>
          <p:nvPr/>
        </p:nvSpPr>
        <p:spPr>
          <a:xfrm>
            <a:off x="6904080" y="6264360"/>
            <a:ext cx="1440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2855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33"/>
          <p:cNvSpPr/>
          <p:nvPr/>
        </p:nvSpPr>
        <p:spPr>
          <a:xfrm>
            <a:off x="8129520" y="6264360"/>
            <a:ext cx="14414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2519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4"/>
          <p:cNvSpPr/>
          <p:nvPr/>
        </p:nvSpPr>
        <p:spPr>
          <a:xfrm flipH="1">
            <a:off x="9425880" y="6264360"/>
            <a:ext cx="1376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2525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5"/>
          <p:cNvSpPr/>
          <p:nvPr/>
        </p:nvSpPr>
        <p:spPr>
          <a:xfrm>
            <a:off x="6985080" y="2376360"/>
            <a:ext cx="1368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52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36"/>
          <p:cNvSpPr/>
          <p:nvPr/>
        </p:nvSpPr>
        <p:spPr>
          <a:xfrm>
            <a:off x="8186760" y="2457360"/>
            <a:ext cx="1295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39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37"/>
          <p:cNvSpPr/>
          <p:nvPr/>
        </p:nvSpPr>
        <p:spPr>
          <a:xfrm>
            <a:off x="9433080" y="2376360"/>
            <a:ext cx="1368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150 тыс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щегосударственные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3" descr="C:\Users\МалыгинаНВ\Desktop\images.jpg"/>
          <p:cNvPicPr/>
          <p:nvPr/>
        </p:nvPicPr>
        <p:blipFill>
          <a:blip r:embed="rId1"/>
          <a:stretch/>
        </p:blipFill>
        <p:spPr>
          <a:xfrm>
            <a:off x="257040" y="1536840"/>
            <a:ext cx="4143600" cy="292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Диаграмма 4"/>
          <p:cNvGraphicFramePr/>
          <p:nvPr/>
        </p:nvGraphicFramePr>
        <p:xfrm>
          <a:off x="4614840" y="1457280"/>
          <a:ext cx="6000840" cy="550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6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14840" y="1457280"/>
                    <a:ext cx="6000840" cy="55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Другие общегосударственные 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вопросы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8" name="Содержимое 3"/>
          <p:cNvGraphicFramePr/>
          <p:nvPr/>
        </p:nvGraphicFramePr>
        <p:xfrm>
          <a:off x="544680" y="1649520"/>
          <a:ext cx="9712080" cy="504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1649520"/>
                    <a:ext cx="9712080" cy="50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8137440" y="5400720"/>
            <a:ext cx="2340000" cy="143964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270000" y="3040200"/>
            <a:ext cx="2430360" cy="2000160"/>
          </a:xfrm>
          <a:prstGeom prst="rect">
            <a:avLst/>
          </a:prstGeom>
          <a:ln w="28440">
            <a:solidFill>
              <a:srgbClr val="663300"/>
            </a:solidFill>
            <a:miter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720720" y="5280120"/>
            <a:ext cx="2700360" cy="16812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3" name="AutoShape 6"/>
          <p:cNvSpPr/>
          <p:nvPr/>
        </p:nvSpPr>
        <p:spPr>
          <a:xfrm>
            <a:off x="2070000" y="3440160"/>
            <a:ext cx="3240360" cy="1439640"/>
          </a:xfrm>
          <a:prstGeom prst="foldedCorner">
            <a:avLst>
              <a:gd name="adj" fmla="val 24421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циально-эконом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ви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3060720" y="5440320"/>
            <a:ext cx="3240000" cy="1440000"/>
          </a:xfrm>
          <a:prstGeom prst="foldedCorner">
            <a:avLst>
              <a:gd name="adj" fmla="val 19662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основных направле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ной и налог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олитики  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15 - 2017 год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6624720" y="4176720"/>
            <a:ext cx="3060720" cy="1440000"/>
          </a:xfrm>
          <a:prstGeom prst="foldedCorner">
            <a:avLst>
              <a:gd name="adj" fmla="val 24421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9933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огноза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экономического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гор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на 2015 -2017 г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287280" y="216000"/>
            <a:ext cx="4951440" cy="2382840"/>
          </a:xfrm>
          <a:prstGeom prst="foldedCorner">
            <a:avLst>
              <a:gd name="adj" fmla="val 17912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Бюджет на 2015 год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лановый период 2016 и 2017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азработан в соответствии с бюджет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и налоговым законодательст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РФ , НПА Кировской области и Нагор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муниципального района на осно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3" descr="Vladimir-Putin378_4"/>
          <p:cNvPicPr/>
          <p:nvPr/>
        </p:nvPicPr>
        <p:blipFill>
          <a:blip r:embed="rId8"/>
          <a:srcRect l="0" t="3427" r="4224" b="0"/>
          <a:stretch/>
        </p:blipFill>
        <p:spPr>
          <a:xfrm>
            <a:off x="7201080" y="863640"/>
            <a:ext cx="3190680" cy="214308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sp>
        <p:nvSpPr>
          <p:cNvPr id="58" name="AutoShape 14"/>
          <p:cNvSpPr/>
          <p:nvPr/>
        </p:nvSpPr>
        <p:spPr>
          <a:xfrm>
            <a:off x="5545080" y="2448000"/>
            <a:ext cx="2521080" cy="1360440"/>
          </a:xfrm>
          <a:prstGeom prst="foldedCorner">
            <a:avLst>
              <a:gd name="adj" fmla="val 19662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ежегодного посл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Президента Р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Федеральн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Times New Roman"/>
              </a:rPr>
              <a:t>Собранию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688000" y="3095640"/>
            <a:ext cx="5113440" cy="410544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19"/>
          <p:cNvSpPr/>
          <p:nvPr/>
        </p:nvSpPr>
        <p:spPr>
          <a:xfrm>
            <a:off x="5400720" y="3138480"/>
            <a:ext cx="270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0" y="0"/>
            <a:ext cx="10801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оборо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верх 23"/>
          <p:cNvSpPr/>
          <p:nvPr/>
        </p:nvSpPr>
        <p:spPr>
          <a:xfrm>
            <a:off x="216000" y="743040"/>
            <a:ext cx="10080360" cy="1928880"/>
          </a:xfrm>
          <a:prstGeom prst="upArrow">
            <a:avLst>
              <a:gd name="adj1" fmla="val 50000"/>
              <a:gd name="adj2" fmla="val 57060"/>
            </a:avLst>
          </a:prstGeom>
          <a:solidFill>
            <a:srgbClr val="ffcc99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0"/>
          <p:cNvSpPr/>
          <p:nvPr/>
        </p:nvSpPr>
        <p:spPr>
          <a:xfrm>
            <a:off x="2305080" y="1100160"/>
            <a:ext cx="5688000" cy="15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Общий объем расходов по разделу на 2015 год запланирован на предоставление межбюджетных трансфертов в сумме 477,7 тыс. 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Диаграмма 7" descr=""/>
          <p:cNvPicPr/>
          <p:nvPr/>
        </p:nvPicPr>
        <p:blipFill>
          <a:blip r:embed="rId2"/>
          <a:stretch/>
        </p:blipFill>
        <p:spPr>
          <a:xfrm>
            <a:off x="185760" y="2886120"/>
            <a:ext cx="5786280" cy="400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5"/>
          <p:cNvSpPr/>
          <p:nvPr/>
        </p:nvSpPr>
        <p:spPr>
          <a:xfrm>
            <a:off x="3672000" y="1440000"/>
            <a:ext cx="33512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7451640" y="1368360"/>
            <a:ext cx="3349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1" descr=""/>
          <p:cNvPicPr/>
          <p:nvPr/>
        </p:nvPicPr>
        <p:blipFill>
          <a:blip r:embed="rId1"/>
          <a:stretch/>
        </p:blipFill>
        <p:spPr>
          <a:xfrm>
            <a:off x="6553080" y="3816360"/>
            <a:ext cx="4248360" cy="3159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9"/>
          <p:cNvSpPr/>
          <p:nvPr/>
        </p:nvSpPr>
        <p:spPr>
          <a:xfrm>
            <a:off x="1800360" y="0"/>
            <a:ext cx="90010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0000ff"/>
                </a:solidFill>
                <a:latin typeface="Times New Roman"/>
              </a:rPr>
              <a:t>Национальная безопасность и правоохранительная деятельность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2160720" cy="161928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20"/>
          <p:cNvSpPr/>
          <p:nvPr/>
        </p:nvSpPr>
        <p:spPr>
          <a:xfrm>
            <a:off x="900000" y="3743280"/>
            <a:ext cx="4176720" cy="307188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щита населения и территории от чрезвычайных ситуаций природного и техногенного характера, гражданская оборона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433,9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1"/>
          <p:cNvSpPr/>
          <p:nvPr/>
        </p:nvSpPr>
        <p:spPr>
          <a:xfrm>
            <a:off x="5757840" y="1814400"/>
            <a:ext cx="4000680" cy="185904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ругие вопросы в области национальной безопасности и правоохранительной деятельности –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5,0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3"/>
          <p:cNvSpPr/>
          <p:nvPr/>
        </p:nvSpPr>
        <p:spPr>
          <a:xfrm rot="447600">
            <a:off x="1346040" y="2952720"/>
            <a:ext cx="657360" cy="776160"/>
          </a:xfrm>
          <a:prstGeom prst="downArrow">
            <a:avLst>
              <a:gd name="adj1" fmla="val 50000"/>
              <a:gd name="adj2" fmla="val 37001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512400">
            <a:off x="4182840" y="2571480"/>
            <a:ext cx="1441440" cy="679320"/>
          </a:xfrm>
          <a:prstGeom prst="rightArrow">
            <a:avLst>
              <a:gd name="adj1" fmla="val 50000"/>
              <a:gd name="adj2" fmla="val 33262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2"/>
          <p:cNvSpPr/>
          <p:nvPr/>
        </p:nvSpPr>
        <p:spPr>
          <a:xfrm>
            <a:off x="360360" y="1743120"/>
            <a:ext cx="381636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ile"/>
          <p:cNvSpPr/>
          <p:nvPr/>
        </p:nvSpPr>
        <p:spPr>
          <a:xfrm>
            <a:off x="936720" y="1886040"/>
            <a:ext cx="2950920" cy="22906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9"/>
          <p:cNvSpPr/>
          <p:nvPr/>
        </p:nvSpPr>
        <p:spPr>
          <a:xfrm>
            <a:off x="2448000" y="216000"/>
            <a:ext cx="8137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Национальная эконом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7" descr=""/>
          <p:cNvPicPr/>
          <p:nvPr/>
        </p:nvPicPr>
        <p:blipFill>
          <a:blip r:embed="rId1"/>
          <a:stretch/>
        </p:blipFill>
        <p:spPr>
          <a:xfrm>
            <a:off x="4257720" y="2171880"/>
            <a:ext cx="2571840" cy="19936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259" name="Picture 18" descr=""/>
          <p:cNvPicPr/>
          <p:nvPr/>
        </p:nvPicPr>
        <p:blipFill>
          <a:blip r:embed="rId2"/>
          <a:stretch/>
        </p:blipFill>
        <p:spPr>
          <a:xfrm>
            <a:off x="216000" y="216000"/>
            <a:ext cx="2305080" cy="12967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60" name="File"/>
          <p:cNvSpPr/>
          <p:nvPr/>
        </p:nvSpPr>
        <p:spPr>
          <a:xfrm>
            <a:off x="936720" y="4457880"/>
            <a:ext cx="2950920" cy="231120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ile"/>
          <p:cNvSpPr/>
          <p:nvPr/>
        </p:nvSpPr>
        <p:spPr>
          <a:xfrm>
            <a:off x="7201080" y="4600440"/>
            <a:ext cx="2950920" cy="224172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ile"/>
          <p:cNvSpPr/>
          <p:nvPr/>
        </p:nvSpPr>
        <p:spPr>
          <a:xfrm>
            <a:off x="7056360" y="2100240"/>
            <a:ext cx="2951280" cy="200520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5"/>
          <p:cNvSpPr/>
          <p:nvPr/>
        </p:nvSpPr>
        <p:spPr>
          <a:xfrm>
            <a:off x="1297080" y="2529000"/>
            <a:ext cx="23400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льское хозяйство и рыболовство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21,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6"/>
          <p:cNvSpPr/>
          <p:nvPr/>
        </p:nvSpPr>
        <p:spPr>
          <a:xfrm>
            <a:off x="7201080" y="2600280"/>
            <a:ext cx="27716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е хозяйство (дорожные фонды)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4466,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7"/>
          <p:cNvSpPr/>
          <p:nvPr/>
        </p:nvSpPr>
        <p:spPr>
          <a:xfrm>
            <a:off x="7272360" y="5172120"/>
            <a:ext cx="2700360" cy="14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Другие вопросы в области национальной экономики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,0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8"/>
          <p:cNvSpPr/>
          <p:nvPr/>
        </p:nvSpPr>
        <p:spPr>
          <a:xfrm>
            <a:off x="1224000" y="5029200"/>
            <a:ext cx="259236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Транспорт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06,2</a:t>
            </a:r>
            <a:r>
              <a:rPr b="1" lang="ru-RU" sz="1800" spc="-1" strike="noStrike">
                <a:solidFill>
                  <a:srgbClr val="171717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2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4186080" y="4743360"/>
            <a:ext cx="2786400" cy="200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17100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Сельское хозяйство и рыболовство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Содержимое 3" descr=""/>
          <p:cNvPicPr/>
          <p:nvPr/>
        </p:nvPicPr>
        <p:blipFill>
          <a:blip r:embed="rId1"/>
          <a:stretch/>
        </p:blipFill>
        <p:spPr>
          <a:xfrm>
            <a:off x="541440" y="2743200"/>
            <a:ext cx="9717120" cy="4143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430200" y="1128600"/>
            <a:ext cx="3113280" cy="1685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7115040" y="1028880"/>
            <a:ext cx="30718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6043680" y="1314360"/>
            <a:ext cx="4214880" cy="2928960"/>
          </a:xfrm>
          <a:prstGeom prst="rect">
            <a:avLst/>
          </a:prstGeom>
          <a:ln w="0">
            <a:noFill/>
          </a:ln>
        </p:spPr>
      </p:pic>
      <p:sp>
        <p:nvSpPr>
          <p:cNvPr id="274" name="File"/>
          <p:cNvSpPr/>
          <p:nvPr/>
        </p:nvSpPr>
        <p:spPr>
          <a:xfrm>
            <a:off x="936720" y="1814400"/>
            <a:ext cx="4392360" cy="40006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ile"/>
          <p:cNvSpPr/>
          <p:nvPr/>
        </p:nvSpPr>
        <p:spPr>
          <a:xfrm>
            <a:off x="1089000" y="2171880"/>
            <a:ext cx="4392720" cy="37144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ile"/>
          <p:cNvSpPr/>
          <p:nvPr/>
        </p:nvSpPr>
        <p:spPr>
          <a:xfrm>
            <a:off x="1241280" y="2529000"/>
            <a:ext cx="4392720" cy="3643200"/>
          </a:xfrm>
          <a:prstGeom prst="pi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субсидий юридическим лицам и индивидуальным предпринимателям, осуществляющим перевозку пассажиров автомобильным транспортом общего пользования по социальным маршрутам Нагорского района 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706,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ыс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Дорожное хозяйство</a:t>
            </a:r>
            <a:br>
              <a:rPr sz="4100"/>
            </a:b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(дорожные фонды)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Содержимое 4" descr=""/>
          <p:cNvPicPr/>
          <p:nvPr/>
        </p:nvPicPr>
        <p:blipFill>
          <a:blip r:embed="rId1"/>
          <a:stretch/>
        </p:blipFill>
        <p:spPr>
          <a:xfrm>
            <a:off x="331920" y="1600200"/>
            <a:ext cx="9713880" cy="5286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8115480" y="385920"/>
            <a:ext cx="2543040" cy="1785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C:\Users\МалыгинаНВ\Desktop\i.jpg"/>
          <p:cNvPicPr/>
          <p:nvPr/>
        </p:nvPicPr>
        <p:blipFill>
          <a:blip r:embed="rId3"/>
          <a:stretch/>
        </p:blipFill>
        <p:spPr>
          <a:xfrm>
            <a:off x="185760" y="385920"/>
            <a:ext cx="2357280" cy="1714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ilm"/>
          <p:cNvSpPr/>
          <p:nvPr/>
        </p:nvSpPr>
        <p:spPr>
          <a:xfrm>
            <a:off x="7705800" y="0"/>
            <a:ext cx="3095640" cy="7201080"/>
          </a:xfrm>
          <a:prstGeom prst="pi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E:\презентация 2013\слайды\дол.jpg"/>
          <p:cNvPicPr/>
          <p:nvPr/>
        </p:nvPicPr>
        <p:blipFill>
          <a:blip r:embed="rId1"/>
          <a:stretch/>
        </p:blipFill>
        <p:spPr>
          <a:xfrm>
            <a:off x="8353440" y="287280"/>
            <a:ext cx="1851120" cy="1800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E:\презентация 2013\слайды\жжж.jpg"/>
          <p:cNvPicPr/>
          <p:nvPr/>
        </p:nvPicPr>
        <p:blipFill>
          <a:blip r:embed="rId2"/>
          <a:stretch/>
        </p:blipFill>
        <p:spPr>
          <a:xfrm>
            <a:off x="8280360" y="2664000"/>
            <a:ext cx="1924200" cy="180000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9"/>
          <p:cNvSpPr/>
          <p:nvPr/>
        </p:nvSpPr>
        <p:spPr>
          <a:xfrm>
            <a:off x="0" y="0"/>
            <a:ext cx="770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Жилищно – коммунальное хозяй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авая фигурная скобка 7"/>
          <p:cNvSpPr/>
          <p:nvPr/>
        </p:nvSpPr>
        <p:spPr>
          <a:xfrm>
            <a:off x="4537080" y="1584360"/>
            <a:ext cx="1224000" cy="2663640"/>
          </a:xfrm>
          <a:custGeom>
            <a:avLst/>
            <a:gdLst>
              <a:gd name="textAreaLeft" fmla="*/ 0 w 1224000"/>
              <a:gd name="textAreaRight" fmla="*/ 442080 w 1224000"/>
              <a:gd name="textAreaTop" fmla="*/ 31680 h 2663640"/>
              <a:gd name="textAreaBottom" fmla="*/ 263196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4"/>
                  <a:pt x="10800" y="827"/>
                </a:cubicBezTo>
                <a:lnTo>
                  <a:pt x="10800" y="9973"/>
                </a:lnTo>
                <a:cubicBezTo>
                  <a:pt x="10800" y="10387"/>
                  <a:pt x="16200" y="10800"/>
                  <a:pt x="21600" y="10800"/>
                </a:cubicBezTo>
                <a:cubicBezTo>
                  <a:pt x="16200" y="10800"/>
                  <a:pt x="10800" y="11214"/>
                  <a:pt x="10800" y="11627"/>
                </a:cubicBezTo>
                <a:lnTo>
                  <a:pt x="10800" y="20773"/>
                </a:lnTo>
                <a:cubicBezTo>
                  <a:pt x="10800" y="21187"/>
                  <a:pt x="5400" y="21600"/>
                  <a:pt x="0" y="21600"/>
                </a:cubicBezTo>
              </a:path>
            </a:pathLst>
          </a:custGeom>
          <a:noFill/>
          <a:ln cap="rnd" w="540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0"/>
          <p:cNvSpPr/>
          <p:nvPr/>
        </p:nvSpPr>
        <p:spPr>
          <a:xfrm>
            <a:off x="216000" y="1440000"/>
            <a:ext cx="4968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бсидии бюджетам муниципальных образований области на реализацию инвестиционных проектов по модернизации объектов коммунальной инфраструктуры (капитальный ремонт или реконструкция, замена и модернизация, строительство, приобретение технологического оборудования, выполнение проектных рабо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кругленный прямоугольник 11"/>
          <p:cNvSpPr/>
          <p:nvPr/>
        </p:nvSpPr>
        <p:spPr>
          <a:xfrm>
            <a:off x="5761080" y="2376360"/>
            <a:ext cx="1871640" cy="8431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Times New Roman"/>
              </a:rPr>
              <a:t>1000 тыс. р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4"/>
          <p:cNvSpPr/>
          <p:nvPr/>
        </p:nvSpPr>
        <p:spPr>
          <a:xfrm>
            <a:off x="216000" y="4392720"/>
            <a:ext cx="7488000" cy="1728720"/>
          </a:xfrm>
          <a:prstGeom prst="flowChartTerminator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11"/>
          <p:cNvSpPr/>
          <p:nvPr/>
        </p:nvSpPr>
        <p:spPr>
          <a:xfrm>
            <a:off x="1042920" y="4672080"/>
            <a:ext cx="542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Arial"/>
              </a:rPr>
              <a:t>Субсидия предоставляется Нагорскому городскому поселению на капитальный ремонт системы водоснабжения пгт. Наг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3" descr=""/>
          <p:cNvPicPr/>
          <p:nvPr/>
        </p:nvPicPr>
        <p:blipFill>
          <a:blip r:embed="rId3"/>
          <a:stretch/>
        </p:blipFill>
        <p:spPr>
          <a:xfrm>
            <a:off x="8353440" y="504036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3"/>
          <p:cNvSpPr/>
          <p:nvPr/>
        </p:nvSpPr>
        <p:spPr>
          <a:xfrm>
            <a:off x="614520" y="1314360"/>
            <a:ext cx="2952720" cy="2714760"/>
          </a:xfrm>
          <a:prstGeom prst="foldedCorner">
            <a:avLst>
              <a:gd name="adj" fmla="val 17912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Дошкольно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</a:rPr>
              <a:t>20448,9</a:t>
            </a:r>
            <a:r>
              <a:rPr b="1" i="1" lang="ru-RU" sz="41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тыс.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8"/>
          <p:cNvSpPr/>
          <p:nvPr/>
        </p:nvSpPr>
        <p:spPr>
          <a:xfrm>
            <a:off x="328680" y="314280"/>
            <a:ext cx="7072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Образов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2" descr=""/>
          <p:cNvPicPr/>
          <p:nvPr/>
        </p:nvPicPr>
        <p:blipFill>
          <a:blip r:embed="rId2"/>
          <a:stretch/>
        </p:blipFill>
        <p:spPr>
          <a:xfrm>
            <a:off x="7400880" y="600120"/>
            <a:ext cx="3214800" cy="30002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294" name="AutoShape 13"/>
          <p:cNvSpPr/>
          <p:nvPr/>
        </p:nvSpPr>
        <p:spPr>
          <a:xfrm>
            <a:off x="7472520" y="4100400"/>
            <a:ext cx="2952720" cy="2748240"/>
          </a:xfrm>
          <a:prstGeom prst="foldedCorner">
            <a:avLst>
              <a:gd name="adj" fmla="val 17912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ругие 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 обла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4815,4</a:t>
            </a:r>
            <a:r>
              <a:rPr b="1" i="1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4043520" y="4172040"/>
            <a:ext cx="2952720" cy="2747880"/>
          </a:xfrm>
          <a:prstGeom prst="foldedCorner">
            <a:avLst>
              <a:gd name="adj" fmla="val 1791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лодеж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литик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здоро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детей</a:t>
            </a:r>
            <a:r>
              <a:rPr b="1" i="1" lang="ru-RU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59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3900600" y="1314360"/>
            <a:ext cx="3247920" cy="2571840"/>
          </a:xfrm>
          <a:prstGeom prst="foldedCorner">
            <a:avLst>
              <a:gd name="adj" fmla="val 17912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99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Общее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образование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</a:rPr>
              <a:t>113923,6</a:t>
            </a:r>
            <a:r>
              <a:rPr b="1" i="1" lang="ru-RU" sz="41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тыс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4100" spc="-1" strike="noStrike">
                <a:solidFill>
                  <a:srgbClr val="000000"/>
                </a:solidFill>
                <a:latin typeface="Times New Roman"/>
              </a:rPr>
              <a:t>рублей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2" descr="C:\Users\МалыгинаНВ\Desktop\i.jpg"/>
          <p:cNvPicPr/>
          <p:nvPr/>
        </p:nvPicPr>
        <p:blipFill>
          <a:blip r:embed="rId6"/>
          <a:stretch/>
        </p:blipFill>
        <p:spPr>
          <a:xfrm>
            <a:off x="328680" y="4386240"/>
            <a:ext cx="3195720" cy="2428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5"/>
          <p:cNvSpPr/>
          <p:nvPr/>
        </p:nvSpPr>
        <p:spPr>
          <a:xfrm>
            <a:off x="216000" y="0"/>
            <a:ext cx="9937800" cy="6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ультура и кинемат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2"/>
          <p:cNvSpPr/>
          <p:nvPr/>
        </p:nvSpPr>
        <p:spPr>
          <a:xfrm>
            <a:off x="216000" y="1243080"/>
            <a:ext cx="3816360" cy="164304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22"/>
          <p:cNvSpPr/>
          <p:nvPr/>
        </p:nvSpPr>
        <p:spPr>
          <a:xfrm>
            <a:off x="6686640" y="1671480"/>
            <a:ext cx="3816360" cy="16434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21"/>
          <p:cNvSpPr/>
          <p:nvPr/>
        </p:nvSpPr>
        <p:spPr>
          <a:xfrm>
            <a:off x="287280" y="1600200"/>
            <a:ext cx="38181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ворцы, дома культуры и другие учреждения культуры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8077,4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22"/>
          <p:cNvSpPr/>
          <p:nvPr/>
        </p:nvSpPr>
        <p:spPr>
          <a:xfrm>
            <a:off x="6972480" y="2028960"/>
            <a:ext cx="328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Централизованная бухгалтерия, хозгрупп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5314,8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"/>
          <p:cNvPicPr/>
          <p:nvPr/>
        </p:nvPicPr>
        <p:blipFill>
          <a:blip r:embed="rId1"/>
          <a:stretch/>
        </p:blipFill>
        <p:spPr>
          <a:xfrm>
            <a:off x="4537080" y="1224000"/>
            <a:ext cx="214308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304" name="Picture 10" descr=""/>
          <p:cNvPicPr/>
          <p:nvPr/>
        </p:nvPicPr>
        <p:blipFill>
          <a:blip r:embed="rId2"/>
          <a:stretch/>
        </p:blipFill>
        <p:spPr>
          <a:xfrm>
            <a:off x="3960720" y="2736720"/>
            <a:ext cx="2016360" cy="142884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305" name="Picture 11" descr=""/>
          <p:cNvPicPr/>
          <p:nvPr/>
        </p:nvPicPr>
        <p:blipFill>
          <a:blip r:embed="rId3"/>
          <a:stretch/>
        </p:blipFill>
        <p:spPr>
          <a:xfrm>
            <a:off x="4464000" y="4248000"/>
            <a:ext cx="2160720" cy="14590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306" name="Picture 12" descr=""/>
          <p:cNvPicPr/>
          <p:nvPr/>
        </p:nvPicPr>
        <p:blipFill>
          <a:blip r:embed="rId4"/>
          <a:stretch/>
        </p:blipFill>
        <p:spPr>
          <a:xfrm>
            <a:off x="4176720" y="5772240"/>
            <a:ext cx="2016000" cy="128412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307" name="AutoShape 22"/>
          <p:cNvSpPr/>
          <p:nvPr/>
        </p:nvSpPr>
        <p:spPr>
          <a:xfrm>
            <a:off x="6757920" y="4457880"/>
            <a:ext cx="3857760" cy="17856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1"/>
          <p:cNvSpPr/>
          <p:nvPr/>
        </p:nvSpPr>
        <p:spPr>
          <a:xfrm>
            <a:off x="7329600" y="4703760"/>
            <a:ext cx="311148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оставление межбюджетных трансфертов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56,3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2"/>
          <p:cNvSpPr/>
          <p:nvPr/>
        </p:nvSpPr>
        <p:spPr>
          <a:xfrm flipV="1" rot="10800000">
            <a:off x="399600" y="3743280"/>
            <a:ext cx="3816360" cy="157176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иблиотеки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6870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ilm"/>
          <p:cNvSpPr/>
          <p:nvPr/>
        </p:nvSpPr>
        <p:spPr>
          <a:xfrm>
            <a:off x="7705800" y="0"/>
            <a:ext cx="3095640" cy="7201080"/>
          </a:xfrm>
          <a:prstGeom prst="pi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E:\презентация 2013\слайды\i.jpg"/>
          <p:cNvPicPr/>
          <p:nvPr/>
        </p:nvPicPr>
        <p:blipFill>
          <a:blip r:embed="rId1"/>
          <a:stretch/>
        </p:blipFill>
        <p:spPr>
          <a:xfrm>
            <a:off x="8280360" y="360360"/>
            <a:ext cx="1905120" cy="1800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E:\презентация 2013\слайды\inta_photo_2_inta.jpg"/>
          <p:cNvPicPr/>
          <p:nvPr/>
        </p:nvPicPr>
        <p:blipFill>
          <a:blip r:embed="rId2"/>
          <a:stretch/>
        </p:blipFill>
        <p:spPr>
          <a:xfrm>
            <a:off x="8353440" y="266400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E:\презентация 2013\слайды\inta_photo_5_inta.jpg"/>
          <p:cNvPicPr/>
          <p:nvPr/>
        </p:nvPicPr>
        <p:blipFill>
          <a:blip r:embed="rId3"/>
          <a:stretch/>
        </p:blipFill>
        <p:spPr>
          <a:xfrm>
            <a:off x="8280360" y="5113440"/>
            <a:ext cx="1944720" cy="165564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6"/>
          <p:cNvSpPr/>
          <p:nvPr/>
        </p:nvSpPr>
        <p:spPr>
          <a:xfrm>
            <a:off x="0" y="0"/>
            <a:ext cx="77040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Times New Roman"/>
              </a:rPr>
              <a:t>Социальная полити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21"/>
          <p:cNvSpPr/>
          <p:nvPr/>
        </p:nvSpPr>
        <p:spPr>
          <a:xfrm>
            <a:off x="216000" y="3672000"/>
            <a:ext cx="2808360" cy="21603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2"/>
          <p:cNvSpPr/>
          <p:nvPr/>
        </p:nvSpPr>
        <p:spPr>
          <a:xfrm>
            <a:off x="3240000" y="2886120"/>
            <a:ext cx="3384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нсионное обеспечение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124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3"/>
          <p:cNvSpPr/>
          <p:nvPr/>
        </p:nvSpPr>
        <p:spPr>
          <a:xfrm>
            <a:off x="4321080" y="5040360"/>
            <a:ext cx="28083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храна семьи и детства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6647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4"/>
          <p:cNvSpPr/>
          <p:nvPr/>
        </p:nvSpPr>
        <p:spPr>
          <a:xfrm>
            <a:off x="216000" y="4032360"/>
            <a:ext cx="237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оциальное обеспечение населения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2692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20"/>
          <p:cNvSpPr/>
          <p:nvPr/>
        </p:nvSpPr>
        <p:spPr>
          <a:xfrm>
            <a:off x="287280" y="2171880"/>
            <a:ext cx="208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циальная поли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AutoShape 11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0" y="316872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24" name="AutoShape 11" descr=""/>
          <p:cNvPicPr/>
          <p:nvPr/>
        </p:nvPicPr>
        <p:blipFill>
          <a:blip r:embed="rId5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25" name="AutoShape 11" descr=""/>
          <p:cNvPicPr/>
          <p:nvPr/>
        </p:nvPicPr>
        <p:blipFill>
          <a:blip r:embed="rId6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9" descr="бюджет 2014-2016.jpg"/>
          <p:cNvPicPr/>
          <p:nvPr/>
        </p:nvPicPr>
        <p:blipFill>
          <a:blip r:embed="rId1"/>
          <a:stretch/>
        </p:blipFill>
        <p:spPr>
          <a:xfrm>
            <a:off x="1231920" y="1457280"/>
            <a:ext cx="7570800" cy="2857680"/>
          </a:xfrm>
          <a:prstGeom prst="rect">
            <a:avLst/>
          </a:prstGeom>
          <a:ln w="0">
            <a:noFill/>
          </a:ln>
        </p:spPr>
      </p:pic>
      <p:grpSp>
        <p:nvGrpSpPr>
          <p:cNvPr id="60" name="Скругленный прямоугольник 1"/>
          <p:cNvGrpSpPr/>
          <p:nvPr/>
        </p:nvGrpSpPr>
        <p:grpSpPr>
          <a:xfrm>
            <a:off x="0" y="-257040"/>
            <a:ext cx="10472400" cy="1702800"/>
            <a:chOff x="0" y="-257040"/>
            <a:chExt cx="10472400" cy="1702800"/>
          </a:xfrm>
        </p:grpSpPr>
        <p:pic>
          <p:nvPicPr>
            <p:cNvPr id="61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0" y="-257040"/>
              <a:ext cx="10472400" cy="17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4"/>
            <p:cNvSpPr/>
            <p:nvPr/>
          </p:nvSpPr>
          <p:spPr>
            <a:xfrm>
              <a:off x="112680" y="181080"/>
              <a:ext cx="1024848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Основные характеристики бюджета</a:t>
              </a:r>
              <a:r>
                <a:rPr b="0" lang="ru-RU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4100" spc="-1" strike="noStrike">
                  <a:solidFill>
                    <a:srgbClr val="000000"/>
                  </a:solidFill>
                  <a:latin typeface="Constantia"/>
                </a:rPr>
                <a:t>Нагорского муниципального района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8"/>
          <p:cNvSpPr/>
          <p:nvPr/>
        </p:nvSpPr>
        <p:spPr>
          <a:xfrm>
            <a:off x="7442280" y="4029120"/>
            <a:ext cx="17017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тыс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71640" y="4600440"/>
          <a:ext cx="8165880" cy="1832040"/>
        </p:xfrm>
        <a:graphic>
          <a:graphicData uri="http://schemas.openxmlformats.org/drawingml/2006/table">
            <a:tbl>
              <a:tblPr/>
              <a:tblGrid>
                <a:gridCol w="1998720"/>
                <a:gridCol w="1998360"/>
                <a:gridCol w="2000520"/>
                <a:gridCol w="2168280"/>
              </a:tblGrid>
              <a:tr h="67500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ери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о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асходы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Дефицит бюджет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4304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404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8592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971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1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85560"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059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759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108000" rIns="108000" tIns="47880" bIns="47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0" marR="10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3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757080" y="814320"/>
            <a:ext cx="9572760" cy="6000840"/>
          </a:xfrm>
          <a:prstGeom prst="rect">
            <a:avLst/>
          </a:prstGeom>
          <a:ln w="0">
            <a:noFill/>
          </a:ln>
        </p:spPr>
      </p:pic>
      <p:sp>
        <p:nvSpPr>
          <p:cNvPr id="327" name="File"/>
          <p:cNvSpPr/>
          <p:nvPr/>
        </p:nvSpPr>
        <p:spPr>
          <a:xfrm>
            <a:off x="504720" y="4314960"/>
            <a:ext cx="4751640" cy="214308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8"/>
          <p:cNvSpPr/>
          <p:nvPr/>
        </p:nvSpPr>
        <p:spPr>
          <a:xfrm>
            <a:off x="1512720" y="0"/>
            <a:ext cx="9288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ff"/>
                </a:solidFill>
                <a:latin typeface="Times New Roman"/>
              </a:rPr>
              <a:t>Физическая культура и спор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ile"/>
          <p:cNvSpPr/>
          <p:nvPr/>
        </p:nvSpPr>
        <p:spPr>
          <a:xfrm>
            <a:off x="5616720" y="2448000"/>
            <a:ext cx="4751280" cy="2087640"/>
          </a:xfrm>
          <a:prstGeom prst="pie">
            <a:avLst/>
          </a:prstGeom>
          <a:solidFill>
            <a:srgbClr val="c0c0c0">
              <a:alpha val="57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25"/>
          <p:cNvSpPr/>
          <p:nvPr/>
        </p:nvSpPr>
        <p:spPr>
          <a:xfrm>
            <a:off x="7488360" y="3024360"/>
            <a:ext cx="2916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 высших достижений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27"/>
          <p:cNvSpPr/>
          <p:nvPr/>
        </p:nvSpPr>
        <p:spPr>
          <a:xfrm>
            <a:off x="2185920" y="5029200"/>
            <a:ext cx="31431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84120" indent="-384120" algn="ctr">
              <a:lnSpc>
                <a:spcPct val="80000"/>
              </a:lnSpc>
              <a:buClr>
                <a:srgbClr val="1f497d"/>
              </a:buClr>
              <a:buSzPct val="115000"/>
              <a:buFont typeface="Wingdings" charset="2"/>
              <a:buChar char="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овый спор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2"/>
          <p:cNvSpPr/>
          <p:nvPr/>
        </p:nvSpPr>
        <p:spPr>
          <a:xfrm>
            <a:off x="542880" y="2100240"/>
            <a:ext cx="3633840" cy="114300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аспределение объемов финанс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4"/>
          <p:cNvSpPr/>
          <p:nvPr/>
        </p:nvSpPr>
        <p:spPr>
          <a:xfrm rot="5400000">
            <a:off x="2543040" y="3743280"/>
            <a:ext cx="1214280" cy="500040"/>
          </a:xfrm>
          <a:prstGeom prst="rightArrow">
            <a:avLst>
              <a:gd name="adj1" fmla="val 50000"/>
              <a:gd name="adj2" fmla="val 105296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24"/>
          <p:cNvSpPr/>
          <p:nvPr/>
        </p:nvSpPr>
        <p:spPr>
          <a:xfrm rot="684600">
            <a:off x="4257360" y="2520720"/>
            <a:ext cx="1214280" cy="579240"/>
          </a:xfrm>
          <a:prstGeom prst="rightArrow">
            <a:avLst>
              <a:gd name="adj1" fmla="val 50000"/>
              <a:gd name="adj2" fmla="val 43363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7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1755720" cy="194328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36" name="Picture 18" descr=""/>
          <p:cNvPicPr/>
          <p:nvPr/>
        </p:nvPicPr>
        <p:blipFill>
          <a:blip r:embed="rId3"/>
          <a:stretch/>
        </p:blipFill>
        <p:spPr>
          <a:xfrm>
            <a:off x="647640" y="4672080"/>
            <a:ext cx="1728720" cy="16430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pic>
        <p:nvPicPr>
          <p:cNvPr id="337" name="Picture 25" descr=""/>
          <p:cNvPicPr/>
          <p:nvPr/>
        </p:nvPicPr>
        <p:blipFill>
          <a:blip r:embed="rId4"/>
          <a:stretch/>
        </p:blipFill>
        <p:spPr>
          <a:xfrm>
            <a:off x="5761080" y="2879640"/>
            <a:ext cx="1958760" cy="157824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служивание государственного и 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го</a:t>
            </a: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 долга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Содержимое 3" descr=""/>
          <p:cNvPicPr/>
          <p:nvPr/>
        </p:nvPicPr>
        <p:blipFill>
          <a:blip r:embed="rId1"/>
          <a:stretch/>
        </p:blipFill>
        <p:spPr>
          <a:xfrm>
            <a:off x="541440" y="1809720"/>
            <a:ext cx="9717120" cy="44928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C:\Users\МалыгинаНВ\Desktop\i.jpg"/>
          <p:cNvPicPr/>
          <p:nvPr/>
        </p:nvPicPr>
        <p:blipFill>
          <a:blip r:embed="rId2"/>
          <a:stretch/>
        </p:blipFill>
        <p:spPr>
          <a:xfrm>
            <a:off x="6472080" y="1528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7" descr=""/>
          <p:cNvPicPr/>
          <p:nvPr/>
        </p:nvPicPr>
        <p:blipFill>
          <a:blip r:embed="rId1"/>
          <a:stretch/>
        </p:blipFill>
        <p:spPr>
          <a:xfrm>
            <a:off x="6543720" y="1957320"/>
            <a:ext cx="4071960" cy="414360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342" name="Прямоугольник 6"/>
          <p:cNvSpPr/>
          <p:nvPr/>
        </p:nvSpPr>
        <p:spPr>
          <a:xfrm>
            <a:off x="0" y="0"/>
            <a:ext cx="1025856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Межбюджетные трансферты общего характера бюджетам субъектов российской федерации и муниципальных образ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1"/>
          <p:cNvSpPr/>
          <p:nvPr/>
        </p:nvSpPr>
        <p:spPr>
          <a:xfrm>
            <a:off x="216000" y="3529080"/>
            <a:ext cx="2808360" cy="314316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21"/>
          <p:cNvSpPr/>
          <p:nvPr/>
        </p:nvSpPr>
        <p:spPr>
          <a:xfrm>
            <a:off x="3240000" y="2376360"/>
            <a:ext cx="374508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21"/>
          <p:cNvSpPr/>
          <p:nvPr/>
        </p:nvSpPr>
        <p:spPr>
          <a:xfrm>
            <a:off x="4176720" y="4608360"/>
            <a:ext cx="3384720" cy="2160720"/>
          </a:xfrm>
          <a:prstGeom prst="flowChartMultidocument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12"/>
          <p:cNvSpPr/>
          <p:nvPr/>
        </p:nvSpPr>
        <p:spPr>
          <a:xfrm>
            <a:off x="3240000" y="2886120"/>
            <a:ext cx="3384720" cy="13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областного бюджет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1227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13"/>
          <p:cNvSpPr/>
          <p:nvPr/>
        </p:nvSpPr>
        <p:spPr>
          <a:xfrm>
            <a:off x="4321080" y="5040360"/>
            <a:ext cx="28083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отация на поддержку мер по обеспечению сбалансированности бюджет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5865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тыс. руб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14"/>
          <p:cNvSpPr/>
          <p:nvPr/>
        </p:nvSpPr>
        <p:spPr>
          <a:xfrm>
            <a:off x="216000" y="4100400"/>
            <a:ext cx="2376360" cy="24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отации на выравнивание бюджетной обеспеченности из фонда финансовой поддержки поселений за счет средств бюджета муниципального района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2900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2"/>
          <p:cNvSpPr/>
          <p:nvPr/>
        </p:nvSpPr>
        <p:spPr>
          <a:xfrm>
            <a:off x="0" y="1814400"/>
            <a:ext cx="2448000" cy="1570320"/>
          </a:xfrm>
          <a:prstGeom prst="flowChartTerminator">
            <a:avLst/>
          </a:prstGeom>
          <a:solidFill>
            <a:srgbClr val="ffcc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20"/>
          <p:cNvSpPr/>
          <p:nvPr/>
        </p:nvSpPr>
        <p:spPr>
          <a:xfrm>
            <a:off x="287280" y="1886040"/>
            <a:ext cx="20890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жбюджетные  трансферты обще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AutoShap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0" y="3243240"/>
            <a:ext cx="647640" cy="108108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52" name="AutoShape 11" descr=""/>
          <p:cNvPicPr/>
          <p:nvPr/>
        </p:nvPicPr>
        <p:blipFill>
          <a:blip r:embed="rId3">
            <a:grayscl/>
          </a:blip>
          <a:stretch/>
        </p:blipFill>
        <p:spPr>
          <a:xfrm rot="14978400">
            <a:off x="2627280" y="1893960"/>
            <a:ext cx="792000" cy="1154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  <p:pic>
        <p:nvPicPr>
          <p:cNvPr id="353" name="AutoShape 11" descr=""/>
          <p:cNvPicPr/>
          <p:nvPr/>
        </p:nvPicPr>
        <p:blipFill>
          <a:blip r:embed="rId4">
            <a:grayscl/>
          </a:blip>
          <a:stretch/>
        </p:blipFill>
        <p:spPr>
          <a:xfrm rot="17949000">
            <a:off x="2805840" y="2665800"/>
            <a:ext cx="941400" cy="2952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ff"/>
            </a:outerShdw>
          </a:effectLst>
        </p:spPr>
      </p:pic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900000" y="1528920"/>
            <a:ext cx="8929800" cy="48574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5000" spc="-1" strike="noStrike">
                <a:solidFill>
                  <a:srgbClr val="d99694"/>
                </a:solidFill>
                <a:latin typeface="Calibri"/>
              </a:rPr>
              <a:t>Дефицит бюджета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Содержимое 4" descr=""/>
          <p:cNvPicPr/>
          <p:nvPr/>
        </p:nvPicPr>
        <p:blipFill>
          <a:blip r:embed="rId2"/>
          <a:stretch/>
        </p:blipFill>
        <p:spPr>
          <a:xfrm>
            <a:off x="536400" y="1663560"/>
            <a:ext cx="4778640" cy="4786560"/>
          </a:xfrm>
          <a:prstGeom prst="rect">
            <a:avLst/>
          </a:prstGeom>
          <a:ln w="0">
            <a:noFill/>
          </a:ln>
        </p:spPr>
      </p:pic>
      <p:pic>
        <p:nvPicPr>
          <p:cNvPr id="357" name="Содержимое 5" descr=""/>
          <p:cNvPicPr/>
          <p:nvPr/>
        </p:nvPicPr>
        <p:blipFill>
          <a:blip r:embed="rId3"/>
          <a:stretch/>
        </p:blipFill>
        <p:spPr>
          <a:xfrm>
            <a:off x="5486400" y="1620720"/>
            <a:ext cx="4780080" cy="4829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09640" y="885960"/>
            <a:ext cx="9182160" cy="28749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сновные характеристики бюджета муниципального района на плановый период 2016 и 2017 год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solidFill>
            <a:srgbClr val="fcfbf9"/>
          </a:solidFill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прогнозируемых объемов поступлений доходов в плановом пери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Содержимое 4" descr=""/>
          <p:cNvPicPr/>
          <p:nvPr/>
        </p:nvPicPr>
        <p:blipFill>
          <a:blip r:embed="rId1"/>
          <a:stretch/>
        </p:blipFill>
        <p:spPr>
          <a:xfrm>
            <a:off x="539640" y="1679400"/>
            <a:ext cx="4770720" cy="4753080"/>
          </a:xfrm>
          <a:prstGeom prst="rect">
            <a:avLst/>
          </a:prstGeom>
          <a:ln w="0">
            <a:noFill/>
          </a:ln>
        </p:spPr>
      </p:pic>
      <p:pic>
        <p:nvPicPr>
          <p:cNvPr id="361" name="Содержимое 5" descr=""/>
          <p:cNvPicPr/>
          <p:nvPr/>
        </p:nvPicPr>
        <p:blipFill>
          <a:blip r:embed="rId2"/>
          <a:stretch/>
        </p:blipFill>
        <p:spPr>
          <a:xfrm>
            <a:off x="5491080" y="1679400"/>
            <a:ext cx="4770360" cy="475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42520" y="0"/>
            <a:ext cx="9721800" cy="74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Calibri"/>
              </a:rPr>
              <a:t>Структура расходов бюджета на 2016 и 2017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Содержимое 4" descr=""/>
          <p:cNvPicPr/>
          <p:nvPr/>
        </p:nvPicPr>
        <p:blipFill>
          <a:blip r:embed="rId1"/>
          <a:stretch/>
        </p:blipFill>
        <p:spPr>
          <a:xfrm>
            <a:off x="185760" y="528480"/>
            <a:ext cx="5124600" cy="667260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5" descr=""/>
          <p:cNvPicPr/>
          <p:nvPr/>
        </p:nvPicPr>
        <p:blipFill>
          <a:blip r:embed="rId2"/>
          <a:stretch/>
        </p:blipFill>
        <p:spPr>
          <a:xfrm>
            <a:off x="5491080" y="457200"/>
            <a:ext cx="5310360" cy="674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C:\Users\МалыгинаНВ\Desktop\i.jpg"/>
          <p:cNvPicPr/>
          <p:nvPr/>
        </p:nvPicPr>
        <p:blipFill>
          <a:blip r:embed="rId1"/>
          <a:stretch/>
        </p:blipFill>
        <p:spPr>
          <a:xfrm>
            <a:off x="399960" y="1671480"/>
            <a:ext cx="10144080" cy="47149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7398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униципальный долг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Содержимое 4" descr=""/>
          <p:cNvPicPr/>
          <p:nvPr/>
        </p:nvPicPr>
        <p:blipFill>
          <a:blip r:embed="rId2"/>
          <a:stretch/>
        </p:blipFill>
        <p:spPr>
          <a:xfrm>
            <a:off x="523800" y="1676520"/>
            <a:ext cx="4865760" cy="4760640"/>
          </a:xfrm>
          <a:prstGeom prst="rect">
            <a:avLst/>
          </a:prstGeom>
          <a:ln w="0">
            <a:noFill/>
          </a:ln>
        </p:spPr>
      </p:pic>
      <p:pic>
        <p:nvPicPr>
          <p:cNvPr id="368" name="Содержимое 5" descr=""/>
          <p:cNvPicPr/>
          <p:nvPr/>
        </p:nvPicPr>
        <p:blipFill>
          <a:blip r:embed="rId3"/>
          <a:stretch/>
        </p:blipFill>
        <p:spPr>
          <a:xfrm>
            <a:off x="5473800" y="1676520"/>
            <a:ext cx="4865760" cy="476064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6"/>
          <p:cNvSpPr/>
          <p:nvPr/>
        </p:nvSpPr>
        <p:spPr>
          <a:xfrm>
            <a:off x="542880" y="1028880"/>
            <a:ext cx="1500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5472000" y="1100160"/>
            <a:ext cx="1643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20240" y="1886040"/>
            <a:ext cx="9780840" cy="235728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8000" spc="-1" strike="noStrike">
                <a:solidFill>
                  <a:srgbClr val="d2990c"/>
                </a:solidFill>
                <a:latin typeface="Times New Roman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42520" y="171360"/>
            <a:ext cx="9858600" cy="157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br>
              <a:rPr sz="2100"/>
            </a:br>
            <a:r>
              <a:rPr b="0" lang="ru-RU" sz="3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Доходы бюджета Нагорского муниципального района на 2015 год и на плановый период 2016-2017 годов, тыс. рубле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Диаграмма 2"/>
          <p:cNvGraphicFramePr/>
          <p:nvPr/>
        </p:nvGraphicFramePr>
        <p:xfrm>
          <a:off x="971640" y="2243160"/>
          <a:ext cx="6715080" cy="43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" name="Диаграмма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243160"/>
                    <a:ext cx="671508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Picture 4" descr="C:\Users\ВодоносоваЕЮ\Desktop\i.jpg"/>
          <p:cNvPicPr/>
          <p:nvPr/>
        </p:nvPicPr>
        <p:blipFill>
          <a:blip r:embed="rId5"/>
          <a:stretch/>
        </p:blipFill>
        <p:spPr>
          <a:xfrm>
            <a:off x="7758000" y="2957400"/>
            <a:ext cx="3043440" cy="3143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3"/>
          <p:cNvSpPr/>
          <p:nvPr/>
        </p:nvSpPr>
        <p:spPr>
          <a:xfrm>
            <a:off x="757080" y="239760"/>
            <a:ext cx="9864720" cy="1431720"/>
          </a:xfrm>
          <a:prstGeom prst="flowChartAlternateProcess">
            <a:avLst/>
          </a:prstGeom>
          <a:solidFill>
            <a:srgbClr val="fcfbf9">
              <a:alpha val="49000"/>
            </a:srgbClr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Times New Roman"/>
              </a:rPr>
              <a:t>Динамика собственных доходов бюдж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Times New Roman"/>
              </a:rPr>
              <a:t>Нагорского муниципального района на 2015 год и планов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i="1" lang="ru-RU" sz="2800" spc="-1" strike="noStrike">
                <a:solidFill>
                  <a:srgbClr val="c0504d"/>
                </a:solidFill>
                <a:latin typeface="Times New Roman"/>
              </a:rPr>
              <a:t>период 2016-2017 г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720720" y="1760400"/>
            <a:ext cx="9901080" cy="4561200"/>
          </a:xfrm>
          <a:prstGeom prst="flowChartProcess">
            <a:avLst/>
          </a:prstGeom>
          <a:solidFill>
            <a:srgbClr val="c0c0c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2960" rIns="102960" tIns="51480" bIns="51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Object 19" descr=""/>
          <p:cNvPicPr/>
          <p:nvPr/>
        </p:nvPicPr>
        <p:blipFill>
          <a:blip r:embed="rId1"/>
          <a:stretch/>
        </p:blipFill>
        <p:spPr>
          <a:xfrm>
            <a:off x="781200" y="1743120"/>
            <a:ext cx="10020240" cy="46753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7561440" y="2087640"/>
            <a:ext cx="2609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399960" y="6600960"/>
            <a:ext cx="270000" cy="3189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C:\Users\ВодоносоваЕЮ\Desktop\edge-incused-lettering-300x212.jpg"/>
          <p:cNvPicPr/>
          <p:nvPr/>
        </p:nvPicPr>
        <p:blipFill>
          <a:blip r:embed="rId2"/>
          <a:stretch/>
        </p:blipFill>
        <p:spPr>
          <a:xfrm>
            <a:off x="7186680" y="4314960"/>
            <a:ext cx="2857320" cy="1928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2520" y="314280"/>
            <a:ext cx="9721800" cy="120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Налоговые поступления в доходной части бюджета Нагорского муниципального района на 2015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Багетная рамка 2"/>
          <p:cNvSpPr/>
          <p:nvPr/>
        </p:nvSpPr>
        <p:spPr>
          <a:xfrm>
            <a:off x="614520" y="2028960"/>
            <a:ext cx="4929120" cy="571320"/>
          </a:xfrm>
          <a:prstGeom prst="bevel">
            <a:avLst>
              <a:gd name="adj" fmla="val 12500"/>
            </a:avLst>
          </a:prstGeom>
          <a:solidFill>
            <a:srgbClr val="f8f7f3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 Black"/>
                <a:ea typeface="Aharoni"/>
              </a:rPr>
              <a:t>Налог на доходы физических лиц, тыс.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агетная рамка 3"/>
          <p:cNvSpPr/>
          <p:nvPr/>
        </p:nvSpPr>
        <p:spPr>
          <a:xfrm>
            <a:off x="614520" y="2814480"/>
            <a:ext cx="4929120" cy="571680"/>
          </a:xfrm>
          <a:prstGeom prst="bevel">
            <a:avLst>
              <a:gd name="adj" fmla="val 12500"/>
            </a:avLst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ac090"/>
                </a:solidFill>
                <a:latin typeface="Arial Black"/>
                <a:ea typeface="Aharoni"/>
              </a:rPr>
              <a:t>Акцизы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Багетная рамка 4" descr=""/>
          <p:cNvPicPr/>
          <p:nvPr/>
        </p:nvPicPr>
        <p:blipFill>
          <a:blip r:embed="rId1"/>
          <a:stretch/>
        </p:blipFill>
        <p:spPr>
          <a:xfrm>
            <a:off x="596880" y="3645000"/>
            <a:ext cx="4962600" cy="615960"/>
          </a:xfrm>
          <a:prstGeom prst="rect">
            <a:avLst/>
          </a:prstGeom>
          <a:ln w="0">
            <a:noFill/>
          </a:ln>
        </p:spPr>
      </p:pic>
      <p:sp>
        <p:nvSpPr>
          <p:cNvPr id="79" name="Багетная рамка 5"/>
          <p:cNvSpPr/>
          <p:nvPr/>
        </p:nvSpPr>
        <p:spPr>
          <a:xfrm>
            <a:off x="614520" y="4457880"/>
            <a:ext cx="4929120" cy="571320"/>
          </a:xfrm>
          <a:prstGeom prst="bevel">
            <a:avLst>
              <a:gd name="adj" fmla="val 1250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Arial Black"/>
              </a:rPr>
              <a:t>Единый налог на вмененный доход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агетная рамка 6"/>
          <p:cNvSpPr/>
          <p:nvPr/>
        </p:nvSpPr>
        <p:spPr>
          <a:xfrm>
            <a:off x="3257640" y="5386320"/>
            <a:ext cx="571320" cy="4608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11160" bIns="-11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агетная рамка 7"/>
          <p:cNvSpPr/>
          <p:nvPr/>
        </p:nvSpPr>
        <p:spPr>
          <a:xfrm>
            <a:off x="614520" y="5100480"/>
            <a:ext cx="4929120" cy="642960"/>
          </a:xfrm>
          <a:prstGeom prst="bevel">
            <a:avLst>
              <a:gd name="adj" fmla="val 1250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 Black"/>
              </a:rPr>
              <a:t>Налог на имущество организаций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агетная рамка 8"/>
          <p:cNvSpPr/>
          <p:nvPr/>
        </p:nvSpPr>
        <p:spPr>
          <a:xfrm>
            <a:off x="614520" y="5958000"/>
            <a:ext cx="492912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2b482"/>
                </a:solidFill>
                <a:latin typeface="Arial Black"/>
              </a:rPr>
              <a:t>Госпошлина, тыс. ру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Стрелка вверх 9"/>
          <p:cNvGrpSpPr/>
          <p:nvPr/>
        </p:nvGrpSpPr>
        <p:grpSpPr>
          <a:xfrm>
            <a:off x="7351560" y="1779480"/>
            <a:ext cx="3492720" cy="4919760"/>
            <a:chOff x="7351560" y="1779480"/>
            <a:chExt cx="3492720" cy="4919760"/>
          </a:xfrm>
        </p:grpSpPr>
        <p:pic>
          <p:nvPicPr>
            <p:cNvPr id="84" name="Стрелка вверх 9" descr=""/>
            <p:cNvPicPr/>
            <p:nvPr/>
          </p:nvPicPr>
          <p:blipFill>
            <a:blip r:embed="rId2"/>
            <a:stretch/>
          </p:blipFill>
          <p:spPr>
            <a:xfrm>
              <a:off x="7351560" y="1779480"/>
              <a:ext cx="3492720" cy="49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51920" y="2664000"/>
              <a:ext cx="1700280" cy="40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Прогнозные поступления налоговых доходов на 2015 год составляют </a:t>
              </a: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31147,3</a:t>
              </a:r>
              <a:r>
                <a:rPr b="0" lang="ru-RU" sz="1600" spc="-1" strike="noStrike">
                  <a:solidFill>
                    <a:srgbClr val="632523"/>
                  </a:solidFill>
                  <a:latin typeface="Arial Black"/>
                </a:rPr>
                <a:t> тыс. ру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Стрелка вправо с вырезом 10"/>
          <p:cNvSpPr/>
          <p:nvPr/>
        </p:nvSpPr>
        <p:spPr>
          <a:xfrm>
            <a:off x="5900760" y="1814400"/>
            <a:ext cx="1571760" cy="785880"/>
          </a:xfrm>
          <a:custGeom>
            <a:avLst/>
            <a:gdLst>
              <a:gd name="textAreaLeft" fmla="*/ 196200 w 1571760"/>
              <a:gd name="textAreaRight" fmla="*/ 1375560 w 1571760"/>
              <a:gd name="textAreaTop" fmla="*/ 196560 h 785880"/>
              <a:gd name="textAreaBottom" fmla="*/ 589680 h 785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0272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право с вырезом 12"/>
          <p:cNvSpPr/>
          <p:nvPr/>
        </p:nvSpPr>
        <p:spPr>
          <a:xfrm>
            <a:off x="6043680" y="2671920"/>
            <a:ext cx="1428840" cy="714240"/>
          </a:xfrm>
          <a:custGeom>
            <a:avLst/>
            <a:gdLst>
              <a:gd name="textAreaLeft" fmla="*/ 178560 w 1428840"/>
              <a:gd name="textAreaRight" fmla="*/ 1250280 w 1428840"/>
              <a:gd name="textAreaTop" fmla="*/ 178560 h 714240"/>
              <a:gd name="textAreaBottom" fmla="*/ 535680 h 714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00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право с вырезом 13"/>
          <p:cNvSpPr/>
          <p:nvPr/>
        </p:nvSpPr>
        <p:spPr>
          <a:xfrm>
            <a:off x="5972040" y="3529080"/>
            <a:ext cx="1500480" cy="714240"/>
          </a:xfrm>
          <a:custGeom>
            <a:avLst/>
            <a:gdLst>
              <a:gd name="textAreaLeft" fmla="*/ 178560 w 1500480"/>
              <a:gd name="textAreaRight" fmla="*/ 1321920 w 1500480"/>
              <a:gd name="textAreaTop" fmla="*/ 178560 h 714240"/>
              <a:gd name="textAreaBottom" fmla="*/ 535680 h 714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57" y="5400"/>
                </a:lnTo>
                <a:lnTo>
                  <a:pt x="16457" y="0"/>
                </a:lnTo>
                <a:lnTo>
                  <a:pt x="21600" y="10800"/>
                </a:lnTo>
                <a:lnTo>
                  <a:pt x="16457" y="21600"/>
                </a:lnTo>
                <a:lnTo>
                  <a:pt x="16457" y="16200"/>
                </a:lnTo>
                <a:lnTo>
                  <a:pt x="0" y="16200"/>
                </a:lnTo>
                <a:lnTo>
                  <a:pt x="257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11156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трелка вправо с вырезом 14"/>
          <p:cNvSpPr/>
          <p:nvPr/>
        </p:nvSpPr>
        <p:spPr>
          <a:xfrm>
            <a:off x="6043680" y="4457880"/>
            <a:ext cx="1428840" cy="698400"/>
          </a:xfrm>
          <a:custGeom>
            <a:avLst/>
            <a:gdLst>
              <a:gd name="textAreaLeft" fmla="*/ 174600 w 1428840"/>
              <a:gd name="textAreaRight" fmla="*/ 1254240 w 1428840"/>
              <a:gd name="textAreaTop" fmla="*/ 174600 h 698400"/>
              <a:gd name="textAreaBottom" fmla="*/ 5238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320" y="5400"/>
                </a:lnTo>
                <a:lnTo>
                  <a:pt x="16320" y="0"/>
                </a:lnTo>
                <a:lnTo>
                  <a:pt x="21600" y="10800"/>
                </a:lnTo>
                <a:lnTo>
                  <a:pt x="16320" y="21600"/>
                </a:lnTo>
                <a:lnTo>
                  <a:pt x="16320" y="16200"/>
                </a:lnTo>
                <a:lnTo>
                  <a:pt x="0" y="16200"/>
                </a:lnTo>
                <a:lnTo>
                  <a:pt x="264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44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трелка вправо с вырезом 15"/>
          <p:cNvSpPr/>
          <p:nvPr/>
        </p:nvSpPr>
        <p:spPr>
          <a:xfrm>
            <a:off x="6043680" y="5172120"/>
            <a:ext cx="1500120" cy="714240"/>
          </a:xfrm>
          <a:custGeom>
            <a:avLst/>
            <a:gdLst>
              <a:gd name="textAreaLeft" fmla="*/ 178560 w 1500120"/>
              <a:gd name="textAreaRight" fmla="*/ 1321560 w 1500120"/>
              <a:gd name="textAreaTop" fmla="*/ 178560 h 714240"/>
              <a:gd name="textAreaBottom" fmla="*/ 535680 h 714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457" y="5400"/>
                </a:lnTo>
                <a:lnTo>
                  <a:pt x="16457" y="0"/>
                </a:lnTo>
                <a:lnTo>
                  <a:pt x="21600" y="10800"/>
                </a:lnTo>
                <a:lnTo>
                  <a:pt x="16457" y="21600"/>
                </a:lnTo>
                <a:lnTo>
                  <a:pt x="16457" y="16200"/>
                </a:lnTo>
                <a:lnTo>
                  <a:pt x="0" y="16200"/>
                </a:lnTo>
                <a:lnTo>
                  <a:pt x="2572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74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право с вырезом 16"/>
          <p:cNvSpPr/>
          <p:nvPr/>
        </p:nvSpPr>
        <p:spPr>
          <a:xfrm>
            <a:off x="5972040" y="6029280"/>
            <a:ext cx="1571760" cy="698400"/>
          </a:xfrm>
          <a:custGeom>
            <a:avLst/>
            <a:gdLst>
              <a:gd name="textAreaLeft" fmla="*/ 174600 w 1571760"/>
              <a:gd name="textAreaRight" fmla="*/ 1397160 w 1571760"/>
              <a:gd name="textAreaTop" fmla="*/ 174600 h 698400"/>
              <a:gd name="textAreaBottom" fmla="*/ 5238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00" y="5400"/>
                </a:lnTo>
                <a:lnTo>
                  <a:pt x="16800" y="0"/>
                </a:lnTo>
                <a:lnTo>
                  <a:pt x="21600" y="10800"/>
                </a:lnTo>
                <a:lnTo>
                  <a:pt x="16800" y="21600"/>
                </a:lnTo>
                <a:lnTo>
                  <a:pt x="16800" y="16200"/>
                </a:lnTo>
                <a:lnTo>
                  <a:pt x="0" y="16200"/>
                </a:lnTo>
                <a:lnTo>
                  <a:pt x="24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6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4520" y="314280"/>
            <a:ext cx="9929520" cy="12002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6200000"/>
          </a:grad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равнительный анализ прогноза поступлений налоговых доходов в 2015 году с оценкой поступлений 2014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57560" y="1743120"/>
          <a:ext cx="8358120" cy="4821120"/>
        </p:xfrm>
        <a:graphic>
          <a:graphicData uri="http://schemas.openxmlformats.org/drawingml/2006/table">
            <a:tbl>
              <a:tblPr/>
              <a:tblGrid>
                <a:gridCol w="2473200"/>
                <a:gridCol w="1071720"/>
                <a:gridCol w="988920"/>
                <a:gridCol w="823680"/>
                <a:gridCol w="1071720"/>
                <a:gridCol w="988920"/>
                <a:gridCol w="939960"/>
              </a:tblGrid>
              <a:tr h="533160"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показ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 поступлений 20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ноз на 2015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руктура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клонение прогноза 2015 г к оценке 2014 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су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овые доходы, всего, 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0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4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7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488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9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7866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, применяемый при упрощенной системе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5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иный налог на вменен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52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ог на имущество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</a:tr>
              <a:tr h="4302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94" name="Picture 4" descr="C:\Users\ВодоносоваЕЮ\Desktop\Found_020913.jpg"/>
          <p:cNvPicPr/>
          <p:nvPr/>
        </p:nvPicPr>
        <p:blipFill>
          <a:blip r:embed="rId36"/>
          <a:stretch/>
        </p:blipFill>
        <p:spPr>
          <a:xfrm>
            <a:off x="399960" y="3529080"/>
            <a:ext cx="1714680" cy="2643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6" descr=""/>
          <p:cNvPicPr/>
          <p:nvPr/>
        </p:nvPicPr>
        <p:blipFill>
          <a:blip r:embed="rId1"/>
          <a:stretch/>
        </p:blipFill>
        <p:spPr>
          <a:xfrm>
            <a:off x="8640720" y="216000"/>
            <a:ext cx="1905120" cy="142848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pic>
        <p:nvPicPr>
          <p:cNvPr id="96" name="Picture 15" descr=""/>
          <p:cNvPicPr/>
          <p:nvPr/>
        </p:nvPicPr>
        <p:blipFill>
          <a:blip r:embed="rId2"/>
          <a:stretch/>
        </p:blipFill>
        <p:spPr>
          <a:xfrm>
            <a:off x="216000" y="4968720"/>
            <a:ext cx="2448000" cy="2016360"/>
          </a:xfrm>
          <a:prstGeom prst="rect">
            <a:avLst/>
          </a:prstGeom>
          <a:ln cap="rnd" w="25560">
            <a:solidFill>
              <a:srgbClr val="993300"/>
            </a:solidFill>
            <a:custDash>
              <a:ds d="100000" sp="1000"/>
            </a:custDash>
            <a:miter/>
          </a:ln>
        </p:spPr>
      </p:pic>
      <p:sp>
        <p:nvSpPr>
          <p:cNvPr id="97" name="AutoShape 7"/>
          <p:cNvSpPr/>
          <p:nvPr/>
        </p:nvSpPr>
        <p:spPr>
          <a:xfrm>
            <a:off x="179280" y="3760920"/>
            <a:ext cx="2611440" cy="2239920"/>
          </a:xfrm>
          <a:custGeom>
            <a:avLst/>
            <a:gdLst>
              <a:gd name="textAreaLeft" fmla="*/ 349560 w 2611440"/>
              <a:gd name="textAreaRight" fmla="*/ 2261880 w 2611440"/>
              <a:gd name="textAreaTop" fmla="*/ 392040 h 2239920"/>
              <a:gd name="textAreaBottom" fmla="*/ 1623960 h 223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5400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AutoShape 22"/>
          <p:cNvGrpSpPr/>
          <p:nvPr/>
        </p:nvGrpSpPr>
        <p:grpSpPr>
          <a:xfrm>
            <a:off x="1400040" y="2957400"/>
            <a:ext cx="8951400" cy="3571200"/>
            <a:chOff x="1400040" y="2957400"/>
            <a:chExt cx="8951400" cy="3571200"/>
          </a:xfrm>
        </p:grpSpPr>
        <p:pic>
          <p:nvPicPr>
            <p:cNvPr id="99" name="AutoShape 22" descr=""/>
            <p:cNvPicPr/>
            <p:nvPr/>
          </p:nvPicPr>
          <p:blipFill>
            <a:blip r:embed="rId3"/>
            <a:stretch/>
          </p:blipFill>
          <p:spPr>
            <a:xfrm>
              <a:off x="1400040" y="2957400"/>
              <a:ext cx="8951400" cy="357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8"/>
            <p:cNvSpPr/>
            <p:nvPr/>
          </p:nvSpPr>
          <p:spPr>
            <a:xfrm>
              <a:off x="1792800" y="3179520"/>
              <a:ext cx="8132400" cy="29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Плановые  показатели поступления НДФЛ рассчитаны с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использованием показателя темпа роста оплаты труда,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с применением сложившейся ставки налога за 2013 год, исчислен-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ной исходя из поступлений налога (за исключением разовых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поступлений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По отношению к оценке 2014 г. на 0,4%,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 2016 г. на 7%, в 2017 г. снижение на 8%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AutoShape 11"/>
          <p:cNvSpPr/>
          <p:nvPr/>
        </p:nvSpPr>
        <p:spPr>
          <a:xfrm rot="19974000">
            <a:off x="5819760" y="271440"/>
            <a:ext cx="2852640" cy="1513080"/>
          </a:xfrm>
          <a:custGeom>
            <a:avLst/>
            <a:gdLst>
              <a:gd name="textAreaLeft" fmla="*/ 381960 w 2852640"/>
              <a:gd name="textAreaRight" fmla="*/ 2470680 w 2852640"/>
              <a:gd name="textAreaTop" fmla="*/ 221400 h 1513080"/>
              <a:gd name="textAreaBottom" fmla="*/ 118908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2229770"/>
                <a:lnTo>
                  <a:pt x="7783" y="21175"/>
                </a:lnTo>
                <a:lnTo>
                  <a:pt x="0" y="16391"/>
                </a:lnTo>
                <a:lnTo>
                  <a:pt x="7783" y="10757"/>
                </a:lnTo>
                <a:lnTo>
                  <a:pt x="7783" y="12224"/>
                </a:lnTo>
                <a:arcTo wR="21600" hR="6325" stAng="2229770" swAng="-1502098"/>
                <a:lnTo>
                  <a:pt x="17414" y="10067"/>
                </a:lnTo>
                <a:arcTo wR="21600" hR="6325" stAng="-727672" swAng="-4672328"/>
                <a:close/>
              </a:path>
              <a:path fill="darkenLess" w="21600" h="21600">
                <a:moveTo>
                  <a:pt x="0" y="0"/>
                </a:moveTo>
                <a:arcTo wR="21600" hR="6325" stAng="-5400000" swAng="5400000"/>
                <a:lnTo>
                  <a:pt x="21600" y="13809"/>
                </a:lnTo>
                <a:arcTo wR="21600" hR="6325" stAng="0" swAng="-727672"/>
                <a:lnTo>
                  <a:pt x="17414" y="10067"/>
                </a:lnTo>
                <a:arcTo wR="21600" hR="6325" stAng="-727672" swAng="-4672328"/>
                <a:close/>
              </a:path>
            </a:pathLst>
          </a:custGeom>
          <a:gradFill rotWithShape="0">
            <a:gsLst>
              <a:gs pos="0">
                <a:srgbClr val="eeece1">
                  <a:alpha val="57254"/>
                </a:srgbClr>
              </a:gs>
              <a:gs pos="100000">
                <a:srgbClr val="e2b482"/>
              </a:gs>
            </a:gsLst>
            <a:lin ang="7026000"/>
          </a:gradFill>
          <a:ln cap="rnd" w="15840">
            <a:solidFill>
              <a:srgbClr val="6666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AutoShape 22"/>
          <p:cNvGrpSpPr/>
          <p:nvPr/>
        </p:nvGrpSpPr>
        <p:grpSpPr>
          <a:xfrm>
            <a:off x="1042920" y="385920"/>
            <a:ext cx="5929200" cy="2285640"/>
            <a:chOff x="1042920" y="385920"/>
            <a:chExt cx="5929200" cy="2285640"/>
          </a:xfrm>
        </p:grpSpPr>
        <p:pic>
          <p:nvPicPr>
            <p:cNvPr id="103" name="AutoShape 22" descr=""/>
            <p:cNvPicPr/>
            <p:nvPr/>
          </p:nvPicPr>
          <p:blipFill>
            <a:blip r:embed="rId4"/>
            <a:stretch/>
          </p:blipFill>
          <p:spPr>
            <a:xfrm>
              <a:off x="1042920" y="385920"/>
              <a:ext cx="5929200" cy="22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8"/>
            <p:cNvSpPr/>
            <p:nvPr/>
          </p:nvSpPr>
          <p:spPr>
            <a:xfrm>
              <a:off x="1501920" y="527760"/>
              <a:ext cx="5134680" cy="187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560" rIns="115560" tIns="57960" bIns="57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Второй по наибольшему удельному весу в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доходной базе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бюджета из числа налоговых доходов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1" i="1" lang="ru-RU" sz="2300" spc="-1" strike="noStrike">
                  <a:solidFill>
                    <a:srgbClr val="000000"/>
                  </a:solidFill>
                  <a:latin typeface="Times New Roman"/>
                </a:rPr>
                <a:t>занимает НДФЛ – 33%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288720"/>
            <a:ext cx="9721800" cy="119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102960" rIns="10296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доимка по налоговым доходам, предусмотренным в бюджете Нагорского муниципального района в 2015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Вертикальный свиток 2"/>
          <p:cNvGrpSpPr/>
          <p:nvPr/>
        </p:nvGrpSpPr>
        <p:grpSpPr>
          <a:xfrm>
            <a:off x="2627280" y="1616040"/>
            <a:ext cx="7473960" cy="3041640"/>
            <a:chOff x="2627280" y="1616040"/>
            <a:chExt cx="7473960" cy="3041640"/>
          </a:xfrm>
        </p:grpSpPr>
        <p:pic>
          <p:nvPicPr>
            <p:cNvPr id="107" name="Вертикальный свиток 2" descr=""/>
            <p:cNvPicPr/>
            <p:nvPr/>
          </p:nvPicPr>
          <p:blipFill>
            <a:blip r:embed="rId2"/>
            <a:stretch/>
          </p:blipFill>
          <p:spPr>
            <a:xfrm>
              <a:off x="2627280" y="1616040"/>
              <a:ext cx="747396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105000" y="2090880"/>
              <a:ext cx="6519960" cy="22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В прогнозе налоговых доходов бюджета Нагорского муниципального района на 2015 год учтена недоимка по налоговым платежам без учета недоимки отсутствующих должников, организаций, не осуществляющих деятельность, а также находящихся в процедурах банкротства или направивших заявления Арбитражный суд о признании банкрот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Овал 3"/>
          <p:cNvGrpSpPr/>
          <p:nvPr/>
        </p:nvGrpSpPr>
        <p:grpSpPr>
          <a:xfrm>
            <a:off x="738360" y="4863960"/>
            <a:ext cx="2968560" cy="1901880"/>
            <a:chOff x="738360" y="4863960"/>
            <a:chExt cx="2968560" cy="1901880"/>
          </a:xfrm>
        </p:grpSpPr>
        <p:pic>
          <p:nvPicPr>
            <p:cNvPr id="110" name="Овал 3" descr=""/>
            <p:cNvPicPr/>
            <p:nvPr/>
          </p:nvPicPr>
          <p:blipFill>
            <a:blip r:embed="rId3"/>
            <a:stretch/>
          </p:blipFill>
          <p:spPr>
            <a:xfrm>
              <a:off x="738360" y="4863960"/>
              <a:ext cx="296856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287360" y="5259240"/>
              <a:ext cx="186876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Налог на доходы физических лиц </a:t>
              </a:r>
              <a:r>
                <a:rPr b="1" i="1" lang="ru-RU" sz="1800" spc="-1" strike="noStrike" u="sng">
                  <a:solidFill>
                    <a:srgbClr val="ffffff"/>
                  </a:solidFill>
                  <a:uFillTx/>
                  <a:latin typeface="Calibri"/>
                </a:rPr>
                <a:t>60,6</a:t>
              </a: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Овал 4"/>
          <p:cNvGrpSpPr/>
          <p:nvPr/>
        </p:nvGrpSpPr>
        <p:grpSpPr>
          <a:xfrm>
            <a:off x="3809880" y="4863960"/>
            <a:ext cx="3181320" cy="1901880"/>
            <a:chOff x="3809880" y="4863960"/>
            <a:chExt cx="3181320" cy="1901880"/>
          </a:xfrm>
        </p:grpSpPr>
        <p:pic>
          <p:nvPicPr>
            <p:cNvPr id="113" name="Овал 4" descr=""/>
            <p:cNvPicPr/>
            <p:nvPr/>
          </p:nvPicPr>
          <p:blipFill>
            <a:blip r:embed="rId4"/>
            <a:stretch/>
          </p:blipFill>
          <p:spPr>
            <a:xfrm>
              <a:off x="3809880" y="4863960"/>
              <a:ext cx="318132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390920" y="5259240"/>
              <a:ext cx="201924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УСН- </a:t>
              </a:r>
              <a:r>
                <a:rPr b="1" i="1" lang="ru-RU" sz="1800" spc="-1" strike="noStrike" u="sng">
                  <a:solidFill>
                    <a:srgbClr val="ffffff"/>
                  </a:solidFill>
                  <a:uFillTx/>
                  <a:latin typeface="Calibri"/>
                </a:rPr>
                <a:t>420,8</a:t>
              </a: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Овал 6"/>
          <p:cNvGrpSpPr/>
          <p:nvPr/>
        </p:nvGrpSpPr>
        <p:grpSpPr>
          <a:xfrm>
            <a:off x="7023240" y="5005440"/>
            <a:ext cx="3114360" cy="1901880"/>
            <a:chOff x="7023240" y="5005440"/>
            <a:chExt cx="3114360" cy="1901880"/>
          </a:xfrm>
        </p:grpSpPr>
        <p:pic>
          <p:nvPicPr>
            <p:cNvPr id="116" name="Овал 6" descr=""/>
            <p:cNvPicPr/>
            <p:nvPr/>
          </p:nvPicPr>
          <p:blipFill>
            <a:blip r:embed="rId5"/>
            <a:stretch/>
          </p:blipFill>
          <p:spPr>
            <a:xfrm>
              <a:off x="7023240" y="5005440"/>
              <a:ext cx="311436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594560" y="5402160"/>
              <a:ext cx="1970280" cy="11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ЕНВД- </a:t>
              </a:r>
              <a:r>
                <a:rPr b="1" i="1" lang="ru-RU" sz="1800" spc="-1" strike="noStrike" u="sng">
                  <a:solidFill>
                    <a:srgbClr val="ffffff"/>
                  </a:solidFill>
                  <a:uFillTx/>
                  <a:latin typeface="Calibri"/>
                </a:rPr>
                <a:t>59,9</a:t>
              </a:r>
              <a:r>
                <a:rPr b="1" i="1" lang="ru-RU" sz="1800" spc="-1" strike="noStrike">
                  <a:solidFill>
                    <a:srgbClr val="ffffff"/>
                  </a:solidFill>
                  <a:latin typeface="Calibri"/>
                </a:rPr>
                <a:t> тыс. рубл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2" descr="C:\Users\ВодоносоваЕЮ\Desktop\i.jpg"/>
          <p:cNvPicPr/>
          <p:nvPr/>
        </p:nvPicPr>
        <p:blipFill>
          <a:blip r:embed="rId6"/>
          <a:stretch/>
        </p:blipFill>
        <p:spPr>
          <a:xfrm>
            <a:off x="328680" y="1886040"/>
            <a:ext cx="2500200" cy="27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14:50:33Z</dcterms:created>
  <dc:creator>nadeljaeva. .</dc:creator>
  <dc:description/>
  <dc:language>en-US</dc:language>
  <cp:lastModifiedBy>МалыгинаНВ</cp:lastModifiedBy>
  <cp:lastPrinted>2003-10-16T12:19:06Z</cp:lastPrinted>
  <dcterms:modified xsi:type="dcterms:W3CDTF">2015-05-14T13:43:54Z</dcterms:modified>
  <cp:revision>913</cp:revision>
  <dc:subject/>
  <dc:title>Заголовок слайда отсутствует</dc:title>
</cp:coreProperties>
</file>