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3.png" ContentType="image/pn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74.jpeg" ContentType="image/jpeg"/>
  <Override PartName="/ppt/media/image20.jpeg" ContentType="image/jpeg"/>
  <Override PartName="/ppt/media/image18.jpeg" ContentType="image/jpeg"/>
  <Override PartName="/ppt/media/image5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4.png" ContentType="image/png"/>
  <Override PartName="/ppt/media/image11.jpeg" ContentType="image/jpeg"/>
  <Override PartName="/ppt/media/image64.jpeg" ContentType="image/jpeg"/>
  <Override PartName="/ppt/media/image7.jpeg" ContentType="image/jpeg"/>
  <Override PartName="/ppt/media/image81.png" ContentType="image/png"/>
  <Override PartName="/ppt/media/image80.png" ContentType="image/png"/>
  <Override PartName="/ppt/media/image8.png" ContentType="image/png"/>
  <Override PartName="/ppt/media/image39.jpeg" ContentType="image/jpeg"/>
  <Override PartName="/ppt/media/image77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75.png" ContentType="image/png"/>
  <Override PartName="/ppt/media/image38.jpeg" ContentType="image/jpeg"/>
  <Override PartName="/ppt/media/image72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69.jpeg" ContentType="image/jpeg"/>
  <Override PartName="/ppt/media/image67.jpeg" ContentType="image/jpeg"/>
  <Override PartName="/ppt/media/image26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AF8B683-516E-4C2F-B8BE-AD14775DA2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6F3A01C-D417-48D2-8AE2-6BFDB2ADB1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23D6018-E368-4535-A3C9-4379D77E5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452A6C1-9553-422D-B0FC-0B1CF3EC8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61548FF-7B1E-4D78-A475-1B251F5E63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ED61073-209D-44AF-BBCE-AD67ED02B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E71B941-7BD6-4ACC-AE6F-3F33D6F49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F63F5D6-8B75-47F0-8AFD-FA38D3925B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6D4-82FB-4AAC-82E9-CE7F1477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D07-7107-400A-AEEE-129DF07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97C-980E-4334-844C-CCC5BA48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7EE-93BD-4643-9014-5C8BBBB8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3AF-00F5-4147-8A92-17B6DD2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F3F-84F7-4B5B-8ABA-BC82525F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2B3-09F1-44BA-A242-51E56B0E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C3D-0CF1-4A21-8665-CD1F207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F97-7ACC-4AE3-B948-0BC819D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453-7017-4D42-AC83-3A80037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F81-4EC0-4746-B974-772EE0E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716-B448-4154-A1E3-4A00C40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985-6355-40BC-A098-61B2DE2746F6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1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2 и 2023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6 078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6 916,8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2 420,5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1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2 и 2023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2 и 2023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1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0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12,1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2082,48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57123,86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8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1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2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4,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48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934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02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 2023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2023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1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2 и 2023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ile"/>
          <p:cNvSpPr/>
          <p:nvPr/>
        </p:nvSpPr>
        <p:spPr>
          <a:xfrm>
            <a:off x="936720" y="1886040"/>
            <a:ext cx="2950920" cy="235728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505080 h 2357280"/>
              <a:gd name="textAreaBottom" fmla="*/ 2214360 h 2357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2" name="File"/>
          <p:cNvSpPr/>
          <p:nvPr/>
        </p:nvSpPr>
        <p:spPr>
          <a:xfrm>
            <a:off x="4043520" y="1957320"/>
            <a:ext cx="2950920" cy="2311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495000 h 2311560"/>
              <a:gd name="textAreaBottom" fmla="*/ 2171520 h 2311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ile"/>
          <p:cNvSpPr/>
          <p:nvPr/>
        </p:nvSpPr>
        <p:spPr>
          <a:xfrm>
            <a:off x="7186680" y="1957320"/>
            <a:ext cx="3000240" cy="2286000"/>
          </a:xfrm>
          <a:custGeom>
            <a:avLst/>
            <a:gdLst>
              <a:gd name="textAreaLeft" fmla="*/ 150840 w 3000240"/>
              <a:gd name="textAreaRight" fmla="*/ 2866320 w 3000240"/>
              <a:gd name="textAreaTop" fmla="*/ 489600 h 2286000"/>
              <a:gd name="textAreaBottom" fmla="*/ 2147400 h 2286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5613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278,7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7438,55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0689,3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1,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664,0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649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9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0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1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890,7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5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40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2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6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7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69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5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0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9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1835,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4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0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1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3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,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794,5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794,5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602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202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587,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287,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2 и 2023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2 и 2023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1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296856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0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0 236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03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7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7 18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64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4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57,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4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43040" y="5138640"/>
            <a:ext cx="4809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1 году к прогнозу 2020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1 г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0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2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7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6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0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185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8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73 995,1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1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3 036,1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0 года снижение на 4,8% или 656,5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1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1 году его наполнение по администрируемым неналоговыми доходами в сумме 3 763,8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6 715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0 года – 9 326,7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1 год -10 479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84360" y="1440000"/>
          <a:ext cx="8137440" cy="673884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1 год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4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20-11-10T13:28:31Z</dcterms:modified>
  <cp:revision>1144</cp:revision>
  <dc:subject/>
  <dc:title>Заголовок слайда отсутствует</dc:title>
</cp:coreProperties>
</file>