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18.jpeg" ContentType="image/jpeg"/>
  <Override PartName="/ppt/media/image5.jpeg" ContentType="image/jpeg"/>
  <Override PartName="/ppt/media/image20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5.jpeg" ContentType="image/jpeg"/>
  <Override PartName="/ppt/media/image80.png" ContentType="image/png"/>
  <Override PartName="/ppt/media/image39.jpeg" ContentType="image/jpeg"/>
  <Override PartName="/ppt/media/image25.jpeg" ContentType="image/jpeg"/>
  <Override PartName="/ppt/media/image77.png" ContentType="image/png"/>
  <Override PartName="/ppt/media/image74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11.png" ContentType="image/png"/>
  <Override PartName="/ppt/media/image24.png" ContentType="image/png"/>
  <Override PartName="/ppt/media/image68.jpeg" ContentType="image/jpeg"/>
  <Override PartName="/ppt/media/image69.png" ContentType="image/png"/>
  <Override PartName="/ppt/media/image67.jpeg" ContentType="image/jpeg"/>
  <Override PartName="/ppt/media/image17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81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jpeg" ContentType="image/jpeg"/>
  <Override PartName="/ppt/media/image26.png" ContentType="image/png"/>
  <Override PartName="/ppt/media/image31.jpeg" ContentType="image/jpeg"/>
  <Override PartName="/ppt/media/image32.jpeg" ContentType="image/jpeg"/>
  <Override PartName="/ppt/media/image3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50678D4-90A8-4EF5-8DA5-C95764F100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AA40B0B-AF5E-4ADB-9010-67DFDBCB61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1C16599-BF8D-4B11-896F-DFC921FD2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4CD7822-BEB7-40A3-A3FD-DC665FA553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A0DB0B8-73AD-4B7E-A799-5F5AED55A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6625DCB-9052-4D7C-A288-169D8DD09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AB9B05A-5601-441F-AD4E-95BBC7B184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A2A73D4-8795-498F-B40D-C958AB602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FD6-BC34-47C7-A77A-758D072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1E3-177D-4DCE-912E-EDEDA57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B8A-7EC3-468B-9D2A-958938D5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2AC-C8D4-4570-B827-C3C3A4F5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C7D-2157-48A8-AD0D-08EB5658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B07-88ED-4BA8-BC1C-9A5541D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A3A-43E5-41CE-AF0E-6FB181F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801-CF7D-4D0A-8BC2-6A3594F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7D0-5C2A-4ADF-B9A8-05AB45A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04D-F220-4879-975A-77E1CAC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83E-1E21-4CA8-B4BF-A170369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5EA-F99D-424D-8F1A-E714FC0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DB9-07CF-4C31-9448-761CF03E6C13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7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2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3 и 2024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1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2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4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18 862,29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5 253,7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7 301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2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3 и 2024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3 и 2024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0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3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6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2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2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5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38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39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0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3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1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6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48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4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82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6237,2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69871,09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7,2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2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0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2,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2,4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с двумя скругленными противолежащими углами 22"/>
          <p:cNvSpPr/>
          <p:nvPr/>
        </p:nvSpPr>
        <p:spPr>
          <a:xfrm>
            <a:off x="614520" y="2671920"/>
            <a:ext cx="5572080" cy="39290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2"/>
          <p:cNvSpPr/>
          <p:nvPr/>
        </p:nvSpPr>
        <p:spPr>
          <a:xfrm>
            <a:off x="7329600" y="417204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82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пожарная безопасность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50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 2024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2024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2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3 и 2024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ile"/>
          <p:cNvSpPr/>
          <p:nvPr/>
        </p:nvSpPr>
        <p:spPr>
          <a:xfrm>
            <a:off x="185760" y="2386080"/>
            <a:ext cx="2500200" cy="200016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160"/>
              <a:gd name="textAreaBottom" fmla="*/ 1878840 h 20001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08" name="File"/>
          <p:cNvSpPr/>
          <p:nvPr/>
        </p:nvSpPr>
        <p:spPr>
          <a:xfrm>
            <a:off x="2900520" y="2386080"/>
            <a:ext cx="2500200" cy="20257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33800 h 2025720"/>
              <a:gd name="textAreaBottom" fmla="*/ 1902960 h 2025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ile"/>
          <p:cNvSpPr/>
          <p:nvPr/>
        </p:nvSpPr>
        <p:spPr>
          <a:xfrm>
            <a:off x="5543640" y="2457360"/>
            <a:ext cx="2500200" cy="20005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520"/>
              <a:gd name="textAreaBottom" fmla="*/ 1879200 h 20005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471600" y="2886120"/>
            <a:ext cx="20714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757840" y="2814480"/>
            <a:ext cx="228600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114720" y="2957400"/>
            <a:ext cx="2071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216" name="File"/>
          <p:cNvSpPr/>
          <p:nvPr/>
        </p:nvSpPr>
        <p:spPr>
          <a:xfrm>
            <a:off x="8258040" y="2457360"/>
            <a:ext cx="2428920" cy="20718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вопросы в обла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3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3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ругие вопросы в области национальной экономик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900480" y="3386160"/>
            <a:ext cx="3714840" cy="1285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443,7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328680" y="2243160"/>
            <a:ext cx="6215040" cy="32860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едение комплексных кадастровых раб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Жилищно-коммунальное хозяй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280" y="1679040"/>
            <a:ext cx="9721800" cy="475308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альтернативный процесс 3"/>
          <p:cNvSpPr/>
          <p:nvPr/>
        </p:nvSpPr>
        <p:spPr>
          <a:xfrm>
            <a:off x="828720" y="1671480"/>
            <a:ext cx="9001080" cy="13575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еспечение мероприятий по переселению граждан из аварийного жилищного фо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трелка вниз 4"/>
          <p:cNvSpPr/>
          <p:nvPr/>
        </p:nvSpPr>
        <p:spPr>
          <a:xfrm>
            <a:off x="2971800" y="3171960"/>
            <a:ext cx="484200" cy="157140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низ 5"/>
          <p:cNvSpPr/>
          <p:nvPr/>
        </p:nvSpPr>
        <p:spPr>
          <a:xfrm>
            <a:off x="7472520" y="3171960"/>
            <a:ext cx="484200" cy="1643040"/>
          </a:xfrm>
          <a:prstGeom prst="down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1614600" y="4957920"/>
            <a:ext cx="3429000" cy="14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Фонда содействия реформированию жилищно-коммунального хозяйства -6958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7"/>
          <p:cNvSpPr/>
          <p:nvPr/>
        </p:nvSpPr>
        <p:spPr>
          <a:xfrm>
            <a:off x="5829480" y="4957920"/>
            <a:ext cx="32860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областного бюджета-63,3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9368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8000,4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4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632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2120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41,09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6431,8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0144,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7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8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663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19,6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122,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3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4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6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2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5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0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 8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4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 2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9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7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507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2431,9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5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8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5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3 и 2024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3" descr="C:\2\i.jpg"/>
          <p:cNvPicPr/>
          <p:nvPr/>
        </p:nvPicPr>
        <p:blipFill>
          <a:blip r:embed="rId1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3 и 2024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Содержимое 4" descr=""/>
          <p:cNvPicPr/>
          <p:nvPr/>
        </p:nvPicPr>
        <p:blipFill>
          <a:blip r:embed="rId1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2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957320"/>
            <a:ext cx="4929120" cy="67788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743200"/>
            <a:ext cx="4929120" cy="35712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330984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986280"/>
            <a:ext cx="4929120" cy="6220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824360"/>
            <a:ext cx="4786200" cy="72072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761080"/>
            <a:ext cx="4929120" cy="696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2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67 111,1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95732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5 09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635200"/>
            <a:ext cx="1428840" cy="604800"/>
          </a:xfrm>
          <a:custGeom>
            <a:avLst/>
            <a:gdLst>
              <a:gd name="textAreaLeft" fmla="*/ 151200 w 1428840"/>
              <a:gd name="textAreaRight" fmla="*/ 1277640 w 1428840"/>
              <a:gd name="textAreaTop" fmla="*/ 151200 h 604800"/>
              <a:gd name="textAreaBottom" fmla="*/ 4536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8" y="5400"/>
                </a:lnTo>
                <a:lnTo>
                  <a:pt x="17028" y="0"/>
                </a:lnTo>
                <a:lnTo>
                  <a:pt x="21600" y="10800"/>
                </a:lnTo>
                <a:lnTo>
                  <a:pt x="17028" y="21600"/>
                </a:lnTo>
                <a:lnTo>
                  <a:pt x="17028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87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349800"/>
            <a:ext cx="1500480" cy="634680"/>
          </a:xfrm>
          <a:custGeom>
            <a:avLst/>
            <a:gdLst>
              <a:gd name="textAreaLeft" fmla="*/ 158760 w 1500480"/>
              <a:gd name="textAreaRight" fmla="*/ 1341720 w 1500480"/>
              <a:gd name="textAreaTop" fmla="*/ 158760 h 634680"/>
              <a:gd name="textAreaBottom" fmla="*/ 476280 h 63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9" y="5400"/>
                </a:lnTo>
                <a:lnTo>
                  <a:pt x="17029" y="0"/>
                </a:lnTo>
                <a:lnTo>
                  <a:pt x="21600" y="10800"/>
                </a:lnTo>
                <a:lnTo>
                  <a:pt x="17029" y="21600"/>
                </a:lnTo>
                <a:lnTo>
                  <a:pt x="17029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2 50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984480"/>
            <a:ext cx="1428840" cy="623880"/>
          </a:xfrm>
          <a:custGeom>
            <a:avLst/>
            <a:gdLst>
              <a:gd name="textAreaLeft" fmla="*/ 155880 w 1428840"/>
              <a:gd name="textAreaRight" fmla="*/ 1272960 w 142884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84" y="5400"/>
                </a:lnTo>
                <a:lnTo>
                  <a:pt x="16884" y="0"/>
                </a:lnTo>
                <a:lnTo>
                  <a:pt x="21600" y="10800"/>
                </a:lnTo>
                <a:lnTo>
                  <a:pt x="16884" y="21600"/>
                </a:lnTo>
                <a:lnTo>
                  <a:pt x="16884" y="16200"/>
                </a:lnTo>
                <a:lnTo>
                  <a:pt x="0" y="16200"/>
                </a:lnTo>
                <a:lnTo>
                  <a:pt x="23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0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1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824360"/>
            <a:ext cx="1536480" cy="720720"/>
          </a:xfrm>
          <a:custGeom>
            <a:avLst/>
            <a:gdLst>
              <a:gd name="textAreaLeft" fmla="*/ 177120 w 1536480"/>
              <a:gd name="textAreaRight" fmla="*/ 1359360 w 15364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15" y="5400"/>
                </a:ln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16615" y="16200"/>
                </a:lnTo>
                <a:lnTo>
                  <a:pt x="0" y="16200"/>
                </a:lnTo>
                <a:lnTo>
                  <a:pt x="24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2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2 году к прогнозу 2021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2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2 г от прогноза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1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24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9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4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9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2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4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53 482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2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5 09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1 года рост на 16,4% или 2 12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98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19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2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2 году его наполнение по администрируемым неналоговыми доходами в сумме 4 693,9 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5 852,2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1 года – 15 294,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2 год -10 546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84360" y="1440000"/>
          <a:ext cx="8137440" cy="674028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2 год от прогноза на 20201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2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5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74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6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8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DELOPROISV</cp:lastModifiedBy>
  <cp:lastPrinted>2003-10-16T12:19:06Z</cp:lastPrinted>
  <dcterms:modified xsi:type="dcterms:W3CDTF">2022-06-06T08:46:10Z</dcterms:modified>
  <cp:revision>1175</cp:revision>
  <dc:subject/>
  <dc:title>Заголовок слайда отсутствует</dc:title>
</cp:coreProperties>
</file>