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A6E6-83DB-4B75-A958-978847C30E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FFA8-236B-445F-8335-DC0547BC03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2F42-9B4E-4155-8D0D-5DAA9A9AC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E6A2-5642-43A7-8464-DAEF7CA8C8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5ED-5F7C-40FC-9C0F-C0C29924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954-D6B9-4CD2-A532-E89868D5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0234-85A3-46EE-BD61-E57B4DF5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B02-D645-41DB-B372-12B68213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2849B-3E3F-41C9-BD42-D7F1F930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F6FDB-C2A8-42A5-BEA4-50BB1CF6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15016-4DEF-48DF-B1F4-3090A039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96849-3BB2-4E52-8AC0-D0B250AE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799DD-716E-4BD7-907C-25D50FE3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0F727-86F5-4786-8084-39412CDC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3B75E-3490-4E6D-BB5D-0F2E8387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80F-B06F-48E6-9EC1-F3FF9192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595A4-D6E9-4F87-9E10-E48EA28C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CCCAA-D84A-4C60-BCF3-304391FD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0E077-DD75-4127-AE94-916BF716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D3999-12CC-460C-A163-492AE7A9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AFDB7-689B-4049-92A6-4E4F507C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0E574-51F0-4676-B625-0EDC343A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D4E47-21EC-4706-85D3-0331CA60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3C15E-ED16-4D8B-B01E-1ED8255D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FE39D-235B-4C73-9E44-BDF72597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91D9B-186B-47F2-ACE8-B4045F17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D90-EF74-458F-8498-B9CFA855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A613A-455D-4CE2-A1E9-23B61159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25CEE-D379-4E4D-9E20-2E22303D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F621A-3C05-43EF-9179-1D18B8D4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F2294-B5B9-4705-94F1-382EF27A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91296-D2B7-4A53-8900-8714E8E7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28C9D-5694-45F5-BC37-13A686D7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AAC87-FFCD-48DE-8809-8041E2A6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BBB-DBB9-47A2-84FF-56DC0F4F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404-872D-4AE8-BC07-AF6F8388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6F1-6D63-47C2-AE02-8FDA5CBA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D833-8F37-4D35-987B-21907C9C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0479-92B9-496D-8967-45BB00C5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F4F-D35F-43F8-842B-1544DC5D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E4A5-9206-450B-89E3-FBEA4905CB8A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9BEF-864B-4A22-9A77-88831535AAE4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7A2A-4D6E-4A6D-9E47-CC2D5CEB8662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1267"/>
          <p:cNvSpPr/>
          <p:nvPr/>
        </p:nvSpPr>
        <p:spPr>
          <a:xfrm>
            <a:off x="539640" y="549360"/>
            <a:ext cx="7993080" cy="6094440"/>
          </a:xfrm>
          <a:prstGeom prst="horizontalScroll">
            <a:avLst>
              <a:gd name="adj" fmla="val 12500"/>
            </a:avLst>
          </a:prstGeom>
          <a:solidFill>
            <a:srgbClr val="ccff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Исполнение бюджета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муниципального образования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Нагорский муниципальный район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Кировской област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за 20</a:t>
            </a:r>
            <a:r>
              <a:rPr b="1" i="1" lang="en-US" sz="4800" spc="-1" strike="noStrike">
                <a:solidFill>
                  <a:srgbClr val="0066ff"/>
                </a:solidFill>
                <a:latin typeface="Monotype Corsiva"/>
              </a:rPr>
              <a:t>1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4 год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68360" y="5661000"/>
            <a:ext cx="856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60640" indent="-797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Georgia"/>
                <a:ea typeface="Arial"/>
              </a:rPr>
              <a:t>    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став расходов бюджета Нагорского муниципального райо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Диаграмма 5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  <a:ea typeface="Arial"/>
              </a:rPr>
              <a:t>Отраслевая структура расходов в 2014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969840"/>
          <a:ext cx="8964720" cy="5459400"/>
        </p:xfrm>
        <a:graphic>
          <a:graphicData uri="http://schemas.openxmlformats.org/drawingml/2006/table">
            <a:tbl>
              <a:tblPr/>
              <a:tblGrid>
                <a:gridCol w="4427640"/>
                <a:gridCol w="865080"/>
                <a:gridCol w="1224000"/>
                <a:gridCol w="1150920"/>
                <a:gridCol w="129708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ый расход, тыс.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исполнения, %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льный вес,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277894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97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64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щегосударственные вопрос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18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2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оборо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888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безопасность и правоохранительная деятельност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8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27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эконом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98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2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храна окружающей ср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64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разов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475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2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ультура и кинематография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28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2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оциальная полит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31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27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ическая культура и спор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888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служивание государственного и муниципального долг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4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72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жбюджетные трансферты общего характер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43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ирование отраслей социально – культурной сферы в 2014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Диаграмма 4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держка отраслей экономики района в 2014 г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Диаграмма 3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бюджетные трансферты общего характера  поселениям района в 2014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Диаграмма 3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Д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о численности и денежном содержании муниципальных служащих и работников муниципальных учреждений, финансируемых из бюджета муниципального района, за 2014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28760" y="2500200"/>
          <a:ext cx="8143920" cy="343872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760"/>
              </a:tblGrid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ь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чная численность, челове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содержание (фактически произведенные выплаты по оплате труда с начислениями), тыс. рубл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е служащие и работники органов местного самоуправления райо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6552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и образова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550,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и культур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11,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ЧЕТ О ВЫПОЛНЕНИИ МУНИЦИПАЛЬНОГО ЗАДАН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оказание муниципальных услуг (выполнение работ) в разрезе главных распорядителей средств  бюджета муниципального  района на 2014-2016 годы за 2014г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Таблица 5" descr=""/>
          <p:cNvPicPr/>
          <p:nvPr/>
        </p:nvPicPr>
        <p:blipFill>
          <a:blip r:embed="rId1"/>
          <a:stretch/>
        </p:blipFill>
        <p:spPr>
          <a:xfrm>
            <a:off x="285840" y="1139760"/>
            <a:ext cx="850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Таблица 3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07732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ниципальные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Диаграмма 3" descr=""/>
          <p:cNvPicPr/>
          <p:nvPr/>
        </p:nvPicPr>
        <p:blipFill>
          <a:blip r:embed="rId1"/>
          <a:stretch/>
        </p:blipFill>
        <p:spPr>
          <a:xfrm>
            <a:off x="1508040" y="1981080"/>
            <a:ext cx="61279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фицит и муниципальный дол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85880" y="1643040"/>
          <a:ext cx="7715160" cy="4140360"/>
        </p:xfrm>
        <a:graphic>
          <a:graphicData uri="http://schemas.openxmlformats.org/drawingml/2006/table">
            <a:tbl>
              <a:tblPr/>
              <a:tblGrid>
                <a:gridCol w="4060800"/>
                <a:gridCol w="1876320"/>
                <a:gridCol w="1778040"/>
              </a:tblGrid>
              <a:tr h="731880"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(тыс. ркбле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 (тыс. рубле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ОВ БЮДЖЕТОВ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77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0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36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 бюджетом муниципального района в валюте Российской Федер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795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795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бюджетом муниципального района  кредитов от кредитных организаций в валюте Российской Федер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59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59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средств бюджет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41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5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Вертикальный свиток 4"/>
          <p:cNvSpPr/>
          <p:nvPr/>
        </p:nvSpPr>
        <p:spPr>
          <a:xfrm>
            <a:off x="0" y="500040"/>
            <a:ext cx="9144000" cy="5786640"/>
          </a:xfrm>
          <a:prstGeom prst="verticalScroll">
            <a:avLst>
              <a:gd name="adj" fmla="val 12500"/>
            </a:avLst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4807"/>
                </a:solidFill>
                <a:latin typeface="Times New Roman"/>
              </a:rPr>
              <a:t>Бюджет муниципального образования Нагорский муниципальный район Кировской области за 2014 год исполнен по доходам в сумме 276744,3 тыс. рублей и по расходам в сумме 277894,4 тыс. рублей, с дефицитом 1150,1 тыс. рубл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&amp;Pcy;&amp;iecy;&amp;rcy;&amp;iecy;&amp;vcy;&amp;ycy;&amp;pcy;&amp;ocy;&amp;lcy;&amp;ncy;&amp;iecy;&amp;ncy; &amp;pcy;&amp;lcy;&amp;acy;&amp;ncy; &amp;pcy;&amp;ocy; &amp;dcy;&amp;ocy;&amp;khcy;&amp;ocy;&amp;dcy;&amp;acy;&amp;mcy; &amp;kcy;&amp;rcy;&amp;acy;&amp;iecy;&amp;vcy;&amp;ocy;&amp;gcy;&amp;ocy; &amp;bcy;&amp;yucy;&amp;dcy;&amp;zhcy;&amp;iecy;&amp;tcy;&amp;acy; LifeNews.pro"/>
          <p:cNvPicPr/>
          <p:nvPr/>
        </p:nvPicPr>
        <p:blipFill>
          <a:blip r:embed="rId1"/>
          <a:stretch/>
        </p:blipFill>
        <p:spPr>
          <a:xfrm>
            <a:off x="2357280" y="4500720"/>
            <a:ext cx="3929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400" spc="-1" strike="noStrike">
                <a:solidFill>
                  <a:srgbClr val="361fc3"/>
                </a:solidFill>
                <a:latin typeface="Monotype Corsiva"/>
              </a:rPr>
              <a:t>Спасибо за внимание !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46c0a"/>
          </a:solidFill>
          <a:ln w="936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ение доходной части бюджета Нагорского муниципального района за 2014 год,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57120" y="1996920"/>
          <a:ext cx="8329680" cy="2718000"/>
        </p:xfrm>
        <a:graphic>
          <a:graphicData uri="http://schemas.openxmlformats.org/drawingml/2006/table">
            <a:tbl>
              <a:tblPr/>
              <a:tblGrid>
                <a:gridCol w="2522520"/>
                <a:gridCol w="2017800"/>
                <a:gridCol w="1944720"/>
                <a:gridCol w="184464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ХОД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2014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14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ственные доход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890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48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699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296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доход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590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744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2" descr="&amp;Ncy;&amp;ocy;&amp;vcy;&amp;ocy;&amp;scy;&amp;tcy;&amp;icy; &quot; &amp;Scy; 2014 &amp;gcy;&amp;ocy;&amp;dcy;&amp;acy; &amp;mcy;&amp;iecy;&amp;ncy;&amp;yacy;&amp;yucy;&amp;tcy;&amp;scy;&amp;yacy; &amp;ncy;&amp;ocy;&amp;rcy;&amp;mcy;&amp;acy;&amp;tcy;&amp;icy;&amp;vcy;&amp;ycy; &amp;rcy;&amp;acy;&amp;scy;&amp;pcy;&amp;rcy;&amp;iecy;&amp;dcy;&amp;iecy;&amp;lcy;&amp;iecy;&amp;ncy;&amp;icy;&amp;yacy; &amp;ncy;&amp;iecy;&amp;ncy;&amp;acy;&amp;lcy;&amp;ocy;&amp;gcy;&amp;ocy;&amp;vcy;&amp;ycy;&amp;khcy; &amp;dcy;&amp;ocy;&amp;khcy;&amp;ocy;&amp;dcy;&amp;ocy;&amp;vcy; &amp;vcy; &amp;bcy;&amp;yucy;&amp;dcy;&amp;zhcy;&amp;iecy;&amp;tcy;&amp;ycy; &amp;gcy;&amp;ocy;&amp;rcy;&amp;ocy;&amp;dcy;&amp;scy;&amp;kcy;&amp;icy;&amp;khcy; &amp;ocy;&amp;kcy;&amp;rcy;&amp;ucy;&amp;gcy;&amp;ocy;&amp;vcy; &quot; &amp;Mcy;&amp;icy;&amp;ncy;&amp;icy;&amp;scy;&amp;tcy;&amp;iecy;&amp;rcy;&amp;scy;&amp;tcy;&amp;vcy;&amp;ocy; &amp;icy;&amp;mcy;&amp;ucy;&amp;shchcy;&amp;iecy;&amp;scy;&amp;tcy;&amp;vcy;&amp;iecy;&amp;ncy;"/>
          <p:cNvPicPr/>
          <p:nvPr/>
        </p:nvPicPr>
        <p:blipFill>
          <a:blip r:embed="rId1"/>
          <a:stretch/>
        </p:blipFill>
        <p:spPr>
          <a:xfrm>
            <a:off x="2500200" y="4857840"/>
            <a:ext cx="2786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09a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Диаграмма 3" descr=""/>
          <p:cNvPicPr/>
          <p:nvPr/>
        </p:nvPicPr>
        <p:blipFill>
          <a:blip r:embed="rId1"/>
          <a:stretch/>
        </p:blipFill>
        <p:spPr>
          <a:xfrm>
            <a:off x="214200" y="1477800"/>
            <a:ext cx="8786880" cy="5166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доходов бюджета Нагорского 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муниципального района  2014 год к уровню 2013 года, тыс. рублей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Выноска 2 3"/>
          <p:cNvSpPr/>
          <p:nvPr/>
        </p:nvSpPr>
        <p:spPr>
          <a:xfrm>
            <a:off x="2857680" y="3500280"/>
            <a:ext cx="1071360" cy="42876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45759"/>
              <a:gd name="adj6" fmla="val -35106"/>
            </a:avLst>
          </a:prstGeom>
          <a:solidFill>
            <a:srgbClr val="92d050"/>
          </a:solidFill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+85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Выноска 2 4"/>
          <p:cNvSpPr/>
          <p:nvPr/>
        </p:nvSpPr>
        <p:spPr>
          <a:xfrm>
            <a:off x="6929280" y="1571760"/>
            <a:ext cx="1229040" cy="3445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6189"/>
              <a:gd name="adj5" fmla="val 138092"/>
              <a:gd name="adj6" fmla="val -52967"/>
            </a:avLst>
          </a:prstGeom>
          <a:solidFill>
            <a:srgbClr val="92d050"/>
          </a:solidFill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+ 62767,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6972480" cy="15429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c0099"/>
                </a:solidFill>
                <a:latin typeface="Calibri"/>
              </a:rPr>
              <a:t>Динамика поступления безвозмездных поступлений бюджета Нагорского муниципального района за 2014 год к уровню 2013 года, тыс. руб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28760" y="1900080"/>
          <a:ext cx="8215200" cy="4505400"/>
        </p:xfrm>
        <a:graphic>
          <a:graphicData uri="http://schemas.openxmlformats.org/drawingml/2006/table">
            <a:tbl>
              <a:tblPr/>
              <a:tblGrid>
                <a:gridCol w="2757240"/>
                <a:gridCol w="1785960"/>
                <a:gridCol w="1857600"/>
                <a:gridCol w="1814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13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14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2014 года от 2013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та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01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339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38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сид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246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341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95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вен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186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877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91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ые МБ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4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2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1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безвозмездные поступлен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остатков субсидий, субвенц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04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48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безвозмездных поступл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528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296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67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43" name="Picture 2" descr="&amp;Pcy;&amp;lcy;&amp;acy;&amp;ncy; &amp;pcy;&amp;ocy; &amp;dcy;&amp;ocy;&amp;khcy;&amp;ocy;&amp;dcy;&amp;acy;&amp;mcy; &amp;gcy;&amp;ocy;&amp;rcy;&amp;ocy;&amp;dcy;&amp;scy;&amp;kcy;&amp;ocy;&amp;gcy;&amp;ocy; &amp;bcy;&amp;yucy;&amp;dcy;&amp;zhcy;&amp;iecy;&amp;tcy;&amp;acy; &amp;ncy;&amp;acy; 2012 &amp;gcy;&amp;ocy;&amp;dcy; &amp;vcy;&amp;ycy;&amp;pcy;&amp;ocy;&amp;lcy;&amp;ncy;&amp;iecy;&amp;ncy; &amp;ncy;&amp;acy; 95"/>
          <p:cNvPicPr/>
          <p:nvPr/>
        </p:nvPicPr>
        <p:blipFill>
          <a:blip r:embed="rId1"/>
          <a:stretch/>
        </p:blipFill>
        <p:spPr>
          <a:xfrm>
            <a:off x="7286760" y="214200"/>
            <a:ext cx="1517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428760"/>
            <a:ext cx="864072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поступлений основных налоговых доходов  бюджета Нагорского муниципального района в 2013 и 20</a:t>
            </a:r>
            <a:r>
              <a:rPr b="1" lang="en-US" sz="1800" spc="-1" strike="noStrike">
                <a:solidFill>
                  <a:srgbClr val="333399"/>
                </a:solidFill>
                <a:latin typeface="Georgia"/>
                <a:ea typeface="Arial"/>
              </a:rPr>
              <a:t>1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  <a:ea typeface="Arial"/>
              </a:rPr>
              <a:t>4 гг., тыс</a:t>
            </a: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. рубле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Содержимое 8" descr=""/>
          <p:cNvPicPr/>
          <p:nvPr/>
        </p:nvPicPr>
        <p:blipFill>
          <a:blip r:embed="rId1"/>
          <a:stretch/>
        </p:blipFill>
        <p:spPr>
          <a:xfrm>
            <a:off x="30240" y="1197000"/>
            <a:ext cx="9164520" cy="5661000"/>
          </a:xfrm>
          <a:prstGeom prst="rect">
            <a:avLst/>
          </a:prstGeom>
          <a:ln w="0">
            <a:noFill/>
          </a:ln>
        </p:spPr>
      </p:pic>
      <p:sp>
        <p:nvSpPr>
          <p:cNvPr id="146" name="Стрелка вправо с вырезом 4"/>
          <p:cNvSpPr/>
          <p:nvPr/>
        </p:nvSpPr>
        <p:spPr>
          <a:xfrm rot="20420400">
            <a:off x="666720" y="3232080"/>
            <a:ext cx="1244520" cy="768600"/>
          </a:xfrm>
          <a:custGeom>
            <a:avLst/>
            <a:gdLst>
              <a:gd name="textAreaLeft" fmla="*/ 136080 w 1244520"/>
              <a:gd name="textAreaRight" fmla="*/ 1108440 w 1244520"/>
              <a:gd name="textAreaTop" fmla="*/ 192240 h 768600"/>
              <a:gd name="textAreaBottom" fmla="*/ 576720 h 76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67" y="5400"/>
                </a:lnTo>
                <a:lnTo>
                  <a:pt x="16867" y="0"/>
                </a:lnTo>
                <a:lnTo>
                  <a:pt x="21600" y="10800"/>
                </a:lnTo>
                <a:lnTo>
                  <a:pt x="16867" y="21600"/>
                </a:lnTo>
                <a:lnTo>
                  <a:pt x="16867" y="16200"/>
                </a:lnTo>
                <a:lnTo>
                  <a:pt x="0" y="16200"/>
                </a:lnTo>
                <a:lnTo>
                  <a:pt x="236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cd9">
              <a:alpha val="6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Times New Roman"/>
              </a:rPr>
              <a:t>+ </a:t>
            </a:r>
            <a:r>
              <a:rPr b="1" lang="ru-RU" sz="1400" spc="-1" strike="noStrike">
                <a:solidFill>
                  <a:srgbClr val="cc0099"/>
                </a:solidFill>
                <a:latin typeface="Times New Roman"/>
              </a:rPr>
              <a:t>4982,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Стрелка вправо с вырезом 5"/>
          <p:cNvSpPr/>
          <p:nvPr/>
        </p:nvSpPr>
        <p:spPr>
          <a:xfrm rot="2013600">
            <a:off x="1680840" y="1146240"/>
            <a:ext cx="1149480" cy="584280"/>
          </a:xfrm>
          <a:custGeom>
            <a:avLst/>
            <a:gdLst>
              <a:gd name="textAreaLeft" fmla="*/ 146160 w 1149480"/>
              <a:gd name="textAreaRight" fmla="*/ 1003320 w 1149480"/>
              <a:gd name="textAreaTop" fmla="*/ 146160 h 584280"/>
              <a:gd name="textAreaBottom" fmla="*/ 438480 h 584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3" y="5400"/>
                </a:lnTo>
                <a:lnTo>
                  <a:pt x="16103" y="0"/>
                </a:lnTo>
                <a:lnTo>
                  <a:pt x="21600" y="10800"/>
                </a:lnTo>
                <a:lnTo>
                  <a:pt x="16103" y="21600"/>
                </a:lnTo>
                <a:lnTo>
                  <a:pt x="16103" y="16200"/>
                </a:lnTo>
                <a:lnTo>
                  <a:pt x="0" y="16200"/>
                </a:lnTo>
                <a:lnTo>
                  <a:pt x="274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cd9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Times New Roman"/>
              </a:rPr>
              <a:t>-4404,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Стрелка вправо с вырезом 6"/>
          <p:cNvSpPr/>
          <p:nvPr/>
        </p:nvSpPr>
        <p:spPr>
          <a:xfrm rot="20472000">
            <a:off x="3344400" y="2962440"/>
            <a:ext cx="1079640" cy="576000"/>
          </a:xfrm>
          <a:custGeom>
            <a:avLst/>
            <a:gdLst>
              <a:gd name="textAreaLeft" fmla="*/ 144000 w 1079640"/>
              <a:gd name="textAreaRight" fmla="*/ 936000 w 1079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840" y="5400"/>
                </a:lnTo>
                <a:lnTo>
                  <a:pt x="15840" y="0"/>
                </a:lnTo>
                <a:lnTo>
                  <a:pt x="21600" y="10800"/>
                </a:lnTo>
                <a:lnTo>
                  <a:pt x="15840" y="21600"/>
                </a:lnTo>
                <a:lnTo>
                  <a:pt x="15840" y="16200"/>
                </a:lnTo>
                <a:lnTo>
                  <a:pt x="0" y="16200"/>
                </a:lnTo>
                <a:lnTo>
                  <a:pt x="288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cd9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Times New Roman"/>
              </a:rPr>
              <a:t>+ </a:t>
            </a:r>
            <a:r>
              <a:rPr b="1" lang="ru-RU" sz="1400" spc="-1" strike="noStrike">
                <a:solidFill>
                  <a:srgbClr val="cc0099"/>
                </a:solidFill>
                <a:latin typeface="Times New Roman"/>
              </a:rPr>
              <a:t>558,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Стрелка вправо с вырезом 7"/>
          <p:cNvSpPr/>
          <p:nvPr/>
        </p:nvSpPr>
        <p:spPr>
          <a:xfrm rot="20571600">
            <a:off x="4819320" y="1684080"/>
            <a:ext cx="1312920" cy="761760"/>
          </a:xfrm>
          <a:custGeom>
            <a:avLst/>
            <a:gdLst>
              <a:gd name="textAreaLeft" fmla="*/ 190080 w 1312920"/>
              <a:gd name="textAreaRight" fmla="*/ 1122840 w 131292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344" y="5400"/>
                </a:lnTo>
                <a:lnTo>
                  <a:pt x="15344" y="0"/>
                </a:lnTo>
                <a:lnTo>
                  <a:pt x="21600" y="10800"/>
                </a:lnTo>
                <a:lnTo>
                  <a:pt x="15344" y="21600"/>
                </a:lnTo>
                <a:lnTo>
                  <a:pt x="15344" y="16200"/>
                </a:lnTo>
                <a:lnTo>
                  <a:pt x="0" y="16200"/>
                </a:lnTo>
                <a:lnTo>
                  <a:pt x="312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cd9">
              <a:alpha val="5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Times New Roman"/>
              </a:rPr>
              <a:t>+ </a:t>
            </a:r>
            <a:r>
              <a:rPr b="1" lang="ru-RU" sz="1400" spc="-1" strike="noStrike">
                <a:solidFill>
                  <a:srgbClr val="cc0099"/>
                </a:solidFill>
                <a:latin typeface="Times New Roman"/>
              </a:rPr>
              <a:t>723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Стрелка вправо с вырезом 9"/>
          <p:cNvSpPr/>
          <p:nvPr/>
        </p:nvSpPr>
        <p:spPr>
          <a:xfrm rot="1902000">
            <a:off x="7515000" y="4520880"/>
            <a:ext cx="1081080" cy="574560"/>
          </a:xfrm>
          <a:custGeom>
            <a:avLst/>
            <a:gdLst>
              <a:gd name="textAreaLeft" fmla="*/ 144000 w 1081080"/>
              <a:gd name="textAreaRight" fmla="*/ 937080 w 1081080"/>
              <a:gd name="textAreaTop" fmla="*/ 143640 h 574560"/>
              <a:gd name="textAreaBottom" fmla="*/ 430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840" y="5400"/>
                </a:lnTo>
                <a:lnTo>
                  <a:pt x="15840" y="0"/>
                </a:lnTo>
                <a:lnTo>
                  <a:pt x="21600" y="10800"/>
                </a:lnTo>
                <a:lnTo>
                  <a:pt x="15840" y="21600"/>
                </a:lnTo>
                <a:lnTo>
                  <a:pt x="15840" y="16200"/>
                </a:lnTo>
                <a:lnTo>
                  <a:pt x="0" y="16200"/>
                </a:lnTo>
                <a:lnTo>
                  <a:pt x="288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cd9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Times New Roman"/>
              </a:rPr>
              <a:t>-174,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Стрелка вправо с вырезом 10" descr=""/>
          <p:cNvPicPr/>
          <p:nvPr/>
        </p:nvPicPr>
        <p:blipFill>
          <a:blip r:embed="rId2"/>
          <a:stretch/>
        </p:blipFill>
        <p:spPr>
          <a:xfrm>
            <a:off x="6188040" y="4322880"/>
            <a:ext cx="1054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f2dcd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Динамика поступлений неналоговых доходов в бюджет Нагорского муниципального района за 2014 год в сравнении с 2013 годом, тыс. руб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Содержимое 3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7929360" cy="4572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0" y="357120"/>
            <a:ext cx="640080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Анализ недоимки в консолидированный бюджет Нагорского района за 2014 год,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42920" y="1714680"/>
          <a:ext cx="8858160" cy="4954320"/>
        </p:xfrm>
        <a:graphic>
          <a:graphicData uri="http://schemas.openxmlformats.org/drawingml/2006/table">
            <a:tbl>
              <a:tblPr/>
              <a:tblGrid>
                <a:gridCol w="2814480"/>
                <a:gridCol w="1538280"/>
                <a:gridCol w="1614600"/>
                <a:gridCol w="1460520"/>
                <a:gridCol w="1430280"/>
              </a:tblGrid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латеж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имка на 01.01.2014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имка на 01.01.2014г. (в сопоставимых условиях 2014 года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имка на 01.01.2015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, тыс. руб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 т.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0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1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ДФ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4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2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В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физических лиц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9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9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8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0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ельный нало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, в т.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0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0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0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49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а земл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4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а имущест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2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8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</a:tr>
            </a:tbl>
          </a:graphicData>
        </a:graphic>
      </p:graphicFrame>
      <p:pic>
        <p:nvPicPr>
          <p:cNvPr id="156" name="Picture 2" descr="&amp;Dcy;&amp;ocy;&amp;pcy;&amp;ocy;&amp;lcy;&amp;ncy;&amp;icy;&amp;tcy;&amp;iecy;&amp;lcy;&amp;softcy;&amp;ncy;&amp;ycy;&amp;iecy; &amp;dcy;&amp;ocy;&amp;khcy;&amp;ocy;&amp;dcy;&amp;ycy; &amp;bcy;&amp;yucy;&amp;dcy;&amp;zhcy;&amp;iecy;&amp;tcy;&amp;acy; &amp;pcy;&amp;ocy;&amp;jcy;&amp;dcy;&amp;ucy;&amp;tcy; &amp;ncy;&amp;acy; &amp;scy;&amp;iecy;&amp;lcy;&amp;softcy;&amp;scy;&amp;kcy;&amp;ocy;&amp;iecy; &amp;khcy;&amp;ocy;&amp;zcy;&amp;yacy;&amp;jcy;&amp;scy;&amp;tcy;&amp;vcy;&amp;ocy; &amp;icy; &amp;gcy;&amp;acy;&amp;rcy;&amp;acy;&amp;ncy;&amp;tcy;&amp;icy;&amp;icy; &amp;pcy;&amp;ocy; &amp;icy;&amp;ncy;&amp;vcy;&amp;iecy;&amp;scy;&amp;tcy;&amp;kcy;&amp;rcy;&amp;iecy;&amp;dcy;&amp;icy;&amp;tcy;&amp;acy;&amp;mcy;: &amp;Pcy;&amp;ocy;&amp;rcy;&amp;tcy;&amp;acy;&amp;lcy; &amp;mcy;&amp;acy;&amp;lcy;&amp;ocy;&amp;gcy;&amp;ocy; &amp;icy; &amp;scy;&amp;rcy;&amp;iecy;&amp;dcy;&amp;ncy;&amp;iecy;&amp;gcy;&amp;ocy; &amp;pcy;&amp;rcy;&amp;iecy;&amp;dcy;&amp;pcy;&amp;rcy;&amp;icy;&amp;ncy;&amp;icy;&amp;mcy;&amp;acy;&amp;tcy;&amp;iecy;&amp;lcy;"/>
          <p:cNvPicPr/>
          <p:nvPr/>
        </p:nvPicPr>
        <p:blipFill>
          <a:blip r:embed="rId1"/>
          <a:stretch/>
        </p:blipFill>
        <p:spPr>
          <a:xfrm>
            <a:off x="428760" y="142920"/>
            <a:ext cx="2071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24000" y="549360"/>
            <a:ext cx="8135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 РАСХОДОВ БЮДЖЕТА МУНИЦИПАЛЬНОГО ОБРАЗОВАНИЯ НАГОРСКИЙ МУНИЦИПАЛЬНЫЙ РАЙОН КИРОВСКОЙ ОБЛАСТИ</a:t>
            </a:r>
            <a:br>
              <a:rPr sz="18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724360" y="157176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2014 г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887640" y="2871720"/>
            <a:ext cx="10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39640" y="15717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2013 г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3527280" y="3392640"/>
            <a:ext cx="2124360" cy="0"/>
          </a:xfrm>
          <a:prstGeom prst="line">
            <a:avLst/>
          </a:prstGeom>
          <a:ln w="19044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3527280" y="2708280"/>
            <a:ext cx="1441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2976,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с. руб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250920" y="2421000"/>
            <a:ext cx="3168720" cy="2628720"/>
          </a:xfrm>
          <a:prstGeom prst="flowChartMultidocumen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04918,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ыс. руб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724360" y="2205000"/>
            <a:ext cx="3168720" cy="3168720"/>
          </a:xfrm>
          <a:prstGeom prst="flowChartMultidocumen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77894,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ыс. руб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6:40:34Z</dcterms:created>
  <dc:creator>Лариса Патрушева</dc:creator>
  <dc:description/>
  <dc:language>en-US</dc:language>
  <cp:lastModifiedBy>ВодоносоваЕЮ</cp:lastModifiedBy>
  <dcterms:modified xsi:type="dcterms:W3CDTF">2015-03-19T08:20:21Z</dcterms:modified>
  <cp:revision>371</cp:revision>
  <dc:subject/>
  <dc:title>Департамент финансов  Кировской области</dc:title>
</cp:coreProperties>
</file>