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A8F2-6B57-4650-8CFD-22C1B12043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575F-D6DD-4CB7-B4BD-91C52ECE9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C8EE-5A4A-4F68-9E40-0B8F58A07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071A-759D-4A9D-A6EB-5A768610BA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450-2531-485C-A011-6422DB46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493-B771-47A8-9D86-A57A5651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EEF-8E3B-4590-B1A4-7CE1B811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46F-EF84-45E9-9CC5-62060B35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01C-8BDC-4FA1-B281-8546DA02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AE2-6D17-489C-8CF2-A7FA6A13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131-66BC-4A13-9DE8-8FCA0523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525-B610-49A5-A025-D5966919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133-EC5F-43BB-9012-1DA9E6CC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1AB-CA25-4297-9521-6354945D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542-D6DF-4426-8462-E61B33F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C4F-F10D-44F0-BB0A-D0D109F8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A0C3-3C64-4B96-9916-DE1F2E23AD4D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67"/>
          <p:cNvSpPr/>
          <p:nvPr/>
        </p:nvSpPr>
        <p:spPr>
          <a:xfrm>
            <a:off x="571680" y="285840"/>
            <a:ext cx="7992720" cy="6094440"/>
          </a:xfrm>
          <a:prstGeom prst="horizontalScroll">
            <a:avLst>
              <a:gd name="adj" fmla="val 12500"/>
            </a:avLst>
          </a:prstGeom>
          <a:solidFill>
            <a:srgbClr val="00ffff">
              <a:alpha val="20000"/>
            </a:srgbClr>
          </a:solidFill>
          <a:ln w="9360">
            <a:solidFill>
              <a:srgbClr val="990099"/>
            </a:solidFill>
            <a:miter/>
          </a:ln>
          <a:effectLst>
            <a:outerShdw dist="50938" dir="3061439" blurRad="0" rotWithShape="0">
              <a:srgbClr val="ffffff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Исполнение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бюджет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ого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разования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Нагорски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ы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райо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Кировско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ласт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з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2016год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68360" y="5661000"/>
            <a:ext cx="85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60640" indent="-79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Georgia"/>
                <a:ea typeface="Arial"/>
              </a:rPr>
              <a:t>    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расходов бюджета Нагорского муниципального района в 2016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Диаграмма 5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45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Отраслевая структура расходов в 2016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969840"/>
          <a:ext cx="8964720" cy="5116680"/>
        </p:xfrm>
        <a:graphic>
          <a:graphicData uri="http://schemas.openxmlformats.org/drawingml/2006/table">
            <a:tbl>
              <a:tblPr/>
              <a:tblGrid>
                <a:gridCol w="4427640"/>
                <a:gridCol w="865080"/>
                <a:gridCol w="1224000"/>
                <a:gridCol w="1150920"/>
                <a:gridCol w="129708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ый расход, тыс.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нения, %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,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228129,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96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64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305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2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оборо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8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888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безопасность и правоохранительная деятельност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7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27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758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2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разов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172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64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ультура и кинематограф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82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2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циальная полит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4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12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ическая культура и спор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888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служивание государственного и муниципального долг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1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72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жбюджетные трансферты общего характер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39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ирование отраслей социально – культурной сферы в 2016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Диаграмма 4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держка отраслей экономики района в 2016 г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Диаграмма 3" descr=""/>
          <p:cNvPicPr/>
          <p:nvPr/>
        </p:nvPicPr>
        <p:blipFill>
          <a:blip r:embed="rId1"/>
          <a:stretch/>
        </p:blipFill>
        <p:spPr>
          <a:xfrm>
            <a:off x="500040" y="2143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бюджетные трансферты общего характера  поселениям района в 2016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Диаграмма 3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Д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 численности и денежном содержании муниципальных служащих и работников муниципальных учреждений, финансируемых из бюджета муниципального района, за 2016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28760" y="2500200"/>
          <a:ext cx="8143920" cy="343872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76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чная численность, челове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содержание (фактически произведенные выплаты по оплате труда с начислениями), тыс.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е служащие и работники органов местного самоуправления райо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1697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образо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150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культу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19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Диаграмма 3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8001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фицит и муниципальный дол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14240" y="1214280"/>
          <a:ext cx="7715520" cy="5170680"/>
        </p:xfrm>
        <a:graphic>
          <a:graphicData uri="http://schemas.openxmlformats.org/drawingml/2006/table">
            <a:tbl>
              <a:tblPr/>
              <a:tblGrid>
                <a:gridCol w="4060800"/>
                <a:gridCol w="1876680"/>
                <a:gridCol w="1778040"/>
              </a:tblGrid>
              <a:tr h="731880"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ОВ БЮДЖЕТО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15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0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 бюджетом муниципального района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9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9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 кредитов от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9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9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 бюджетных кредитов от других бюджетов бюджетной системы Российской Федерации бюджетом муниципального района  в валюте 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кредитов от других бюджетов бюджетной системы Российской Федерации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средств бюджет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65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0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400" spc="-1" strike="noStrike">
                <a:solidFill>
                  <a:srgbClr val="361fc3"/>
                </a:solidFill>
                <a:latin typeface="Monotype Corsiva"/>
              </a:rPr>
              <a:t>Спасибо за внимание !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Вертикальный свиток 4"/>
          <p:cNvSpPr/>
          <p:nvPr/>
        </p:nvSpPr>
        <p:spPr>
          <a:xfrm>
            <a:off x="0" y="500040"/>
            <a:ext cx="9144000" cy="5786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Бюджет муниципального образования Нагорский муниципальный район Кировской области за 2016 год исполнен по доходам в сумме 224 648,3 тыс. рублей и по расходам в сумме 228 129,2 тыс. рублей, с дефицитом       3 480,9 тыс. рубл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&amp;Pcy;&amp;iecy;&amp;rcy;&amp;iecy;&amp;vcy;&amp;ycy;&amp;pcy;&amp;ocy;&amp;lcy;&amp;ncy;&amp;iecy;&amp;ncy; &amp;pcy;&amp;lcy;&amp;acy;&amp;ncy; &amp;pcy;&amp;ocy; &amp;dcy;&amp;ocy;&amp;khcy;&amp;ocy;&amp;dcy;&amp;acy;&amp;mcy; &amp;kcy;&amp;rcy;&amp;acy;&amp;iecy;&amp;vcy;&amp;ocy;&amp;gcy;&amp;ocy; &amp;bcy;&amp;yucy;&amp;dcy;&amp;zhcy;&amp;iecy;&amp;tcy;&amp;acy; LifeNews.pro"/>
          <p:cNvPicPr/>
          <p:nvPr/>
        </p:nvPicPr>
        <p:blipFill>
          <a:blip r:embed="rId1"/>
          <a:stretch/>
        </p:blipFill>
        <p:spPr>
          <a:xfrm>
            <a:off x="2428920" y="3929040"/>
            <a:ext cx="4357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46c0a"/>
          </a:solidFill>
          <a:ln w="936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ение доходной части бюджета Нагорского муниципального района за 2016 год,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7120" y="1996920"/>
          <a:ext cx="8329680" cy="2718000"/>
        </p:xfrm>
        <a:graphic>
          <a:graphicData uri="http://schemas.openxmlformats.org/drawingml/2006/table">
            <a:tbl>
              <a:tblPr/>
              <a:tblGrid>
                <a:gridCol w="2522520"/>
                <a:gridCol w="2017800"/>
                <a:gridCol w="1944720"/>
                <a:gridCol w="18446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2016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6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енные 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 36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 281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 535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 367,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оход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 902,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 648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" descr="&amp;Ncy;&amp;ocy;&amp;vcy;&amp;ocy;&amp;scy;&amp;tcy;&amp;icy; &quot; &amp;Scy; 2014 &amp;gcy;&amp;ocy;&amp;dcy;&amp;acy; &amp;mcy;&amp;iecy;&amp;ncy;&amp;yacy;&amp;yucy;&amp;tcy;&amp;scy;&amp;yacy; &amp;ncy;&amp;ocy;&amp;rcy;&amp;mcy;&amp;acy;&amp;tcy;&amp;icy;&amp;vcy;&amp;ycy; &amp;rcy;&amp;acy;&amp;scy;&amp;pcy;&amp;rcy;&amp;iecy;&amp;dcy;&amp;iecy;&amp;lcy;&amp;iecy;&amp;ncy;&amp;icy;&amp;yacy; &amp;ncy;&amp;iecy;&amp;ncy;&amp;acy;&amp;lcy;&amp;ocy;&amp;gcy;&amp;ocy;&amp;vcy;&amp;ycy;&amp;khcy; &amp;dcy;&amp;ocy;&amp;khcy;&amp;ocy;&amp;dcy;&amp;ocy;&amp;vcy; &amp;vcy; &amp;bcy;&amp;yucy;&amp;dcy;&amp;zhcy;&amp;iecy;&amp;tcy;&amp;ycy; &amp;gcy;&amp;ocy;&amp;rcy;&amp;ocy;&amp;dcy;&amp;scy;&amp;kcy;&amp;icy;&amp;khcy; &amp;ocy;&amp;kcy;&amp;rcy;&amp;ucy;&amp;gcy;&amp;ocy;&amp;vcy; &quot; &amp;Mcy;&amp;icy;&amp;ncy;&amp;icy;&amp;scy;&amp;tcy;&amp;iecy;&amp;rcy;&amp;scy;&amp;tcy;&amp;vcy;&amp;ocy; &amp;icy;&amp;mcy;&amp;ucy;&amp;shchcy;&amp;iecy;&amp;scy;&amp;tcy;&amp;vcy;&amp;iecy;&amp;ncy;"/>
          <p:cNvPicPr/>
          <p:nvPr/>
        </p:nvPicPr>
        <p:blipFill>
          <a:blip r:embed="rId1"/>
          <a:stretch/>
        </p:blipFill>
        <p:spPr>
          <a:xfrm>
            <a:off x="2500200" y="4857840"/>
            <a:ext cx="2786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Диаграмма 3" descr=""/>
          <p:cNvPicPr/>
          <p:nvPr/>
        </p:nvPicPr>
        <p:blipFill>
          <a:blip r:embed="rId1"/>
          <a:stretch/>
        </p:blipFill>
        <p:spPr>
          <a:xfrm>
            <a:off x="214200" y="1477800"/>
            <a:ext cx="8786880" cy="5166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доходов бюджета Нагорского 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муниципального района  2016 год к уровню 2015 года, тыс. рублей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Выноска 2 3"/>
          <p:cNvSpPr/>
          <p:nvPr/>
        </p:nvSpPr>
        <p:spPr>
          <a:xfrm>
            <a:off x="2786040" y="3500280"/>
            <a:ext cx="1071720" cy="42876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45759"/>
              <a:gd name="adj6" fmla="val -35106"/>
            </a:avLst>
          </a:prstGeom>
          <a:solidFill>
            <a:srgbClr val="92d050"/>
          </a:solidFill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+5 198,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Выноска 2 4"/>
          <p:cNvSpPr/>
          <p:nvPr/>
        </p:nvSpPr>
        <p:spPr>
          <a:xfrm>
            <a:off x="6929280" y="1643040"/>
            <a:ext cx="1357560" cy="3571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6189"/>
              <a:gd name="adj5" fmla="val 138092"/>
              <a:gd name="adj6" fmla="val -52967"/>
            </a:avLst>
          </a:prstGeom>
          <a:solidFill>
            <a:srgbClr val="92d050"/>
          </a:solidFill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62 791,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6972480" cy="15429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0099"/>
                </a:solidFill>
                <a:latin typeface="Calibri"/>
              </a:rPr>
              <a:t>Динамика поступления безвозмездных поступлений бюджета Нагорского муниципального района за 2016 год к уровню 2015 года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57120" y="1785960"/>
          <a:ext cx="8215560" cy="4949640"/>
        </p:xfrm>
        <a:graphic>
          <a:graphicData uri="http://schemas.openxmlformats.org/drawingml/2006/table">
            <a:tbl>
              <a:tblPr/>
              <a:tblGrid>
                <a:gridCol w="2757600"/>
                <a:gridCol w="1785960"/>
                <a:gridCol w="1857240"/>
                <a:gridCol w="1814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5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6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2016 года от 2015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544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678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34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сид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 452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943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6 508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вен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 088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384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04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МБ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69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1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 от негосударственных организа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9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9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безвозмездные поступл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9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1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субсидий, субвен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безвозмездных поступл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159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 367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2 791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2" descr="&amp;Pcy;&amp;lcy;&amp;acy;&amp;ncy; &amp;pcy;&amp;ocy; &amp;dcy;&amp;ocy;&amp;khcy;&amp;ocy;&amp;dcy;&amp;acy;&amp;mcy; &amp;gcy;&amp;ocy;&amp;rcy;&amp;ocy;&amp;dcy;&amp;scy;&amp;kcy;&amp;ocy;&amp;gcy;&amp;ocy; &amp;bcy;&amp;yucy;&amp;dcy;&amp;zhcy;&amp;iecy;&amp;tcy;&amp;acy; &amp;ncy;&amp;acy; 2012 &amp;gcy;&amp;ocy;&amp;dcy; &amp;vcy;&amp;ycy;&amp;pcy;&amp;ocy;&amp;lcy;&amp;ncy;&amp;iecy;&amp;ncy; &amp;ncy;&amp;acy; 95"/>
          <p:cNvPicPr/>
          <p:nvPr/>
        </p:nvPicPr>
        <p:blipFill>
          <a:blip r:embed="rId1"/>
          <a:stretch/>
        </p:blipFill>
        <p:spPr>
          <a:xfrm>
            <a:off x="7286760" y="214200"/>
            <a:ext cx="151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2560"/>
            <a:ext cx="8640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поступлений основных налоговых доходов  бюджета Нагорского муниципального района в 2015 и 20</a:t>
            </a:r>
            <a:r>
              <a:rPr b="1" lang="en-US" sz="1800" spc="-1" strike="noStrike">
                <a:solidFill>
                  <a:srgbClr val="333399"/>
                </a:solidFill>
                <a:latin typeface="Georgia"/>
                <a:ea typeface="Arial"/>
              </a:rPr>
              <a:t>1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  <a:ea typeface="Arial"/>
              </a:rPr>
              <a:t>6 гг., тыс</a:t>
            </a: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. рубл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8" descr=""/>
          <p:cNvPicPr/>
          <p:nvPr/>
        </p:nvPicPr>
        <p:blipFill>
          <a:blip r:embed="rId1"/>
          <a:stretch/>
        </p:blipFill>
        <p:spPr>
          <a:xfrm>
            <a:off x="-214200" y="1197000"/>
            <a:ext cx="9164520" cy="566100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с вырезом 4"/>
          <p:cNvSpPr/>
          <p:nvPr/>
        </p:nvSpPr>
        <p:spPr>
          <a:xfrm rot="20420400">
            <a:off x="394920" y="3354480"/>
            <a:ext cx="1168560" cy="476280"/>
          </a:xfrm>
          <a:custGeom>
            <a:avLst/>
            <a:gdLst>
              <a:gd name="textAreaLeft" fmla="*/ 84240 w 1168560"/>
              <a:gd name="textAreaRight" fmla="*/ 1084320 w 116856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476" y="5400"/>
                </a:lnTo>
                <a:lnTo>
                  <a:pt x="18476" y="0"/>
                </a:lnTo>
                <a:lnTo>
                  <a:pt x="21600" y="10800"/>
                </a:lnTo>
                <a:lnTo>
                  <a:pt x="18476" y="21600"/>
                </a:lnTo>
                <a:lnTo>
                  <a:pt x="18476" y="16200"/>
                </a:lnTo>
                <a:lnTo>
                  <a:pt x="0" y="16200"/>
                </a:lnTo>
                <a:lnTo>
                  <a:pt x="156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Calibri"/>
              </a:rPr>
              <a:t>+ </a:t>
            </a:r>
            <a:r>
              <a:rPr b="1" lang="ru-RU" sz="1400" spc="-1" strike="noStrike">
                <a:solidFill>
                  <a:srgbClr val="cc0099"/>
                </a:solidFill>
                <a:latin typeface="Calibri"/>
              </a:rPr>
              <a:t>2 583,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право с вырезом 5"/>
          <p:cNvSpPr/>
          <p:nvPr/>
        </p:nvSpPr>
        <p:spPr>
          <a:xfrm rot="19470000">
            <a:off x="1668240" y="2408400"/>
            <a:ext cx="1030320" cy="583920"/>
          </a:xfrm>
          <a:custGeom>
            <a:avLst/>
            <a:gdLst>
              <a:gd name="textAreaLeft" fmla="*/ 146160 w 1030320"/>
              <a:gd name="textAreaRight" fmla="*/ 884160 w 1030320"/>
              <a:gd name="textAreaTop" fmla="*/ 145800 h 583920"/>
              <a:gd name="textAreaBottom" fmla="*/ 438120 h 583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465" y="5400"/>
                </a:lnTo>
                <a:lnTo>
                  <a:pt x="15465" y="0"/>
                </a:lnTo>
                <a:lnTo>
                  <a:pt x="21600" y="10800"/>
                </a:lnTo>
                <a:lnTo>
                  <a:pt x="15465" y="21600"/>
                </a:lnTo>
                <a:lnTo>
                  <a:pt x="15465" y="16200"/>
                </a:lnTo>
                <a:lnTo>
                  <a:pt x="0" y="16200"/>
                </a:lnTo>
                <a:lnTo>
                  <a:pt x="30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Calibri"/>
              </a:rPr>
              <a:t>+731,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право с вырезом 6"/>
          <p:cNvSpPr/>
          <p:nvPr/>
        </p:nvSpPr>
        <p:spPr>
          <a:xfrm rot="2629800">
            <a:off x="2617560" y="3589200"/>
            <a:ext cx="1162080" cy="505080"/>
          </a:xfrm>
          <a:custGeom>
            <a:avLst/>
            <a:gdLst>
              <a:gd name="textAreaLeft" fmla="*/ 126000 w 1162080"/>
              <a:gd name="textAreaRight" fmla="*/ 1036080 w 11620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13" y="5400"/>
                </a:lnTo>
                <a:lnTo>
                  <a:pt x="16913" y="0"/>
                </a:lnTo>
                <a:lnTo>
                  <a:pt x="21600" y="10800"/>
                </a:lnTo>
                <a:lnTo>
                  <a:pt x="16913" y="21600"/>
                </a:lnTo>
                <a:lnTo>
                  <a:pt x="16913" y="16200"/>
                </a:lnTo>
                <a:lnTo>
                  <a:pt x="0" y="16200"/>
                </a:lnTo>
                <a:lnTo>
                  <a:pt x="23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Calibri"/>
              </a:rPr>
              <a:t>-1 30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трелка вправо с вырезом 7"/>
          <p:cNvSpPr/>
          <p:nvPr/>
        </p:nvSpPr>
        <p:spPr>
          <a:xfrm rot="20571600">
            <a:off x="3948120" y="1009440"/>
            <a:ext cx="1312920" cy="582480"/>
          </a:xfrm>
          <a:custGeom>
            <a:avLst/>
            <a:gdLst>
              <a:gd name="textAreaLeft" fmla="*/ 145440 w 1312920"/>
              <a:gd name="textAreaRight" fmla="*/ 1167480 w 1312920"/>
              <a:gd name="textAreaTop" fmla="*/ 145440 h 582480"/>
              <a:gd name="textAreaBottom" fmla="*/ 437040 h 582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13" y="5400"/>
                </a:lnTo>
                <a:lnTo>
                  <a:pt x="16813" y="0"/>
                </a:lnTo>
                <a:lnTo>
                  <a:pt x="21600" y="10800"/>
                </a:lnTo>
                <a:lnTo>
                  <a:pt x="16813" y="21600"/>
                </a:lnTo>
                <a:lnTo>
                  <a:pt x="16813" y="16200"/>
                </a:lnTo>
                <a:lnTo>
                  <a:pt x="0" y="16200"/>
                </a:lnTo>
                <a:lnTo>
                  <a:pt x="239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Calibri"/>
              </a:rPr>
              <a:t>+ </a:t>
            </a:r>
            <a:r>
              <a:rPr b="1" lang="ru-RU" sz="1400" spc="-1" strike="noStrike">
                <a:solidFill>
                  <a:srgbClr val="cc0099"/>
                </a:solidFill>
                <a:latin typeface="Calibri"/>
              </a:rPr>
              <a:t>2 882,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трелка вправо с вырезом 9"/>
          <p:cNvSpPr/>
          <p:nvPr/>
        </p:nvSpPr>
        <p:spPr>
          <a:xfrm rot="20303400">
            <a:off x="6497640" y="3949200"/>
            <a:ext cx="1081080" cy="543240"/>
          </a:xfrm>
          <a:custGeom>
            <a:avLst/>
            <a:gdLst>
              <a:gd name="textAreaLeft" fmla="*/ 136440 w 1081080"/>
              <a:gd name="textAreaRight" fmla="*/ 944640 w 1081080"/>
              <a:gd name="textAreaTop" fmla="*/ 135720 h 543240"/>
              <a:gd name="textAreaBottom" fmla="*/ 407520 h 543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49" y="5400"/>
                </a:lnTo>
                <a:lnTo>
                  <a:pt x="16149" y="0"/>
                </a:lnTo>
                <a:lnTo>
                  <a:pt x="21600" y="10800"/>
                </a:lnTo>
                <a:lnTo>
                  <a:pt x="16149" y="21600"/>
                </a:lnTo>
                <a:lnTo>
                  <a:pt x="16149" y="16200"/>
                </a:lnTo>
                <a:lnTo>
                  <a:pt x="0" y="16200"/>
                </a:lnTo>
                <a:lnTo>
                  <a:pt x="272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Calibri"/>
              </a:rPr>
              <a:t>+306,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Стрелка вправо с вырезом 10" descr=""/>
          <p:cNvPicPr/>
          <p:nvPr/>
        </p:nvPicPr>
        <p:blipFill>
          <a:blip r:embed="rId2"/>
          <a:stretch/>
        </p:blipFill>
        <p:spPr>
          <a:xfrm>
            <a:off x="5121360" y="4406760"/>
            <a:ext cx="1023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f2dcd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инамика поступлений неналоговых доходов в бюджет Нагорского муниципального района за 2016 год в сравнении с 2015 годом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7929360" cy="4572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0" y="14292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Анализ недоимки в консолидированный бюджет Нагорского района за 2016 год,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14200" y="1785960"/>
          <a:ext cx="8501040" cy="4929120"/>
        </p:xfrm>
        <a:graphic>
          <a:graphicData uri="http://schemas.openxmlformats.org/drawingml/2006/table">
            <a:tbl>
              <a:tblPr/>
              <a:tblGrid>
                <a:gridCol w="3386160"/>
                <a:gridCol w="1805040"/>
                <a:gridCol w="1654200"/>
                <a:gridCol w="1655640"/>
              </a:tblGrid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латеж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16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17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, тыс. руб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4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9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ДФ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2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1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В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7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1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физических лиц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7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8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ель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2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6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6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земл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5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8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6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5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2" descr="&amp;Dcy;&amp;ocy;&amp;pcy;&amp;ocy;&amp;lcy;&amp;ncy;&amp;icy;&amp;tcy;&amp;iecy;&amp;lcy;&amp;softcy;&amp;ncy;&amp;ycy;&amp;iecy; &amp;dcy;&amp;ocy;&amp;khcy;&amp;ocy;&amp;dcy;&amp;ycy; &amp;bcy;&amp;yucy;&amp;dcy;&amp;zhcy;&amp;iecy;&amp;tcy;&amp;acy; &amp;pcy;&amp;ocy;&amp;jcy;&amp;dcy;&amp;ucy;&amp;tcy; &amp;ncy;&amp;acy; &amp;scy;&amp;iecy;&amp;lcy;&amp;softcy;&amp;scy;&amp;kcy;&amp;ocy;&amp;iecy; &amp;khcy;&amp;ocy;&amp;zcy;&amp;yacy;&amp;jcy;&amp;scy;&amp;tcy;&amp;vcy;&amp;ocy; &amp;icy; &amp;gcy;&amp;acy;&amp;rcy;&amp;acy;&amp;ncy;&amp;tcy;&amp;icy;&amp;icy; &amp;pcy;&amp;ocy; &amp;icy;&amp;ncy;&amp;vcy;&amp;iecy;&amp;scy;&amp;tcy;&amp;kcy;&amp;rcy;&amp;iecy;&amp;dcy;&amp;icy;&amp;tcy;&amp;acy;&amp;mcy;: &amp;Pcy;&amp;ocy;&amp;rcy;&amp;tcy;&amp;acy;&amp;lcy; &amp;mcy;&amp;acy;&amp;lcy;&amp;ocy;&amp;gcy;&amp;ocy; &amp;icy; &amp;scy;&amp;rcy;&amp;iecy;&amp;dcy;&amp;ncy;&amp;iecy;&amp;gcy;&amp;ocy; &amp;pcy;&amp;rcy;&amp;iecy;&amp;dcy;&amp;pcy;&amp;rcy;&amp;icy;&amp;ncy;&amp;icy;&amp;mcy;&amp;acy;&amp;tcy;&amp;iecy;&amp;lcy;"/>
          <p:cNvPicPr/>
          <p:nvPr/>
        </p:nvPicPr>
        <p:blipFill>
          <a:blip r:embed="rId1"/>
          <a:stretch/>
        </p:blipFill>
        <p:spPr>
          <a:xfrm>
            <a:off x="428760" y="142920"/>
            <a:ext cx="2071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24000" y="549360"/>
            <a:ext cx="8135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 РАСХОДОВ БЮДЖЕТА МУНИЦИПАЛЬНОГО ОБРАЗОВАНИЯ НАГОРСКИЙ МУНИЦИПАЛЬНЫЙ РАЙОН КИРОВСКОЙ ОБЛАСТИ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724360" y="157176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16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887640" y="2871720"/>
            <a:ext cx="10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39640" y="15717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15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8"/>
          <p:cNvSpPr/>
          <p:nvPr/>
        </p:nvSpPr>
        <p:spPr>
          <a:xfrm>
            <a:off x="3527280" y="3392640"/>
            <a:ext cx="2124360" cy="0"/>
          </a:xfrm>
          <a:prstGeom prst="line">
            <a:avLst/>
          </a:prstGeom>
          <a:ln w="19044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527280" y="2708280"/>
            <a:ext cx="1441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58432,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250920" y="2421000"/>
            <a:ext cx="3168720" cy="2628720"/>
          </a:xfrm>
          <a:prstGeom prst="flowChartMultidocumen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86561,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5724360" y="2205000"/>
            <a:ext cx="3168720" cy="3168720"/>
          </a:xfrm>
          <a:prstGeom prst="flowChartMultidocumen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28129,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6:40:34Z</dcterms:created>
  <dc:creator>Лариса Патрушева</dc:creator>
  <dc:description/>
  <dc:language>en-US</dc:language>
  <cp:lastModifiedBy>ВодоносоваЕЮ</cp:lastModifiedBy>
  <dcterms:modified xsi:type="dcterms:W3CDTF">2017-02-15T11:34:00Z</dcterms:modified>
  <cp:revision>440</cp:revision>
  <dc:subject/>
  <dc:title>Департамент финансов  Кировской области</dc:title>
</cp:coreProperties>
</file>