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AC99-E630-4E5C-9ABA-3C554E8F3E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3C1C-AEE9-4E6F-AA4B-F410D0DE57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A460-97F4-43F8-AA30-92DAE198F7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2164-1608-4F58-95EC-82438F6C8A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BA8B-9F9D-4422-8F99-896BA03C1D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E38-EA54-48C0-84C3-7FF26712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239-6A5A-46EF-8F12-973DEF19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0446-8CF2-4D27-AA28-E3A1AB14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77D1-B321-4883-BC2A-F300505E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BE2-0380-4137-A1D7-631AE97D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E73-1B25-4F35-A9EF-11423FD4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6E4-9E33-4E45-A26B-BDE0B6C1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BD23-D4E6-40B8-A90D-D2AB1032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BD90-3C97-449B-B369-C94401D3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55CB-A441-421F-BC85-28674C9A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775A-A4D9-4A2D-A79B-18156B52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31B-3153-4D1A-9A87-D3A67909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3ed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2CB5-1052-4969-80DC-1D9BF1842268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267"/>
          <p:cNvSpPr/>
          <p:nvPr/>
        </p:nvSpPr>
        <p:spPr>
          <a:xfrm>
            <a:off x="571680" y="285840"/>
            <a:ext cx="7992720" cy="6094440"/>
          </a:xfrm>
          <a:prstGeom prst="horizontalScroll">
            <a:avLst>
              <a:gd name="adj" fmla="val 12500"/>
            </a:avLst>
          </a:prstGeom>
          <a:solidFill>
            <a:srgbClr val="ffff00">
              <a:alpha val="20000"/>
            </a:srgbClr>
          </a:solidFill>
          <a:ln w="9360">
            <a:solidFill>
              <a:srgbClr val="990099"/>
            </a:solidFill>
            <a:miter/>
          </a:ln>
          <a:effectLst>
            <a:outerShdw dist="50938" dir="3061439" blurRad="0" rotWithShape="0">
              <a:srgbClr val="ffffff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Исполнение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бюджета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муниципального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образования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Нагорский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муниципальный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район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Кировской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област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за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2020год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68360" y="5661000"/>
            <a:ext cx="856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60640" indent="-797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Georgia"/>
                <a:ea typeface="Arial"/>
              </a:rPr>
              <a:t>    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6972480" cy="1542960"/>
          </a:xfrm>
          <a:prstGeom prst="rect">
            <a:avLst/>
          </a:prstGeom>
          <a:solidFill>
            <a:srgbClr val="c0bab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c0099"/>
                </a:solidFill>
                <a:latin typeface="Calibri"/>
              </a:rPr>
              <a:t>Динамика поступления безвозмездных поступлений бюджета Нагорского муниципального района за 2020 год к уровню 2019 года, тыс. руб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57120" y="1785960"/>
          <a:ext cx="8215560" cy="5224320"/>
        </p:xfrm>
        <a:graphic>
          <a:graphicData uri="http://schemas.openxmlformats.org/drawingml/2006/table">
            <a:tbl>
              <a:tblPr/>
              <a:tblGrid>
                <a:gridCol w="2757600"/>
                <a:gridCol w="1785960"/>
                <a:gridCol w="1857240"/>
                <a:gridCol w="181476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звозмездные поступле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2020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2019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2020 года от 2019 года. тыс. рубле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та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 740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431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8 309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сид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 363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 592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0 771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вен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 195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 419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 776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ые МБ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120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536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 196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возмездные поступления от негосударственных организац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безвозмездные поступлен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4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т остатков субсидий, субвенц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безвозмездных поступл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 841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6 290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4 550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pic>
        <p:nvPicPr>
          <p:cNvPr id="80" name="Picture 2" descr="&amp;Pcy;&amp;lcy;&amp;acy;&amp;ncy; &amp;pcy;&amp;ocy; &amp;dcy;&amp;ocy;&amp;khcy;&amp;ocy;&amp;dcy;&amp;acy;&amp;mcy; &amp;gcy;&amp;ocy;&amp;rcy;&amp;ocy;&amp;dcy;&amp;scy;&amp;kcy;&amp;ocy;&amp;gcy;&amp;ocy; &amp;bcy;&amp;yucy;&amp;dcy;&amp;zhcy;&amp;iecy;&amp;tcy;&amp;acy; &amp;ncy;&amp;acy; 2012 &amp;gcy;&amp;ocy;&amp;dcy; &amp;vcy;&amp;ycy;&amp;pcy;&amp;ocy;&amp;lcy;&amp;ncy;&amp;iecy;&amp;ncy; &amp;ncy;&amp;acy; 95"/>
          <p:cNvPicPr/>
          <p:nvPr/>
        </p:nvPicPr>
        <p:blipFill>
          <a:blip r:embed="rId1"/>
          <a:stretch/>
        </p:blipFill>
        <p:spPr>
          <a:xfrm>
            <a:off x="7286760" y="214200"/>
            <a:ext cx="1517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0" y="14292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95b22"/>
                </a:solidFill>
                <a:latin typeface="Calibri"/>
              </a:rPr>
              <a:t>Анализ недоимки в консолидированный бюджет Нагорского района за 2020 год, </a:t>
            </a:r>
            <a:br>
              <a:rPr sz="2400"/>
            </a:br>
            <a:r>
              <a:rPr b="0" lang="ru-RU" sz="2400" spc="-1" strike="noStrike">
                <a:solidFill>
                  <a:srgbClr val="b95b22"/>
                </a:solidFill>
                <a:latin typeface="Calibri"/>
              </a:rPr>
              <a:t>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14200" y="1785960"/>
          <a:ext cx="8501040" cy="4929120"/>
        </p:xfrm>
        <a:graphic>
          <a:graphicData uri="http://schemas.openxmlformats.org/drawingml/2006/table">
            <a:tbl>
              <a:tblPr/>
              <a:tblGrid>
                <a:gridCol w="3386160"/>
                <a:gridCol w="1805040"/>
                <a:gridCol w="1654200"/>
                <a:gridCol w="1655640"/>
              </a:tblGrid>
              <a:tr h="620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латеж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доимка на 01.01.2020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доимка на 01.01.2021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, тыс. рубл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 т.ч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8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61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7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ДФ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290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9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8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45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НВ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1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482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физических лиц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мельный налог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9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, в т.ч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44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57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6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енда земл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4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1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енда имущест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9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6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43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02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19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3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2" descr="&amp;Dcy;&amp;ocy;&amp;pcy;&amp;ocy;&amp;lcy;&amp;ncy;&amp;icy;&amp;tcy;&amp;iecy;&amp;lcy;&amp;softcy;&amp;ncy;&amp;ycy;&amp;iecy; &amp;dcy;&amp;ocy;&amp;khcy;&amp;ocy;&amp;dcy;&amp;ycy; &amp;bcy;&amp;yucy;&amp;dcy;&amp;zhcy;&amp;iecy;&amp;tcy;&amp;acy; &amp;pcy;&amp;ocy;&amp;jcy;&amp;dcy;&amp;ucy;&amp;tcy; &amp;ncy;&amp;acy; &amp;scy;&amp;iecy;&amp;lcy;&amp;softcy;&amp;scy;&amp;kcy;&amp;ocy;&amp;iecy; &amp;khcy;&amp;ocy;&amp;zcy;&amp;yacy;&amp;jcy;&amp;scy;&amp;tcy;&amp;vcy;&amp;ocy; &amp;icy; &amp;gcy;&amp;acy;&amp;rcy;&amp;acy;&amp;ncy;&amp;tcy;&amp;icy;&amp;icy; &amp;pcy;&amp;ocy; &amp;icy;&amp;ncy;&amp;vcy;&amp;iecy;&amp;scy;&amp;tcy;&amp;kcy;&amp;rcy;&amp;iecy;&amp;dcy;&amp;icy;&amp;tcy;&amp;acy;&amp;mcy;: &amp;Pcy;&amp;ocy;&amp;rcy;&amp;tcy;&amp;acy;&amp;lcy; &amp;mcy;&amp;acy;&amp;lcy;&amp;ocy;&amp;gcy;&amp;ocy; &amp;icy; &amp;scy;&amp;rcy;&amp;iecy;&amp;dcy;&amp;ncy;&amp;iecy;&amp;gcy;&amp;ocy; &amp;pcy;&amp;rcy;&amp;iecy;&amp;dcy;&amp;pcy;&amp;rcy;&amp;icy;&amp;ncy;&amp;icy;&amp;mcy;&amp;acy;&amp;tcy;&amp;iecy;&amp;lcy;"/>
          <p:cNvPicPr/>
          <p:nvPr/>
        </p:nvPicPr>
        <p:blipFill>
          <a:blip r:embed="rId1"/>
          <a:stretch/>
        </p:blipFill>
        <p:spPr>
          <a:xfrm>
            <a:off x="428760" y="142920"/>
            <a:ext cx="20714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71840" y="274320"/>
            <a:ext cx="6114960" cy="725400"/>
          </a:xfrm>
          <a:prstGeom prst="rect">
            <a:avLst/>
          </a:prstGeom>
          <a:solidFill>
            <a:srgbClr val="ebb391"/>
          </a:solidFill>
          <a:ln w="9360">
            <a:solidFill>
              <a:srgbClr val="968c8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Calibri"/>
              </a:rPr>
              <a:t>Работа, проводимая  в районе по привлечению и увеличению </a:t>
            </a:r>
            <a:br>
              <a:rPr sz="1600"/>
            </a:br>
            <a:r>
              <a:rPr b="0" i="1" lang="ru-RU" sz="1600" spc="-1" strike="noStrike">
                <a:solidFill>
                  <a:srgbClr val="404040"/>
                </a:solidFill>
                <a:latin typeface="Calibri"/>
              </a:rPr>
              <a:t>доходной части бюджета в 2020 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"/>
          <p:cNvPicPr/>
          <p:nvPr/>
        </p:nvPicPr>
        <p:blipFill>
          <a:blip r:embed="rId1"/>
          <a:stretch/>
        </p:blipFill>
        <p:spPr>
          <a:xfrm>
            <a:off x="133200" y="1133640"/>
            <a:ext cx="8894880" cy="5541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spasitepomogite.ru/wp-content/uploads/Upravlenie-debitorskoj-zadolzhennostyu.jpg"/>
          <p:cNvPicPr/>
          <p:nvPr/>
        </p:nvPicPr>
        <p:blipFill>
          <a:blip r:embed="rId2"/>
          <a:stretch/>
        </p:blipFill>
        <p:spPr>
          <a:xfrm>
            <a:off x="136440" y="214200"/>
            <a:ext cx="26496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3" descr=""/>
          <p:cNvPicPr/>
          <p:nvPr/>
        </p:nvPicPr>
        <p:blipFill>
          <a:blip r:embed="rId1"/>
          <a:stretch/>
        </p:blipFill>
        <p:spPr>
          <a:xfrm>
            <a:off x="450720" y="1231920"/>
            <a:ext cx="8272440" cy="5486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kayrosblog.ru/wp-content/uploads/2016/12/Rashody-lichnogo-byudzheta-kak-derzhat-sebya-v-rukah-5-768x511.jpg"/>
          <p:cNvPicPr/>
          <p:nvPr/>
        </p:nvPicPr>
        <p:blipFill>
          <a:blip r:embed="rId2"/>
          <a:stretch/>
        </p:blipFill>
        <p:spPr>
          <a:xfrm>
            <a:off x="4714920" y="142920"/>
            <a:ext cx="421488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24000" y="549360"/>
            <a:ext cx="81356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eorgia"/>
                <a:ea typeface="Arial"/>
              </a:rPr>
              <a:t>ДИНАМИКА  РАСХОДОВ БЮДЖЕТА МУНИЦИПАЛЬНОГО ОБРАЗОВАНИЯ НАГОРСКИЙ МУНИЦИПАЛЬНЫЙ РАЙОН КИРОВСКОЙ ОБЛАСТИ</a:t>
            </a:r>
            <a:br>
              <a:rPr sz="18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724360" y="1571760"/>
            <a:ext cx="29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2020 го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3887640" y="2871720"/>
            <a:ext cx="10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39640" y="15717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2019 го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3527280" y="3392640"/>
            <a:ext cx="2124360" cy="0"/>
          </a:xfrm>
          <a:prstGeom prst="line">
            <a:avLst/>
          </a:prstGeom>
          <a:ln w="19044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3527280" y="2708280"/>
            <a:ext cx="14414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41756,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ыс. руб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250920" y="2421000"/>
            <a:ext cx="3168720" cy="2628720"/>
          </a:xfrm>
          <a:prstGeom prst="flowChartMultidocumen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253459,4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ыс. руб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5724360" y="2205000"/>
            <a:ext cx="3168720" cy="3168720"/>
          </a:xfrm>
          <a:prstGeom prst="flowChartMultidocumen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295215,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ыс. руб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став расходов бюджета Нагорского муниципального района в 2020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Диаграмма 5" descr=""/>
          <p:cNvPicPr/>
          <p:nvPr/>
        </p:nvPicPr>
        <p:blipFill>
          <a:blip r:embed="rId1"/>
          <a:stretch/>
        </p:blipFill>
        <p:spPr>
          <a:xfrm>
            <a:off x="460440" y="198108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45072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eorgia"/>
                <a:ea typeface="Arial"/>
              </a:rPr>
              <a:t>Отраслевая структура расходов в 2020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14200" y="928800"/>
          <a:ext cx="8715600" cy="5835600"/>
        </p:xfrm>
        <a:graphic>
          <a:graphicData uri="http://schemas.openxmlformats.org/drawingml/2006/table">
            <a:tbl>
              <a:tblPr/>
              <a:tblGrid>
                <a:gridCol w="4094280"/>
                <a:gridCol w="841320"/>
                <a:gridCol w="1190520"/>
                <a:gridCol w="1121040"/>
                <a:gridCol w="1468440"/>
              </a:tblGrid>
              <a:tr h="92052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ый расход, тыс.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исполнения, %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льный вес,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7800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55d7e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5215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27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щегосударственные вопрос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849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безопасность и правоохранительная деятельност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7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экономик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82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30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Жилищно – коммунальное хозяйств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4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храна окружающей сре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27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разова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282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ультура и кинематография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08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30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Здравоохране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4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1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оциальная политик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47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30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зическая культура и спор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служивание государственного и муниципального долг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3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6044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ежбюджетные трансферты общего характера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46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ирование отраслей социально – культурной сферы в 2020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Диаграмма 4" descr=""/>
          <p:cNvPicPr/>
          <p:nvPr/>
        </p:nvPicPr>
        <p:blipFill>
          <a:blip r:embed="rId1"/>
          <a:stretch/>
        </p:blipFill>
        <p:spPr>
          <a:xfrm>
            <a:off x="460440" y="2000160"/>
            <a:ext cx="83977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держка отраслей экономики района в 2020 г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Диаграмма 3" descr=""/>
          <p:cNvPicPr/>
          <p:nvPr/>
        </p:nvPicPr>
        <p:blipFill>
          <a:blip r:embed="rId1"/>
          <a:stretch/>
        </p:blipFill>
        <p:spPr>
          <a:xfrm>
            <a:off x="500040" y="228600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служивание муниципального долга в 2020 год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Диаграмма 3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Вертикальный свиток 4"/>
          <p:cNvSpPr/>
          <p:nvPr/>
        </p:nvSpPr>
        <p:spPr>
          <a:xfrm>
            <a:off x="0" y="500040"/>
            <a:ext cx="9144000" cy="5786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Бюджет муниципального образования Нагорский муниципальный район Кировской области за 2020 год исполнен по доходам в сумме 297158,1 тыс. рублей и по расходам в сумме 295215,6 тыс. рублей, с профицитом       1942,5тыс. рубл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&amp;Pcy;&amp;iecy;&amp;rcy;&amp;iecy;&amp;vcy;&amp;ycy;&amp;pcy;&amp;ocy;&amp;lcy;&amp;ncy;&amp;iecy;&amp;ncy; &amp;pcy;&amp;lcy;&amp;acy;&amp;ncy; &amp;pcy;&amp;ocy; &amp;dcy;&amp;ocy;&amp;khcy;&amp;ocy;&amp;dcy;&amp;acy;&amp;mcy; &amp;kcy;&amp;rcy;&amp;acy;&amp;iecy;&amp;vcy;&amp;ocy;&amp;gcy;&amp;ocy; &amp;bcy;&amp;yucy;&amp;dcy;&amp;zhcy;&amp;iecy;&amp;tcy;&amp;acy; LifeNews.pro"/>
          <p:cNvPicPr/>
          <p:nvPr/>
        </p:nvPicPr>
        <p:blipFill>
          <a:blip r:embed="rId1"/>
          <a:stretch/>
        </p:blipFill>
        <p:spPr>
          <a:xfrm>
            <a:off x="2428920" y="3929040"/>
            <a:ext cx="4357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бюджетные трансферты общего характера  поселениям района в 2020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Диаграмма 3" descr=""/>
          <p:cNvPicPr/>
          <p:nvPr/>
        </p:nvPicPr>
        <p:blipFill>
          <a:blip r:embed="rId1"/>
          <a:stretch/>
        </p:blipFill>
        <p:spPr>
          <a:xfrm>
            <a:off x="460440" y="198108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жбюджетные трансферты целевого характера поселениям района в 2020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Диаграмма 3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2868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установленного норматива расходов на содержание органов местного самоуправления в 2020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Диаграмма 4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8400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работная плата с начислениями за 2020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Диаграмма 3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8115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редиторская задолженность по заработной плате с начислениями за 2020 г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Диаграмма 5" descr=""/>
          <p:cNvPicPr/>
          <p:nvPr/>
        </p:nvPicPr>
        <p:blipFill>
          <a:blip r:embed="rId1"/>
          <a:stretch/>
        </p:blipFill>
        <p:spPr>
          <a:xfrm>
            <a:off x="714240" y="1928880"/>
            <a:ext cx="8001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Д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о численности и денежном содержании муниципальных служащих и работников муниципальных учреждений, финансируемых из бюджета муниципального района, за 2020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28760" y="2500200"/>
          <a:ext cx="8143920" cy="3438720"/>
        </p:xfrm>
        <a:graphic>
          <a:graphicData uri="http://schemas.openxmlformats.org/drawingml/2006/table">
            <a:tbl>
              <a:tblPr/>
              <a:tblGrid>
                <a:gridCol w="2714400"/>
                <a:gridCol w="2714760"/>
                <a:gridCol w="2714760"/>
              </a:tblGrid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сль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очная численность, челове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ое содержание (фактически произведенные выплаты по оплате труда с начислениями), тыс. рубле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е служащие и работники органов местного самоуправления райо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25631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ники образова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185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ники культур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880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ниципальные пр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Диаграмма 3" descr=""/>
          <p:cNvPicPr/>
          <p:nvPr/>
        </p:nvPicPr>
        <p:blipFill>
          <a:blip r:embed="rId1"/>
          <a:stretch/>
        </p:blipFill>
        <p:spPr>
          <a:xfrm>
            <a:off x="142920" y="1357200"/>
            <a:ext cx="8429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программные мероприя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Диаграмма 3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фицит и муниципальный дол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14240" y="1214280"/>
          <a:ext cx="7715520" cy="5187960"/>
        </p:xfrm>
        <a:graphic>
          <a:graphicData uri="http://schemas.openxmlformats.org/drawingml/2006/table">
            <a:tbl>
              <a:tblPr/>
              <a:tblGrid>
                <a:gridCol w="4060800"/>
                <a:gridCol w="1876680"/>
                <a:gridCol w="1778040"/>
              </a:tblGrid>
              <a:tr h="731880">
                <a:tc>
                  <a:txBody>
                    <a:bodyPr lIns="2520" rIns="2520" tIns="25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(тыс. рублей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 (тыс. рублей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ОВ БЮДЖЕТО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63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2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 бюджетом муниципального района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бюджетом муниципального района  кредитов от кредитных организаций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 бюджетных кредитов от других бюджетов бюджетной системы Российской Федерации бюджетом муниципального района  в валюте 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бюджетом муниципального района кредитов от других бюджетов бюджетной системы Российской Федерации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средств бюджет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3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942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400" spc="-1" strike="noStrike">
                <a:solidFill>
                  <a:srgbClr val="361fc3"/>
                </a:solidFill>
                <a:latin typeface="Monotype Corsiva"/>
              </a:rPr>
              <a:t>Спасибо за внимание !</a:t>
            </a: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26868"/>
          </a:solidFill>
          <a:ln w="9360">
            <a:solidFill>
              <a:srgbClr val="b39d9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нение доходной части бюджета Нагорского муниципального района за 2020 год, 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57120" y="1996920"/>
          <a:ext cx="8329680" cy="2718000"/>
        </p:xfrm>
        <a:graphic>
          <a:graphicData uri="http://schemas.openxmlformats.org/drawingml/2006/table">
            <a:tbl>
              <a:tblPr/>
              <a:tblGrid>
                <a:gridCol w="2522520"/>
                <a:gridCol w="2017800"/>
                <a:gridCol w="1944720"/>
                <a:gridCol w="1844640"/>
              </a:tblGrid>
              <a:tr h="108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ХОД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2020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2020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ИСПОЛНЕНИЯ ПЛА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ственные доход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 920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 316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7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возмездные поступле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 430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 841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доход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4 350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 158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" descr="&amp;Ncy;&amp;ocy;&amp;vcy;&amp;ocy;&amp;scy;&amp;tcy;&amp;icy; &quot; &amp;Scy; 2014 &amp;gcy;&amp;ocy;&amp;dcy;&amp;acy; &amp;mcy;&amp;iecy;&amp;ncy;&amp;yacy;&amp;yucy;&amp;tcy;&amp;scy;&amp;yacy; &amp;ncy;&amp;ocy;&amp;rcy;&amp;mcy;&amp;acy;&amp;tcy;&amp;icy;&amp;vcy;&amp;ycy; &amp;rcy;&amp;acy;&amp;scy;&amp;pcy;&amp;rcy;&amp;iecy;&amp;dcy;&amp;iecy;&amp;lcy;&amp;iecy;&amp;ncy;&amp;icy;&amp;yacy; &amp;ncy;&amp;iecy;&amp;ncy;&amp;acy;&amp;lcy;&amp;ocy;&amp;gcy;&amp;ocy;&amp;vcy;&amp;ycy;&amp;khcy; &amp;dcy;&amp;ocy;&amp;khcy;&amp;ocy;&amp;dcy;&amp;ocy;&amp;vcy; &amp;vcy; &amp;bcy;&amp;yucy;&amp;dcy;&amp;zhcy;&amp;iecy;&amp;tcy;&amp;ycy; &amp;gcy;&amp;ocy;&amp;rcy;&amp;ocy;&amp;dcy;&amp;scy;&amp;kcy;&amp;icy;&amp;khcy; &amp;ocy;&amp;kcy;&amp;rcy;&amp;ucy;&amp;gcy;&amp;ocy;&amp;vcy; &quot; &amp;Mcy;&amp;icy;&amp;ncy;&amp;icy;&amp;scy;&amp;tcy;&amp;iecy;&amp;rcy;&amp;scy;&amp;tcy;&amp;vcy;&amp;ocy; &amp;icy;&amp;mcy;&amp;ucy;&amp;shchcy;&amp;iecy;&amp;scy;&amp;tcy;&amp;vcy;&amp;iecy;&amp;ncy;"/>
          <p:cNvPicPr/>
          <p:nvPr/>
        </p:nvPicPr>
        <p:blipFill>
          <a:blip r:embed="rId1"/>
          <a:stretch/>
        </p:blipFill>
        <p:spPr>
          <a:xfrm>
            <a:off x="3203640" y="4797360"/>
            <a:ext cx="27860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Диаграмма 3" descr=""/>
          <p:cNvPicPr/>
          <p:nvPr/>
        </p:nvPicPr>
        <p:blipFill>
          <a:blip r:embed="rId1"/>
          <a:stretch/>
        </p:blipFill>
        <p:spPr>
          <a:xfrm>
            <a:off x="214200" y="1477800"/>
            <a:ext cx="8786880" cy="5166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Georgia"/>
                <a:ea typeface="Arial"/>
              </a:rPr>
              <a:t>Динамика доходов бюджета Нагорского 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Georgia"/>
                <a:ea typeface="Arial"/>
              </a:rPr>
              <a:t>муниципального района  2020 год к уровню 2019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Georgia"/>
                <a:ea typeface="Arial"/>
              </a:rPr>
              <a:t> года, тыс. рублей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Выноска 2 3"/>
          <p:cNvSpPr/>
          <p:nvPr/>
        </p:nvSpPr>
        <p:spPr>
          <a:xfrm>
            <a:off x="2786040" y="3500280"/>
            <a:ext cx="1071720" cy="428760"/>
          </a:xfrm>
          <a:prstGeom prst="borderCallout2">
            <a:avLst>
              <a:gd name="adj1" fmla="val 18750"/>
              <a:gd name="adj2" fmla="val -8333"/>
              <a:gd name="adj3" fmla="val 32972"/>
              <a:gd name="adj4" fmla="val -22356"/>
              <a:gd name="adj5" fmla="val 145759"/>
              <a:gd name="adj6" fmla="val -35106"/>
            </a:avLst>
          </a:prstGeom>
          <a:solidFill>
            <a:srgbClr val="92d050"/>
          </a:solidFill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+4 638,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Выноска 2 4"/>
          <p:cNvSpPr/>
          <p:nvPr/>
        </p:nvSpPr>
        <p:spPr>
          <a:xfrm>
            <a:off x="6929280" y="1643040"/>
            <a:ext cx="1357560" cy="3571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26189"/>
              <a:gd name="adj5" fmla="val 138092"/>
              <a:gd name="adj6" fmla="val -52967"/>
            </a:avLst>
          </a:prstGeom>
          <a:solidFill>
            <a:srgbClr val="92d050"/>
          </a:solidFill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+44 550,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7120" y="115920"/>
            <a:ext cx="8607600" cy="1170000"/>
          </a:xfrm>
          <a:prstGeom prst="rect">
            <a:avLst/>
          </a:prstGeom>
          <a:solidFill>
            <a:srgbClr val="c0bab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нение уточненного годового план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налоговым доходам за 2020 год п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горскому муниципальному район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9640" y="1341360"/>
          <a:ext cx="8425080" cy="5238720"/>
        </p:xfrm>
        <a:graphic>
          <a:graphicData uri="http://schemas.openxmlformats.org/drawingml/2006/table">
            <a:tbl>
              <a:tblPr/>
              <a:tblGrid>
                <a:gridCol w="2557440"/>
                <a:gridCol w="865440"/>
                <a:gridCol w="1225440"/>
                <a:gridCol w="1224000"/>
                <a:gridCol w="1295280"/>
                <a:gridCol w="125748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 на 2020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ое поступление за 2020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исполнения пл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фактического поступления 2020 года от плана в тыс. рубля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фактического поступления 2020 года от плана , в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 116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 131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15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Налог на доходы физических лиц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884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279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4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Акциз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80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680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00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Упрощенная система налогооблож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837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200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62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Единый сельскохозяйственный налог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Единый налог на вмененный дохо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57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79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атентная система налогооблож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Налог на имущество организац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1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7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Госпошлин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4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1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pic>
        <p:nvPicPr>
          <p:cNvPr id="61" name="Picture 4" descr="https://im0-tub-ru.yandex.net/i?id=be48b5f7c614fd6dbd40b31ad88a09a1&amp;n=33&amp;h=215&amp;w=325"/>
          <p:cNvPicPr/>
          <p:nvPr/>
        </p:nvPicPr>
        <p:blipFill>
          <a:blip r:embed="rId1"/>
          <a:stretch/>
        </p:blipFill>
        <p:spPr>
          <a:xfrm>
            <a:off x="136440" y="285840"/>
            <a:ext cx="18637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42560"/>
            <a:ext cx="8640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eorgia"/>
                <a:ea typeface="Arial"/>
              </a:rPr>
              <a:t>Динамика поступлений основных налоговых доходов  бюджета Нагорского муниципального района за 2020 год в сравнении с 2019 годом, тыс</a:t>
            </a:r>
            <a:r>
              <a:rPr b="1" lang="ru-RU" sz="1600" spc="-1" strike="noStrike">
                <a:solidFill>
                  <a:srgbClr val="333399"/>
                </a:solidFill>
                <a:latin typeface="Georgia"/>
                <a:ea typeface="Arial"/>
              </a:rPr>
              <a:t>. рубле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8" descr=""/>
          <p:cNvPicPr/>
          <p:nvPr/>
        </p:nvPicPr>
        <p:blipFill>
          <a:blip r:embed="rId1"/>
          <a:stretch/>
        </p:blipFill>
        <p:spPr>
          <a:xfrm>
            <a:off x="0" y="1214280"/>
            <a:ext cx="89503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Стрелка вправо с вырезом 4"/>
          <p:cNvSpPr/>
          <p:nvPr/>
        </p:nvSpPr>
        <p:spPr>
          <a:xfrm rot="1601400">
            <a:off x="275760" y="3035160"/>
            <a:ext cx="1000080" cy="436680"/>
          </a:xfrm>
          <a:custGeom>
            <a:avLst/>
            <a:gdLst>
              <a:gd name="textAreaLeft" fmla="*/ 77400 w 1000080"/>
              <a:gd name="textAreaRight" fmla="*/ 922680 w 1000080"/>
              <a:gd name="textAreaTop" fmla="*/ 109080 h 436680"/>
              <a:gd name="textAreaBottom" fmla="*/ 327600 h 43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253" y="5400"/>
                </a:lnTo>
                <a:lnTo>
                  <a:pt x="18253" y="0"/>
                </a:lnTo>
                <a:lnTo>
                  <a:pt x="21600" y="10800"/>
                </a:lnTo>
                <a:lnTo>
                  <a:pt x="18253" y="21600"/>
                </a:lnTo>
                <a:lnTo>
                  <a:pt x="18253" y="16200"/>
                </a:lnTo>
                <a:lnTo>
                  <a:pt x="0" y="16200"/>
                </a:lnTo>
                <a:lnTo>
                  <a:pt x="1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-593,1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право с вырезом 5"/>
          <p:cNvSpPr/>
          <p:nvPr/>
        </p:nvSpPr>
        <p:spPr>
          <a:xfrm rot="19226400">
            <a:off x="1568160" y="2717280"/>
            <a:ext cx="1009440" cy="435240"/>
          </a:xfrm>
          <a:custGeom>
            <a:avLst/>
            <a:gdLst>
              <a:gd name="textAreaLeft" fmla="*/ 108720 w 1009440"/>
              <a:gd name="textAreaRight" fmla="*/ 900720 w 1009440"/>
              <a:gd name="textAreaTop" fmla="*/ 108720 h 435240"/>
              <a:gd name="textAreaBottom" fmla="*/ 326520 h 435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41" y="5400"/>
                </a:ln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16941" y="16200"/>
                </a:lnTo>
                <a:lnTo>
                  <a:pt x="0" y="16200"/>
                </a:lnTo>
                <a:lnTo>
                  <a:pt x="233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+2 442,1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трелка вправо с вырезом 6"/>
          <p:cNvSpPr/>
          <p:nvPr/>
        </p:nvSpPr>
        <p:spPr>
          <a:xfrm rot="1652400">
            <a:off x="2508120" y="3800160"/>
            <a:ext cx="874800" cy="414360"/>
          </a:xfrm>
          <a:custGeom>
            <a:avLst/>
            <a:gdLst>
              <a:gd name="textAreaLeft" fmla="*/ 103320 w 874800"/>
              <a:gd name="textAreaRight" fmla="*/ 771480 w 874800"/>
              <a:gd name="textAreaTop" fmla="*/ 103680 h 414360"/>
              <a:gd name="textAreaBottom" fmla="*/ 311040 h 41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89" y="5400"/>
                </a:lnTo>
                <a:lnTo>
                  <a:pt x="16489" y="0"/>
                </a:lnTo>
                <a:lnTo>
                  <a:pt x="21600" y="10800"/>
                </a:lnTo>
                <a:lnTo>
                  <a:pt x="16489" y="21600"/>
                </a:lnTo>
                <a:lnTo>
                  <a:pt x="16489" y="16200"/>
                </a:lnTo>
                <a:lnTo>
                  <a:pt x="0" y="16200"/>
                </a:lnTo>
                <a:lnTo>
                  <a:pt x="255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-390,0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трелка вправо с вырезом 7"/>
          <p:cNvSpPr/>
          <p:nvPr/>
        </p:nvSpPr>
        <p:spPr>
          <a:xfrm rot="19349400">
            <a:off x="3552840" y="1355400"/>
            <a:ext cx="1041480" cy="441360"/>
          </a:xfrm>
          <a:custGeom>
            <a:avLst/>
            <a:gdLst>
              <a:gd name="textAreaLeft" fmla="*/ 110160 w 1041480"/>
              <a:gd name="textAreaRight" fmla="*/ 931320 w 1041480"/>
              <a:gd name="textAreaTop" fmla="*/ 110160 h 441360"/>
              <a:gd name="textAreaBottom" fmla="*/ 331200 h 441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032" y="5400"/>
                </a:lnTo>
                <a:lnTo>
                  <a:pt x="17032" y="0"/>
                </a:lnTo>
                <a:lnTo>
                  <a:pt x="21600" y="10800"/>
                </a:lnTo>
                <a:lnTo>
                  <a:pt x="17032" y="21600"/>
                </a:lnTo>
                <a:lnTo>
                  <a:pt x="17032" y="16200"/>
                </a:lnTo>
                <a:lnTo>
                  <a:pt x="0" y="16200"/>
                </a:lnTo>
                <a:lnTo>
                  <a:pt x="228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+3 390,0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Стрелка вправо с вырезом 9"/>
          <p:cNvSpPr/>
          <p:nvPr/>
        </p:nvSpPr>
        <p:spPr>
          <a:xfrm rot="1929600">
            <a:off x="5524560" y="3704760"/>
            <a:ext cx="842760" cy="414360"/>
          </a:xfrm>
          <a:custGeom>
            <a:avLst/>
            <a:gdLst>
              <a:gd name="textAreaLeft" fmla="*/ 103680 w 842760"/>
              <a:gd name="textAreaRight" fmla="*/ 739080 w 842760"/>
              <a:gd name="textAreaTop" fmla="*/ 103680 h 414360"/>
              <a:gd name="textAreaBottom" fmla="*/ 311040 h 41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74" y="5400"/>
                </a:lnTo>
                <a:lnTo>
                  <a:pt x="16274" y="0"/>
                </a:lnTo>
                <a:lnTo>
                  <a:pt x="21600" y="10800"/>
                </a:lnTo>
                <a:lnTo>
                  <a:pt x="16274" y="21600"/>
                </a:lnTo>
                <a:lnTo>
                  <a:pt x="16274" y="16200"/>
                </a:lnTo>
                <a:lnTo>
                  <a:pt x="0" y="16200"/>
                </a:lnTo>
                <a:lnTo>
                  <a:pt x="26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-82,9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Стрелка вправо с вырезом 10" descr=""/>
          <p:cNvPicPr/>
          <p:nvPr/>
        </p:nvPicPr>
        <p:blipFill>
          <a:blip r:embed="rId2"/>
          <a:stretch/>
        </p:blipFill>
        <p:spPr>
          <a:xfrm>
            <a:off x="4559400" y="3833640"/>
            <a:ext cx="903240" cy="6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solidFill>
            <a:srgbClr val="c9cdb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нение уточненного годового план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неналоговым доходам за 2020 год п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горскому муниципальному райо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28760" y="1276200"/>
          <a:ext cx="8319960" cy="4459320"/>
        </p:xfrm>
        <a:graphic>
          <a:graphicData uri="http://schemas.openxmlformats.org/drawingml/2006/table">
            <a:tbl>
              <a:tblPr/>
              <a:tblGrid>
                <a:gridCol w="2257200"/>
                <a:gridCol w="1214640"/>
                <a:gridCol w="1357200"/>
                <a:gridCol w="1114560"/>
                <a:gridCol w="1224000"/>
                <a:gridCol w="1152360"/>
              </a:tblGrid>
              <a:tr h="77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на 2020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ое исполнение за 2020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исполнения пл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лана в тыс. рубля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лана в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803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184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Аренда земл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68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07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3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Аренда имуществ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13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85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Прочие доходы от использования имуществ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ВО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раф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20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21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рочие доходы от оказания платных услуг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75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058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рочие неналоговые дохо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pic>
        <p:nvPicPr>
          <p:cNvPr id="72" name="Picture 2" descr="http://lance24.ru/wp-content/uploads/2017/03/money.jpg"/>
          <p:cNvPicPr/>
          <p:nvPr/>
        </p:nvPicPr>
        <p:blipFill>
          <a:blip r:embed="rId1"/>
          <a:stretch/>
        </p:blipFill>
        <p:spPr>
          <a:xfrm>
            <a:off x="3564000" y="5877000"/>
            <a:ext cx="2448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f8e6d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Динамика поступлений неналоговых доходов в бюджет Нагорского муниципального района за 2020 год в сравнении с 2019 годом, тыс. руб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"/>
          <p:cNvPicPr/>
          <p:nvPr/>
        </p:nvPicPr>
        <p:blipFill>
          <a:blip r:embed="rId1"/>
          <a:stretch/>
        </p:blipFill>
        <p:spPr>
          <a:xfrm>
            <a:off x="417600" y="1649520"/>
            <a:ext cx="7929360" cy="4572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46432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               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Исполнение плана по безвозмездным поступлениям по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                            бюджету Нагорского муниципального района за 2020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42960" y="1500120"/>
          <a:ext cx="8258040" cy="4724640"/>
        </p:xfrm>
        <a:graphic>
          <a:graphicData uri="http://schemas.openxmlformats.org/drawingml/2006/table">
            <a:tbl>
              <a:tblPr/>
              <a:tblGrid>
                <a:gridCol w="2786040"/>
                <a:gridCol w="1143000"/>
                <a:gridCol w="1214280"/>
                <a:gridCol w="928800"/>
                <a:gridCol w="1000080"/>
                <a:gridCol w="1185840"/>
              </a:tblGrid>
              <a:tr h="115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на 2020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ое исполнение за 2020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исполнения пл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лана в тыс. рубля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лана в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та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 740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 740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сид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 586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 363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 222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вен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 239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 195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ые межбюджетные трансферт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464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120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43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возмездные поступления от негосударственных организац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безвозмездные поступлен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7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безвозмездных поступл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 430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 841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 589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2" descr="http://www.pencioner.ru/upload/iblock/f03/planirovshchik.jpg"/>
          <p:cNvPicPr/>
          <p:nvPr/>
        </p:nvPicPr>
        <p:blipFill>
          <a:blip r:embed="rId1"/>
          <a:stretch/>
        </p:blipFill>
        <p:spPr>
          <a:xfrm>
            <a:off x="136440" y="214200"/>
            <a:ext cx="213192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06:40:34Z</dcterms:created>
  <dc:creator>Лариса Патрушева</dc:creator>
  <dc:description/>
  <dc:language>en-US</dc:language>
  <cp:lastModifiedBy>GlavF</cp:lastModifiedBy>
  <dcterms:modified xsi:type="dcterms:W3CDTF">2021-02-15T12:25:39Z</dcterms:modified>
  <cp:revision>647</cp:revision>
  <dc:subject/>
  <dc:title>Департамент финансов  Кировской области</dc:title>
</cp:coreProperties>
</file>