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9668-5D14-4234-99FD-250AFBE1A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A103-23D9-4325-9A5F-59893B670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291F-00F7-4380-A531-15586C557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EDD0-D23D-436D-9057-2FB593B6A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C103-35DD-4F1E-9278-D697B6DFE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69C-9AED-4CF9-B56F-AFE4AA3F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35A-FF9B-4734-88B8-06FC9A7F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E53-6F0B-4786-84FB-F2A5A0E6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B60-965C-4FBC-888D-26B4493B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F3E-242F-4423-B2AB-2C63A8B7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4CE-574A-423D-AA81-653B8AD0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D10-20B4-40CF-93E7-9BD656D0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1E8-F024-42C4-B0C4-B417E1D4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5B1-FAB3-4A9E-96BE-32003BCB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91D-36CF-4B4B-AB69-09712858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048-7487-4A3F-95BA-ABD62A5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E9A-C2D3-464C-BDCA-38F7D716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BF68-8F96-4C0F-B696-164C64B89462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67"/>
          <p:cNvSpPr/>
          <p:nvPr/>
        </p:nvSpPr>
        <p:spPr>
          <a:xfrm>
            <a:off x="571680" y="285840"/>
            <a:ext cx="7992720" cy="6094440"/>
          </a:xfrm>
          <a:prstGeom prst="horizontalScroll">
            <a:avLst>
              <a:gd name="adj" fmla="val 12500"/>
            </a:avLst>
          </a:prstGeom>
          <a:solidFill>
            <a:srgbClr val="ffff00">
              <a:alpha val="20000"/>
            </a:srgbClr>
          </a:solidFill>
          <a:ln w="9360">
            <a:solidFill>
              <a:srgbClr val="990099"/>
            </a:solidFill>
            <a:miter/>
          </a:ln>
          <a:effectLst>
            <a:outerShdw dist="50938" dir="3061439" blurRad="0" rotWithShape="0">
              <a:srgbClr val="ffffff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Исполнение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бюджет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ого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разования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Нагорски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ы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райо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Кировско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ласт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з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2021год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68360" y="5661000"/>
            <a:ext cx="85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Georgia"/>
                <a:ea typeface="Arial"/>
              </a:rPr>
              <a:t>    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6972480" cy="1542960"/>
          </a:xfrm>
          <a:prstGeom prst="rect">
            <a:avLst/>
          </a:prstGeom>
          <a:solidFill>
            <a:srgbClr val="c0ba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0099"/>
                </a:solidFill>
                <a:latin typeface="Calibri"/>
              </a:rPr>
              <a:t>Динамика поступления безвозмездных поступлений бюджета Нагорского муниципального района за 2021 год к уровню 2020 года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57120" y="1785960"/>
          <a:ext cx="8215560" cy="4643280"/>
        </p:xfrm>
        <a:graphic>
          <a:graphicData uri="http://schemas.openxmlformats.org/drawingml/2006/table">
            <a:tbl>
              <a:tblPr/>
              <a:tblGrid>
                <a:gridCol w="2757600"/>
                <a:gridCol w="1785960"/>
                <a:gridCol w="1857240"/>
                <a:gridCol w="18147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21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20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2021 года от 2020года.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660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4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 92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 363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363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 00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997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195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198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Б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33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120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 287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 487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841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353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" descr="&amp;Pcy;&amp;lcy;&amp;acy;&amp;ncy; &amp;pcy;&amp;ocy; &amp;dcy;&amp;ocy;&amp;khcy;&amp;ocy;&amp;dcy;&amp;acy;&amp;mcy; &amp;gcy;&amp;ocy;&amp;rcy;&amp;ocy;&amp;dcy;&amp;scy;&amp;kcy;&amp;ocy;&amp;gcy;&amp;ocy; &amp;bcy;&amp;yucy;&amp;dcy;&amp;zhcy;&amp;iecy;&amp;tcy;&amp;acy; &amp;ncy;&amp;acy; 2012 &amp;gcy;&amp;ocy;&amp;dcy; &amp;vcy;&amp;ycy;&amp;pcy;&amp;ocy;&amp;lcy;&amp;ncy;&amp;iecy;&amp;ncy; &amp;ncy;&amp;acy; 95"/>
          <p:cNvPicPr/>
          <p:nvPr/>
        </p:nvPicPr>
        <p:blipFill>
          <a:blip r:embed="rId1"/>
          <a:stretch/>
        </p:blipFill>
        <p:spPr>
          <a:xfrm>
            <a:off x="7286760" y="214200"/>
            <a:ext cx="151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0" y="14292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95b22"/>
                </a:solidFill>
                <a:latin typeface="Calibri"/>
              </a:rPr>
              <a:t>Анализ недоимки в консолидированный бюджет Нагорского района за 2021 год, </a:t>
            </a:r>
            <a:br>
              <a:rPr sz="2400"/>
            </a:br>
            <a:r>
              <a:rPr b="0" lang="ru-RU" sz="2400" spc="-1" strike="noStrike">
                <a:solidFill>
                  <a:srgbClr val="b95b22"/>
                </a:solidFill>
                <a:latin typeface="Calibri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14200" y="1785960"/>
          <a:ext cx="8501040" cy="4654440"/>
        </p:xfrm>
        <a:graphic>
          <a:graphicData uri="http://schemas.openxmlformats.org/drawingml/2006/table">
            <a:tbl>
              <a:tblPr/>
              <a:tblGrid>
                <a:gridCol w="3386160"/>
                <a:gridCol w="1805040"/>
                <a:gridCol w="1654200"/>
                <a:gridCol w="1655640"/>
              </a:tblGrid>
              <a:tr h="620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латеж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21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22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, тыс. руб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6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9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ДФ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В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7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8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9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зем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4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19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2" descr="&amp;Dcy;&amp;ocy;&amp;pcy;&amp;ocy;&amp;lcy;&amp;ncy;&amp;icy;&amp;tcy;&amp;iecy;&amp;lcy;&amp;softcy;&amp;ncy;&amp;ycy;&amp;iecy; &amp;dcy;&amp;ocy;&amp;khcy;&amp;ocy;&amp;dcy;&amp;ycy; &amp;bcy;&amp;yucy;&amp;dcy;&amp;zhcy;&amp;iecy;&amp;tcy;&amp;acy; &amp;pcy;&amp;ocy;&amp;jcy;&amp;dcy;&amp;ucy;&amp;tcy; &amp;ncy;&amp;acy; &amp;scy;&amp;iecy;&amp;lcy;&amp;softcy;&amp;scy;&amp;kcy;&amp;ocy;&amp;iecy; &amp;khcy;&amp;ocy;&amp;zcy;&amp;yacy;&amp;jcy;&amp;scy;&amp;tcy;&amp;vcy;&amp;ocy; &amp;icy; &amp;gcy;&amp;acy;&amp;rcy;&amp;acy;&amp;ncy;&amp;tcy;&amp;icy;&amp;icy; &amp;pcy;&amp;ocy; &amp;icy;&amp;ncy;&amp;vcy;&amp;iecy;&amp;scy;&amp;tcy;&amp;kcy;&amp;rcy;&amp;iecy;&amp;dcy;&amp;icy;&amp;tcy;&amp;acy;&amp;mcy;: &amp;Pcy;&amp;ocy;&amp;rcy;&amp;tcy;&amp;acy;&amp;lcy; &amp;mcy;&amp;acy;&amp;lcy;&amp;ocy;&amp;gcy;&amp;ocy; &amp;icy; &amp;scy;&amp;rcy;&amp;iecy;&amp;dcy;&amp;ncy;&amp;iecy;&amp;gcy;&amp;ocy; &amp;pcy;&amp;rcy;&amp;iecy;&amp;dcy;&amp;pcy;&amp;rcy;&amp;icy;&amp;ncy;&amp;icy;&amp;mcy;&amp;acy;&amp;tcy;&amp;iecy;&amp;lcy;"/>
          <p:cNvPicPr/>
          <p:nvPr/>
        </p:nvPicPr>
        <p:blipFill>
          <a:blip r:embed="rId1"/>
          <a:stretch/>
        </p:blipFill>
        <p:spPr>
          <a:xfrm>
            <a:off x="428760" y="14292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725400"/>
          </a:xfrm>
          <a:prstGeom prst="rect">
            <a:avLst/>
          </a:prstGeom>
          <a:solidFill>
            <a:srgbClr val="ebb391"/>
          </a:solidFill>
          <a:ln w="9360">
            <a:solidFill>
              <a:srgbClr val="968c8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Работа, проводимая  в районе по привлечению и увеличению </a:t>
            </a:r>
            <a:br>
              <a:rPr sz="1600"/>
            </a:b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доходной части бюджета в 2021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"/>
          <p:cNvPicPr/>
          <p:nvPr/>
        </p:nvPicPr>
        <p:blipFill>
          <a:blip r:embed="rId1"/>
          <a:stretch/>
        </p:blipFill>
        <p:spPr>
          <a:xfrm>
            <a:off x="139680" y="1133640"/>
            <a:ext cx="8881920" cy="5535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spasitepomogite.ru/wp-content/uploads/Upravlenie-debitorskoj-zadolzhennostyu.jpg"/>
          <p:cNvPicPr/>
          <p:nvPr/>
        </p:nvPicPr>
        <p:blipFill>
          <a:blip r:embed="rId2"/>
          <a:stretch/>
        </p:blipFill>
        <p:spPr>
          <a:xfrm>
            <a:off x="136440" y="214200"/>
            <a:ext cx="2649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585720" y="738360"/>
            <a:ext cx="8253360" cy="611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kayrosblog.ru/wp-content/uploads/2016/12/Rashody-lichnogo-byudzheta-kak-derzhat-sebya-v-rukah-5-768x511.jpg"/>
          <p:cNvPicPr/>
          <p:nvPr/>
        </p:nvPicPr>
        <p:blipFill>
          <a:blip r:embed="rId2"/>
          <a:stretch/>
        </p:blipFill>
        <p:spPr>
          <a:xfrm>
            <a:off x="4714920" y="142920"/>
            <a:ext cx="4214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549360"/>
            <a:ext cx="8135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 РАСХОДОВ БЮДЖЕТА МУНИЦИПАЛЬНОГО ОБРАЗОВАНИЯ НАГОРСКИЙ МУНИЦИПАЛЬНЫЙ РАЙОН КИРОВСКОЙ ОБЛАСТИ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724360" y="15717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21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887640" y="287172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9640" y="15717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20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527280" y="3392640"/>
            <a:ext cx="2124360" cy="0"/>
          </a:xfrm>
          <a:prstGeom prst="line">
            <a:avLst/>
          </a:prstGeom>
          <a:ln w="19044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527280" y="2708280"/>
            <a:ext cx="1441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69,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250920" y="2421000"/>
            <a:ext cx="3168720" cy="2628720"/>
          </a:xfrm>
          <a:prstGeom prst="flowChartMultidocumen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95215,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724360" y="2205000"/>
            <a:ext cx="3168720" cy="3168720"/>
          </a:xfrm>
          <a:prstGeom prst="flowChartMultidocumen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92445,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расходов бюджета Нагорского муниципального района в 2021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Диаграмма 5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507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Отраслевая структура расходов в 2021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4200" y="928800"/>
          <a:ext cx="8715600" cy="5499000"/>
        </p:xfrm>
        <a:graphic>
          <a:graphicData uri="http://schemas.openxmlformats.org/drawingml/2006/table">
            <a:tbl>
              <a:tblPr/>
              <a:tblGrid>
                <a:gridCol w="4094280"/>
                <a:gridCol w="841320"/>
                <a:gridCol w="1190520"/>
                <a:gridCol w="1121040"/>
                <a:gridCol w="1468440"/>
              </a:tblGrid>
              <a:tr h="9205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ый расход, тыс.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, %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,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780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55d7e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445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91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7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593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илищно – коммунальное хозяйств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8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храна окружающей ср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244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 и кинематограф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23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4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служивание государственного и муниципального долг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6044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бюджетные трансферты общего характер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34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отраслей социально – культурной сферы в 2021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Диаграмма 4" descr=""/>
          <p:cNvPicPr/>
          <p:nvPr/>
        </p:nvPicPr>
        <p:blipFill>
          <a:blip r:embed="rId1"/>
          <a:stretch/>
        </p:blipFill>
        <p:spPr>
          <a:xfrm>
            <a:off x="460440" y="2000160"/>
            <a:ext cx="8397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держка отраслей экономики района в 2021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Диаграмма 3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служивание муниципального долга в 2021 го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Диаграмма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Вертикальный свиток 4"/>
          <p:cNvSpPr/>
          <p:nvPr/>
        </p:nvSpPr>
        <p:spPr>
          <a:xfrm>
            <a:off x="0" y="500040"/>
            <a:ext cx="9144000" cy="5786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Бюджет муниципального образования Нагорский муниципальный район Кировской области за 2021 год исполнен по доходам в сумме 312324,3 тыс. рублей и по расходам в сумме 292445,7 тыс. рублей, с профицитом       19878,6 тыс. руб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&amp;Pcy;&amp;iecy;&amp;rcy;&amp;iecy;&amp;vcy;&amp;ycy;&amp;pcy;&amp;ocy;&amp;lcy;&amp;ncy;&amp;iecy;&amp;ncy; &amp;pcy;&amp;lcy;&amp;acy;&amp;ncy; &amp;pcy;&amp;ocy; &amp;dcy;&amp;ocy;&amp;khcy;&amp;ocy;&amp;dcy;&amp;acy;&amp;mcy; &amp;kcy;&amp;rcy;&amp;acy;&amp;iecy;&amp;vcy;&amp;ocy;&amp;gcy;&amp;ocy; &amp;bcy;&amp;yucy;&amp;dcy;&amp;zhcy;&amp;iecy;&amp;tcy;&amp;acy; LifeNews.pro"/>
          <p:cNvPicPr/>
          <p:nvPr/>
        </p:nvPicPr>
        <p:blipFill>
          <a:blip r:embed="rId1"/>
          <a:stretch/>
        </p:blipFill>
        <p:spPr>
          <a:xfrm>
            <a:off x="2428920" y="3929040"/>
            <a:ext cx="435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бюджетные трансферты общего характера  поселениям района в 2021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Диаграмма 3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бюджетные трансферты целевого характера поселениям района в 2021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Диаграмма 3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86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установленного норматива расходов на содержание органов местного самоуправления в 2021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Диаграмма 4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40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работная плата с начислениями за 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81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редиторская задолженность по заработной плате с начислениями за 2021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Диаграмма 5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8001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Д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 численности и денежном содержании муниципальных служащих и работников муниципальных учреждений, финансируемых из бюджета муниципального района, за 202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8760" y="2500200"/>
          <a:ext cx="8143920" cy="343872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чная численность, челове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содержание (фактически произведенные выплаты по оплате труда с начислениями),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е служащие и работники органов местного самоуправления райо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9034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образо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560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куль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64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Диаграмма 3" descr=""/>
          <p:cNvPicPr/>
          <p:nvPr/>
        </p:nvPicPr>
        <p:blipFill>
          <a:blip r:embed="rId1"/>
          <a:stretch/>
        </p:blipFill>
        <p:spPr>
          <a:xfrm>
            <a:off x="1429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программные меро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Диаграмма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фицит и муниципальный дол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14240" y="1214280"/>
          <a:ext cx="7715520" cy="5189760"/>
        </p:xfrm>
        <a:graphic>
          <a:graphicData uri="http://schemas.openxmlformats.org/drawingml/2006/table">
            <a:tbl>
              <a:tblPr/>
              <a:tblGrid>
                <a:gridCol w="4060800"/>
                <a:gridCol w="1876680"/>
                <a:gridCol w="1778040"/>
              </a:tblGrid>
              <a:tr h="731880"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ОВ БЮДЖЕТО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906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8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 бюджетом муниципального района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 кредитов от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 бюджетных кредитов от других бюджетов бюджетной системы Российской Федерации бюджетом муниципального района  в валюте 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кредитов от других бюджетов бюджетной системы Российской Федерации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средств бюджет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6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9878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400" spc="-1" strike="noStrike">
                <a:solidFill>
                  <a:srgbClr val="361fc3"/>
                </a:solidFill>
                <a:latin typeface="Monotype Corsiva"/>
              </a:rPr>
              <a:t>Спасибо за внимание !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26868"/>
          </a:solidFill>
          <a:ln w="9360">
            <a:solidFill>
              <a:srgbClr val="b39d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ение доходной части бюджета Нагорского муниципального района за 2021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7120" y="1996920"/>
          <a:ext cx="8329680" cy="2718000"/>
        </p:xfrm>
        <a:graphic>
          <a:graphicData uri="http://schemas.openxmlformats.org/drawingml/2006/table">
            <a:tbl>
              <a:tblPr/>
              <a:tblGrid>
                <a:gridCol w="2522520"/>
                <a:gridCol w="2017800"/>
                <a:gridCol w="1944720"/>
                <a:gridCol w="1844640"/>
              </a:tblGrid>
              <a:tr h="108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2021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21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ые 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005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836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 897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 487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оход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 90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 324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" descr="&amp;Ncy;&amp;ocy;&amp;vcy;&amp;ocy;&amp;scy;&amp;tcy;&amp;icy; &quot; &amp;Scy; 2014 &amp;gcy;&amp;ocy;&amp;dcy;&amp;acy; &amp;mcy;&amp;iecy;&amp;ncy;&amp;yacy;&amp;yucy;&amp;tcy;&amp;scy;&amp;yacy; &amp;ncy;&amp;ocy;&amp;rcy;&amp;mcy;&amp;acy;&amp;tcy;&amp;icy;&amp;vcy;&amp;ycy; &amp;rcy;&amp;acy;&amp;scy;&amp;pcy;&amp;rcy;&amp;iecy;&amp;dcy;&amp;iecy;&amp;lcy;&amp;iecy;&amp;ncy;&amp;icy;&amp;yacy; &amp;ncy;&amp;iecy;&amp;ncy;&amp;acy;&amp;lcy;&amp;ocy;&amp;gcy;&amp;ocy;&amp;vcy;&amp;ycy;&amp;khcy; &amp;dcy;&amp;ocy;&amp;khcy;&amp;ocy;&amp;dcy;&amp;ocy;&amp;vcy; &amp;vcy; &amp;bcy;&amp;yucy;&amp;dcy;&amp;zhcy;&amp;iecy;&amp;tcy;&amp;ycy; &amp;gcy;&amp;ocy;&amp;rcy;&amp;ocy;&amp;dcy;&amp;scy;&amp;kcy;&amp;icy;&amp;khcy; &amp;ocy;&amp;kcy;&amp;rcy;&amp;ucy;&amp;gcy;&amp;ocy;&amp;vcy; &quot; &amp;Mcy;&amp;icy;&amp;ncy;&amp;icy;&amp;scy;&amp;tcy;&amp;iecy;&amp;rcy;&amp;scy;&amp;tcy;&amp;vcy;&amp;ocy; &amp;icy;&amp;mcy;&amp;ucy;&amp;shchcy;&amp;iecy;&amp;scy;&amp;tcy;&amp;vcy;&amp;iecy;&amp;ncy;"/>
          <p:cNvPicPr/>
          <p:nvPr/>
        </p:nvPicPr>
        <p:blipFill>
          <a:blip r:embed="rId1"/>
          <a:stretch/>
        </p:blipFill>
        <p:spPr>
          <a:xfrm>
            <a:off x="3203640" y="4797360"/>
            <a:ext cx="2786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Диаграмма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786880" cy="5165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доходов бюджета Нагорского  </a:t>
            </a:r>
            <a:br>
              <a:rPr sz="1300"/>
            </a:br>
            <a:r>
              <a:rPr b="1" lang="ru-RU" sz="1300" spc="-1" strike="noStrike">
                <a:solidFill>
                  <a:srgbClr val="333399"/>
                </a:solidFill>
                <a:latin typeface="Georgia"/>
                <a:ea typeface="Arial"/>
              </a:rPr>
              <a:t>муниципального района  2021 год к уровню 2020</a:t>
            </a:r>
            <a:br>
              <a:rPr sz="1300"/>
            </a:br>
            <a:r>
              <a:rPr b="1" lang="ru-RU" sz="1300" spc="-1" strike="noStrike">
                <a:solidFill>
                  <a:srgbClr val="333399"/>
                </a:solidFill>
                <a:latin typeface="Georgia"/>
                <a:ea typeface="Arial"/>
              </a:rPr>
              <a:t> года, тыс. рублей </a:t>
            </a: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ыноска 2 3"/>
          <p:cNvSpPr/>
          <p:nvPr/>
        </p:nvSpPr>
        <p:spPr>
          <a:xfrm>
            <a:off x="2786040" y="3500280"/>
            <a:ext cx="1071720" cy="360360"/>
          </a:xfrm>
          <a:prstGeom prst="borderCallout2">
            <a:avLst>
              <a:gd name="adj1" fmla="val 18750"/>
              <a:gd name="adj2" fmla="val -8333"/>
              <a:gd name="adj3" fmla="val 32972"/>
              <a:gd name="adj4" fmla="val -22356"/>
              <a:gd name="adj5" fmla="val 145759"/>
              <a:gd name="adj6" fmla="val -35106"/>
            </a:avLst>
          </a:prstGeom>
          <a:solidFill>
            <a:srgbClr val="92d05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+26 541,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Выноска 2 4"/>
          <p:cNvSpPr/>
          <p:nvPr/>
        </p:nvSpPr>
        <p:spPr>
          <a:xfrm>
            <a:off x="7093080" y="1643040"/>
            <a:ext cx="1193760" cy="3571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6189"/>
              <a:gd name="adj5" fmla="val 138092"/>
              <a:gd name="adj6" fmla="val -52967"/>
            </a:avLst>
          </a:prstGeom>
          <a:solidFill>
            <a:srgbClr val="92d05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 353,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115920"/>
            <a:ext cx="8607600" cy="1170000"/>
          </a:xfrm>
          <a:prstGeom prst="rect">
            <a:avLst/>
          </a:prstGeom>
          <a:solidFill>
            <a:srgbClr val="c0ba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ие уточненного годового план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налоговым доходам за 2021 год п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горскому муниципальному райо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341360"/>
          <a:ext cx="8425080" cy="5243760"/>
        </p:xfrm>
        <a:graphic>
          <a:graphicData uri="http://schemas.openxmlformats.org/drawingml/2006/table">
            <a:tbl>
              <a:tblPr/>
              <a:tblGrid>
                <a:gridCol w="2557440"/>
                <a:gridCol w="865440"/>
                <a:gridCol w="1225440"/>
                <a:gridCol w="1224000"/>
                <a:gridCol w="1295280"/>
                <a:gridCol w="12574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 на 2021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поступление за 2021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фактического поступления 2021 года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фактического поступления 2021 года от плана ,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315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673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358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Налог на доходы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36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69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55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кциз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78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2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Упрощенная система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494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701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207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Единый сельскохозяйствен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Единый налог на вмененный дох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атентная система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2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Госпошли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1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4" descr="https://im0-tub-ru.yandex.net/i?id=be48b5f7c614fd6dbd40b31ad88a09a1&amp;n=33&amp;h=215&amp;w=325"/>
          <p:cNvPicPr/>
          <p:nvPr/>
        </p:nvPicPr>
        <p:blipFill>
          <a:blip r:embed="rId1"/>
          <a:stretch/>
        </p:blipFill>
        <p:spPr>
          <a:xfrm>
            <a:off x="136440" y="285840"/>
            <a:ext cx="186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2560"/>
            <a:ext cx="8640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поступлений основных налоговых доходов  бюджета Нагорского муниципального района за 2021 год в сравнении с 2020 годом, тыс</a:t>
            </a:r>
            <a:r>
              <a:rPr b="1" lang="ru-RU" sz="1400" spc="-1" strike="noStrike">
                <a:solidFill>
                  <a:srgbClr val="333399"/>
                </a:solidFill>
                <a:latin typeface="Georgia"/>
                <a:ea typeface="Arial"/>
              </a:rPr>
              <a:t>. рубле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-108000" y="1214280"/>
            <a:ext cx="89503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с вырезом 4"/>
          <p:cNvSpPr/>
          <p:nvPr/>
        </p:nvSpPr>
        <p:spPr>
          <a:xfrm rot="19388400">
            <a:off x="130320" y="3522240"/>
            <a:ext cx="1203120" cy="460440"/>
          </a:xfrm>
          <a:custGeom>
            <a:avLst/>
            <a:gdLst>
              <a:gd name="textAreaLeft" fmla="*/ 81360 w 1203120"/>
              <a:gd name="textAreaRight" fmla="*/ 1121760 w 1203120"/>
              <a:gd name="textAreaTop" fmla="*/ 115200 h 460440"/>
              <a:gd name="textAreaBottom" fmla="*/ 345600 h 460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72" y="5400"/>
                </a:lnTo>
                <a:lnTo>
                  <a:pt x="18672" y="0"/>
                </a:lnTo>
                <a:lnTo>
                  <a:pt x="21600" y="10800"/>
                </a:lnTo>
                <a:lnTo>
                  <a:pt x="18672" y="21600"/>
                </a:lnTo>
                <a:lnTo>
                  <a:pt x="18672" y="16200"/>
                </a:lnTo>
                <a:lnTo>
                  <a:pt x="0" y="16200"/>
                </a:lnTo>
                <a:lnTo>
                  <a:pt x="14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940,3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право с вырезом 5"/>
          <p:cNvSpPr/>
          <p:nvPr/>
        </p:nvSpPr>
        <p:spPr>
          <a:xfrm rot="19226400">
            <a:off x="1405080" y="3443040"/>
            <a:ext cx="1104840" cy="461880"/>
          </a:xfrm>
          <a:custGeom>
            <a:avLst/>
            <a:gdLst>
              <a:gd name="textAreaLeft" fmla="*/ 115560 w 1104840"/>
              <a:gd name="textAreaRight" fmla="*/ 989280 w 1104840"/>
              <a:gd name="textAreaTop" fmla="*/ 115560 h 461880"/>
              <a:gd name="textAreaBottom" fmla="*/ 346680 h 461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82" y="5400"/>
                </a:lnTo>
                <a:lnTo>
                  <a:pt x="17082" y="0"/>
                </a:lnTo>
                <a:lnTo>
                  <a:pt x="21600" y="10800"/>
                </a:lnTo>
                <a:lnTo>
                  <a:pt x="17082" y="21600"/>
                </a:lnTo>
                <a:lnTo>
                  <a:pt x="17082" y="16200"/>
                </a:lnTo>
                <a:lnTo>
                  <a:pt x="0" y="16200"/>
                </a:lnTo>
                <a:lnTo>
                  <a:pt x="225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412,4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право с вырезом 6"/>
          <p:cNvSpPr/>
          <p:nvPr/>
        </p:nvSpPr>
        <p:spPr>
          <a:xfrm rot="1652400">
            <a:off x="2508120" y="3800160"/>
            <a:ext cx="874800" cy="414360"/>
          </a:xfrm>
          <a:custGeom>
            <a:avLst/>
            <a:gdLst>
              <a:gd name="textAreaLeft" fmla="*/ 103320 w 874800"/>
              <a:gd name="textAreaRight" fmla="*/ 771480 w 87480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89" y="5400"/>
                </a:lnTo>
                <a:lnTo>
                  <a:pt x="16489" y="0"/>
                </a:lnTo>
                <a:lnTo>
                  <a:pt x="21600" y="10800"/>
                </a:lnTo>
                <a:lnTo>
                  <a:pt x="16489" y="21600"/>
                </a:lnTo>
                <a:lnTo>
                  <a:pt x="16489" y="16200"/>
                </a:lnTo>
                <a:lnTo>
                  <a:pt x="0" y="16200"/>
                </a:lnTo>
                <a:lnTo>
                  <a:pt x="255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-1 810,6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трелка вправо с вырезом 7"/>
          <p:cNvSpPr/>
          <p:nvPr/>
        </p:nvSpPr>
        <p:spPr>
          <a:xfrm rot="19349400">
            <a:off x="3552840" y="1355400"/>
            <a:ext cx="1041480" cy="441360"/>
          </a:xfrm>
          <a:custGeom>
            <a:avLst/>
            <a:gdLst>
              <a:gd name="textAreaLeft" fmla="*/ 110160 w 1041480"/>
              <a:gd name="textAreaRight" fmla="*/ 931320 w 104148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32" y="5400"/>
                </a:lnTo>
                <a:lnTo>
                  <a:pt x="17032" y="0"/>
                </a:lnTo>
                <a:lnTo>
                  <a:pt x="21600" y="10800"/>
                </a:lnTo>
                <a:lnTo>
                  <a:pt x="17032" y="21600"/>
                </a:lnTo>
                <a:lnTo>
                  <a:pt x="17032" y="16200"/>
                </a:lnTo>
                <a:lnTo>
                  <a:pt x="0" y="16200"/>
                </a:lnTo>
                <a:lnTo>
                  <a:pt x="228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26 501,3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с вырезом 9"/>
          <p:cNvSpPr/>
          <p:nvPr/>
        </p:nvSpPr>
        <p:spPr>
          <a:xfrm rot="19198800">
            <a:off x="5524200" y="3704760"/>
            <a:ext cx="842760" cy="414360"/>
          </a:xfrm>
          <a:custGeom>
            <a:avLst/>
            <a:gdLst>
              <a:gd name="textAreaLeft" fmla="*/ 103680 w 842760"/>
              <a:gd name="textAreaRight" fmla="*/ 739080 w 84276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74" y="5400"/>
                </a:lnTo>
                <a:lnTo>
                  <a:pt x="16274" y="0"/>
                </a:lnTo>
                <a:lnTo>
                  <a:pt x="21600" y="10800"/>
                </a:lnTo>
                <a:lnTo>
                  <a:pt x="16274" y="21600"/>
                </a:lnTo>
                <a:lnTo>
                  <a:pt x="16274" y="16200"/>
                </a:lnTo>
                <a:lnTo>
                  <a:pt x="0" y="16200"/>
                </a:lnTo>
                <a:lnTo>
                  <a:pt x="26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104,6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трелка вправо с вырезом 10" descr=""/>
          <p:cNvPicPr/>
          <p:nvPr/>
        </p:nvPicPr>
        <p:blipFill>
          <a:blip r:embed="rId2"/>
          <a:stretch/>
        </p:blipFill>
        <p:spPr>
          <a:xfrm>
            <a:off x="4565520" y="3840120"/>
            <a:ext cx="89064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solidFill>
            <a:srgbClr val="c9cdb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ие уточненного годового пла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неналоговым доходам за 2021 год п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горскому муниципальному рай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8760" y="1276200"/>
          <a:ext cx="8319960" cy="4003920"/>
        </p:xfrm>
        <a:graphic>
          <a:graphicData uri="http://schemas.openxmlformats.org/drawingml/2006/table">
            <a:tbl>
              <a:tblPr/>
              <a:tblGrid>
                <a:gridCol w="2257200"/>
                <a:gridCol w="1214640"/>
                <a:gridCol w="1357200"/>
                <a:gridCol w="1114560"/>
                <a:gridCol w="1224000"/>
                <a:gridCol w="1152360"/>
              </a:tblGrid>
              <a:tr h="77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21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21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690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163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73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ренда зем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3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6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ренда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94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34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Прочие доходы от использования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оходы от реализации муниципального 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ВО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раф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1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67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35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чие доходы от оказания платных услу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9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25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http://lance24.ru/wp-content/uploads/2017/03/money.jpg"/>
          <p:cNvPicPr/>
          <p:nvPr/>
        </p:nvPicPr>
        <p:blipFill>
          <a:blip r:embed="rId1"/>
          <a:stretch/>
        </p:blipFill>
        <p:spPr>
          <a:xfrm>
            <a:off x="3564000" y="5877000"/>
            <a:ext cx="2448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инамика поступлений неналоговых доходов в бюджет Нагорского муниципального района за 2021 год в сравнении с 2020 годом, тыс. руб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406440" y="1649520"/>
            <a:ext cx="83311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28240"/>
            <a:ext cx="8464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Исполнение плана по безвозмездным поступлениям по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бюджету Нагорского муниципального района за 202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42960" y="1500120"/>
          <a:ext cx="8258040" cy="4724640"/>
        </p:xfrm>
        <a:graphic>
          <a:graphicData uri="http://schemas.openxmlformats.org/drawingml/2006/table">
            <a:tbl>
              <a:tblPr/>
              <a:tblGrid>
                <a:gridCol w="2786040"/>
                <a:gridCol w="1143000"/>
                <a:gridCol w="1214280"/>
                <a:gridCol w="928800"/>
                <a:gridCol w="1000080"/>
                <a:gridCol w="1185840"/>
              </a:tblGrid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21 год, 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21 год, 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660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660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60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 363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237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 173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997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6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ежбюджетные трансферт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33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33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 897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 487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410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" descr="http://www.pencioner.ru/upload/iblock/f03/planirovshchik.jpg"/>
          <p:cNvPicPr/>
          <p:nvPr/>
        </p:nvPicPr>
        <p:blipFill>
          <a:blip r:embed="rId1"/>
          <a:stretch/>
        </p:blipFill>
        <p:spPr>
          <a:xfrm>
            <a:off x="136440" y="214200"/>
            <a:ext cx="213192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6:40:34Z</dcterms:created>
  <dc:creator>Лариса Патрушева</dc:creator>
  <dc:description/>
  <dc:language>en-US</dc:language>
  <cp:lastModifiedBy>ВодоносоваЕЮ</cp:lastModifiedBy>
  <dcterms:modified xsi:type="dcterms:W3CDTF">2022-02-21T12:55:32Z</dcterms:modified>
  <cp:revision>687</cp:revision>
  <dc:subject/>
  <dc:title>Департамент финансов  Кировской области</dc:title>
</cp:coreProperties>
</file>