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50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1.jpeg" ContentType="image/jpeg"/>
  <Override PartName="/ppt/media/image39.png" ContentType="image/png"/>
  <Override PartName="/ppt/media/image64.jpeg" ContentType="image/jpeg"/>
  <Override PartName="/ppt/media/image43.jpeg" ContentType="image/jpeg"/>
  <Override PartName="/ppt/media/image28.png" ContentType="image/png"/>
  <Override PartName="/ppt/media/image35.png" ContentType="image/png"/>
  <Override PartName="/ppt/media/image34.png" ContentType="image/png"/>
  <Override PartName="/ppt/media/image74.jpeg" ContentType="image/jpeg"/>
  <Override PartName="/ppt/media/image33.png" ContentType="image/png"/>
  <Override PartName="/ppt/media/image54.jpeg" ContentType="image/jpeg"/>
  <Override PartName="/ppt/media/image32.jpeg" ContentType="image/jpeg"/>
  <Override PartName="/ppt/media/image87.png" ContentType="image/png"/>
  <Override PartName="/ppt/media/image5.jpeg" ContentType="image/jpeg"/>
  <Override PartName="/ppt/media/image17.jpeg" ContentType="image/jpeg"/>
  <Override PartName="/ppt/media/image22.png" ContentType="image/png"/>
  <Override PartName="/ppt/media/image24.jpeg" ContentType="image/jpeg"/>
  <Override PartName="/ppt/media/image27.png" ContentType="image/png"/>
  <Override PartName="/ppt/media/image7.jpeg" ContentType="image/jpeg"/>
  <Override PartName="/ppt/media/image29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66.jpeg" ContentType="image/jpeg"/>
  <Override PartName="/ppt/media/image9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88.png" ContentType="image/png"/>
  <Override PartName="/ppt/media/image76.jpeg" ContentType="image/jpeg"/>
  <Override PartName="/ppt/media/image55.jpeg" ContentType="image/jpeg"/>
  <Override PartName="/ppt/media/image81.jpeg" ContentType="image/jpeg"/>
  <Override PartName="/ppt/media/image75.png" ContentType="image/png"/>
  <Override PartName="/ppt/media/image70.jpeg" ContentType="image/jpeg"/>
  <Override PartName="/ppt/media/image4.jpeg" ContentType="image/jpeg"/>
  <Override PartName="/ppt/media/image86.jpeg" ContentType="image/jpeg"/>
  <Override PartName="/ppt/media/image61.jpeg" ContentType="image/jpeg"/>
  <Override PartName="/ppt/media/image78.jpeg" ContentType="image/jpeg"/>
  <Override PartName="/ppt/media/image80.png" ContentType="image/png"/>
  <Override PartName="/ppt/media/image77.jpeg" ContentType="image/jpeg"/>
  <Override PartName="/ppt/media/image26.png" ContentType="image/png"/>
  <Override PartName="/ppt/media/image73.jpeg" ContentType="image/jpeg"/>
  <Override PartName="/ppt/media/image82.png" ContentType="image/png"/>
  <Override PartName="/ppt/media/image71.jpeg" ContentType="image/jpeg"/>
  <Override PartName="/ppt/media/image69.jpeg" ContentType="image/jpeg"/>
  <Override PartName="/ppt/media/image62.jpeg" ContentType="image/jpeg"/>
  <Override PartName="/ppt/media/image84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0.png" ContentType="image/png"/>
  <Override PartName="/ppt/media/image36.jpeg" ContentType="image/jpeg"/>
  <Override PartName="/ppt/media/image31.png" ContentType="image/png"/>
  <Override PartName="/ppt/media/image2.jpeg" ContentType="image/jpeg"/>
  <Override PartName="/ppt/media/image3.jpeg" ContentType="image/jpeg"/>
  <Override PartName="/ppt/media/image20.png" ContentType="image/png"/>
  <Override PartName="/ppt/media/image37.jpeg" ContentType="image/jpeg"/>
  <Override PartName="/ppt/media/image25.jpeg" ContentType="image/jpeg"/>
  <Override PartName="/ppt/media/image8.png" ContentType="image/png"/>
  <Override PartName="/ppt/media/image85.png" ContentType="image/png"/>
  <Override PartName="/ppt/media/image11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172753F-A02F-43BC-B120-8A340F0567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D82FC9F-9B41-484D-B20C-3A1AB4E1A1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C3C4820-978A-4D51-BB03-E9410C32A6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2630D5B-3E84-4F00-83E1-E279202ECD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45925D5-1A17-4497-BC10-F79D884874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2C2C63C-2E82-42C0-B2DD-ACF5330A27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AAFD00A-4AC2-461D-9D01-16A6EE85D0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764E6D3-9501-4C17-9908-B35E135CA2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A9C-4693-4C05-ACFD-0D0ECF1D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FED-4B8E-44B0-9C2B-746F55D1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E65-374C-49CB-AE35-333D37FA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934-196E-46D6-8DC8-3DF9162D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CB1-9A21-40C0-87BE-4336FC85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E1E-8C0C-4AF5-907E-ADD15552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40D-7FB1-4858-AB94-FDB56B50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122-8F28-40C3-8472-E2BCC2F2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F54-ACCC-45D6-9509-C4CC6AC2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B9E-987B-4FC4-B34D-EB5B0417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FFB-1875-45CA-9914-CB3035BC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2AE-185F-43BA-85E0-A792D69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C9A3-CBF4-4C7A-A7BF-15E24E1AAE0C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9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3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4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19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0 и 2021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19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4600" y="1960560"/>
          <a:ext cx="8072280" cy="5424480"/>
        </p:xfrm>
        <a:graphic>
          <a:graphicData uri="http://schemas.openxmlformats.org/drawingml/2006/table">
            <a:tbl>
              <a:tblPr/>
              <a:tblGrid>
                <a:gridCol w="2422440"/>
                <a:gridCol w="1027080"/>
                <a:gridCol w="954000"/>
                <a:gridCol w="1027080"/>
                <a:gridCol w="881280"/>
                <a:gridCol w="879480"/>
                <a:gridCol w="880920"/>
              </a:tblGrid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в 2018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2019 года к  уточненному плану 2018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9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7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14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7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2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реализации муниципального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земельных уча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43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9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20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6" name="Рисунок 8" descr="26785.jpeg"/>
          <p:cNvPicPr/>
          <p:nvPr/>
        </p:nvPicPr>
        <p:blipFill>
          <a:blip r:embed="rId1"/>
          <a:stretch/>
        </p:blipFill>
        <p:spPr>
          <a:xfrm>
            <a:off x="-6480" y="2809800"/>
            <a:ext cx="1871640" cy="1695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17080" y="5162400"/>
            <a:ext cx="159048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29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30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32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73 129,63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57 053,34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59 888,64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19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0 и 2021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1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0 и 2021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38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41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44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19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50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 с режимом эконом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53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56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57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58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17"/>
          <p:cNvGrpSpPr/>
          <p:nvPr/>
        </p:nvGrpSpPr>
        <p:grpSpPr>
          <a:xfrm>
            <a:off x="4753080" y="1243080"/>
            <a:ext cx="4178160" cy="2500200"/>
            <a:chOff x="4753080" y="1243080"/>
            <a:chExt cx="4178160" cy="2500200"/>
          </a:xfrm>
        </p:grpSpPr>
        <p:sp>
          <p:nvSpPr>
            <p:cNvPr id="161" name="Скругленный прямоугольник 18"/>
            <p:cNvSpPr/>
            <p:nvPr/>
          </p:nvSpPr>
          <p:spPr>
            <a:xfrm>
              <a:off x="4753080" y="1355760"/>
              <a:ext cx="4178160" cy="197172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Скругленный прямоугольник 4"/>
            <p:cNvSpPr/>
            <p:nvPr/>
          </p:nvSpPr>
          <p:spPr>
            <a:xfrm>
              <a:off x="5070600" y="1243080"/>
              <a:ext cx="374436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фактического фонда оплаты труда за 2017 год с учетом повышений  в 2018 году на 12 месяцев, отчисления  от заработной платы предусмотрены на 12 месяце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64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66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67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05,6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0082,33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36138,33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9,0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ject 11" descr=""/>
          <p:cNvPicPr/>
          <p:nvPr/>
        </p:nvPicPr>
        <p:blipFill>
          <a:blip r:embed="rId1"/>
          <a:stretch/>
        </p:blipFill>
        <p:spPr>
          <a:xfrm>
            <a:off x="614520" y="1457280"/>
            <a:ext cx="8858160" cy="5357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1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19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ile"/>
          <p:cNvSpPr/>
          <p:nvPr/>
        </p:nvSpPr>
        <p:spPr>
          <a:xfrm>
            <a:off x="217440" y="792000"/>
            <a:ext cx="10296720" cy="1152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ile"/>
          <p:cNvSpPr/>
          <p:nvPr/>
        </p:nvSpPr>
        <p:spPr>
          <a:xfrm>
            <a:off x="217440" y="2087640"/>
            <a:ext cx="1029672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ile"/>
          <p:cNvSpPr/>
          <p:nvPr/>
        </p:nvSpPr>
        <p:spPr>
          <a:xfrm>
            <a:off x="216000" y="3384720"/>
            <a:ext cx="1029636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ile"/>
          <p:cNvSpPr/>
          <p:nvPr/>
        </p:nvSpPr>
        <p:spPr>
          <a:xfrm>
            <a:off x="217440" y="4608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ile"/>
          <p:cNvSpPr/>
          <p:nvPr/>
        </p:nvSpPr>
        <p:spPr>
          <a:xfrm>
            <a:off x="217440" y="5832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1,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3,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3,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3,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9,7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6"/>
          <p:cNvSpPr/>
          <p:nvPr/>
        </p:nvSpPr>
        <p:spPr>
          <a:xfrm>
            <a:off x="7186680" y="2957400"/>
            <a:ext cx="2428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756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3163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747800"/>
            <a:ext cx="5789520" cy="460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9 - 2021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9 -2021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19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0 и 2021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688000" y="3095640"/>
            <a:ext cx="511344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9"/>
          <p:cNvSpPr/>
          <p:nvPr/>
        </p:nvSpPr>
        <p:spPr>
          <a:xfrm>
            <a:off x="5400720" y="3138480"/>
            <a:ext cx="270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0" y="0"/>
            <a:ext cx="10801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об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верх 23"/>
          <p:cNvSpPr/>
          <p:nvPr/>
        </p:nvSpPr>
        <p:spPr>
          <a:xfrm>
            <a:off x="216000" y="743040"/>
            <a:ext cx="10080360" cy="192888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2305080" y="1100160"/>
            <a:ext cx="568800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щий объем расходов по разделу на 2019 год запланирован на предоставление межбюджетных трансфертов в сумме 675,6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Диаграмма 7" descr=""/>
          <p:cNvPicPr/>
          <p:nvPr/>
        </p:nvPicPr>
        <p:blipFill>
          <a:blip r:embed="rId2"/>
          <a:stretch/>
        </p:blipFill>
        <p:spPr>
          <a:xfrm>
            <a:off x="190440" y="2886120"/>
            <a:ext cx="579456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963,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ile"/>
          <p:cNvSpPr/>
          <p:nvPr/>
        </p:nvSpPr>
        <p:spPr>
          <a:xfrm>
            <a:off x="936720" y="1886040"/>
            <a:ext cx="2950920" cy="2357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34" name="File"/>
          <p:cNvSpPr/>
          <p:nvPr/>
        </p:nvSpPr>
        <p:spPr>
          <a:xfrm>
            <a:off x="4043520" y="1957320"/>
            <a:ext cx="2950920" cy="231156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ile"/>
          <p:cNvSpPr/>
          <p:nvPr/>
        </p:nvSpPr>
        <p:spPr>
          <a:xfrm>
            <a:off x="7186680" y="1957320"/>
            <a:ext cx="3000240" cy="22860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9,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4191,7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0,0 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1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48" name="File"/>
          <p:cNvSpPr/>
          <p:nvPr/>
        </p:nvSpPr>
        <p:spPr>
          <a:xfrm>
            <a:off x="936720" y="1814400"/>
            <a:ext cx="4392360" cy="400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ile"/>
          <p:cNvSpPr/>
          <p:nvPr/>
        </p:nvSpPr>
        <p:spPr>
          <a:xfrm>
            <a:off x="1089000" y="2171880"/>
            <a:ext cx="4392720" cy="37144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0,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1442,2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150,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77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8725,8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9231,3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70,0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663,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7096,9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0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1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72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73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319,8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20,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918,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592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88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89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File"/>
          <p:cNvSpPr/>
          <p:nvPr/>
        </p:nvSpPr>
        <p:spPr>
          <a:xfrm>
            <a:off x="3043080" y="3386160"/>
            <a:ext cx="4751640" cy="21430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97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9 687,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687,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 798,7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6398,7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 492,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192,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302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4400640" y="4386240"/>
            <a:ext cx="3384360" cy="21002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34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3"/>
          <p:cNvSpPr/>
          <p:nvPr/>
        </p:nvSpPr>
        <p:spPr>
          <a:xfrm>
            <a:off x="4686480" y="4815000"/>
            <a:ext cx="27144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8559,6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200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12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1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7949000">
            <a:off x="3042360" y="2526120"/>
            <a:ext cx="941400" cy="3006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Содержимое 4" descr=""/>
          <p:cNvPicPr/>
          <p:nvPr/>
        </p:nvPicPr>
        <p:blipFill>
          <a:blip r:embed="rId2"/>
          <a:stretch/>
        </p:blipFill>
        <p:spPr>
          <a:xfrm>
            <a:off x="536400" y="1663560"/>
            <a:ext cx="4778640" cy="4786560"/>
          </a:xfrm>
          <a:prstGeom prst="rect">
            <a:avLst/>
          </a:prstGeom>
          <a:ln w="0">
            <a:noFill/>
          </a:ln>
        </p:spPr>
      </p:pic>
      <p:pic>
        <p:nvPicPr>
          <p:cNvPr id="317" name="Содержимое 5" descr=""/>
          <p:cNvPicPr/>
          <p:nvPr/>
        </p:nvPicPr>
        <p:blipFill>
          <a:blip r:embed="rId3"/>
          <a:stretch/>
        </p:blipFill>
        <p:spPr>
          <a:xfrm>
            <a:off x="5486400" y="1609560"/>
            <a:ext cx="4780080" cy="483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0 и 2021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5" descr=""/>
          <p:cNvPicPr/>
          <p:nvPr/>
        </p:nvPicPr>
        <p:blipFill>
          <a:blip r:embed="rId2"/>
          <a:stretch/>
        </p:blipFill>
        <p:spPr>
          <a:xfrm>
            <a:off x="5491080" y="167940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0 и 2021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25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Содержимое 4" descr=""/>
          <p:cNvPicPr/>
          <p:nvPr/>
        </p:nvPicPr>
        <p:blipFill>
          <a:blip r:embed="rId2"/>
          <a:stretch/>
        </p:blipFill>
        <p:spPr>
          <a:xfrm>
            <a:off x="523800" y="1676520"/>
            <a:ext cx="4865760" cy="476064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5" descr=""/>
          <p:cNvPicPr/>
          <p:nvPr/>
        </p:nvPicPr>
        <p:blipFill>
          <a:blip r:embed="rId3"/>
          <a:stretch/>
        </p:blipFill>
        <p:spPr>
          <a:xfrm>
            <a:off x="5473800" y="1676520"/>
            <a:ext cx="4865760" cy="476064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19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19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60020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3860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5280" y="2968560"/>
            <a:ext cx="4967280" cy="57960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743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386240"/>
            <a:ext cx="4786200" cy="57168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958000"/>
            <a:ext cx="4929120" cy="50004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1560" y="1779480"/>
            <a:ext cx="3492720" cy="4919760"/>
            <a:chOff x="7351560" y="1779480"/>
            <a:chExt cx="349272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1560" y="1779480"/>
              <a:ext cx="349272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18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45 832,9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 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743120"/>
            <a:ext cx="1571760" cy="428760"/>
          </a:xfrm>
          <a:custGeom>
            <a:avLst/>
            <a:gdLst>
              <a:gd name="textAreaLeft" fmla="*/ 106920 w 1571760"/>
              <a:gd name="textAreaRight" fmla="*/ 1464840 w 157176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55" y="5400"/>
                </a:ln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18655" y="16200"/>
                </a:lnTo>
                <a:lnTo>
                  <a:pt x="0" y="16200"/>
                </a:lnTo>
                <a:lnTo>
                  <a:pt x="14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2 27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457360"/>
            <a:ext cx="1428840" cy="357120"/>
          </a:xfrm>
          <a:custGeom>
            <a:avLst/>
            <a:gdLst>
              <a:gd name="textAreaLeft" fmla="*/ 89280 w 1428840"/>
              <a:gd name="textAreaRight" fmla="*/ 1339560 w 14288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 045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100320"/>
            <a:ext cx="1500480" cy="500040"/>
          </a:xfrm>
          <a:custGeom>
            <a:avLst/>
            <a:gdLst>
              <a:gd name="textAreaLeft" fmla="*/ 124920 w 1500480"/>
              <a:gd name="textAreaRight" fmla="*/ 1375560 w 15004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3 697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43680" y="374328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 53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49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2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5972040" y="4386240"/>
            <a:ext cx="1500480" cy="571680"/>
          </a:xfrm>
          <a:custGeom>
            <a:avLst/>
            <a:gdLst>
              <a:gd name="textAreaLeft" fmla="*/ 142920 w 1500480"/>
              <a:gd name="textAreaRight" fmla="*/ 1357560 w 1500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03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7" descr=""/>
          <p:cNvPicPr/>
          <p:nvPr/>
        </p:nvPicPr>
        <p:blipFill>
          <a:blip r:embed="rId3"/>
          <a:stretch/>
        </p:blipFill>
        <p:spPr>
          <a:xfrm>
            <a:off x="738360" y="5224320"/>
            <a:ext cx="4821120" cy="53676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с вырезом 20"/>
          <p:cNvSpPr/>
          <p:nvPr/>
        </p:nvSpPr>
        <p:spPr>
          <a:xfrm>
            <a:off x="6043680" y="5172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1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19 году к уточненному плану 2018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7560" y="1544760"/>
          <a:ext cx="8072280" cy="56563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45900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точненный план  на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19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2019г к плану 2018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06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83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 2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2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0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19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69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49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4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3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3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1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4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6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4 364,0 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19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19 год -12 271,3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18 года рост на 2,7% или 319,3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0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20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доимка по налоговым доходам, предусмотренным в бюджете Нагорского муниципального района в 2019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Вертикальный свиток 2"/>
          <p:cNvGrpSpPr/>
          <p:nvPr/>
        </p:nvGrpSpPr>
        <p:grpSpPr>
          <a:xfrm>
            <a:off x="2627280" y="1616040"/>
            <a:ext cx="7473960" cy="3041640"/>
            <a:chOff x="2627280" y="1616040"/>
            <a:chExt cx="7473960" cy="3041640"/>
          </a:xfrm>
        </p:grpSpPr>
        <p:pic>
          <p:nvPicPr>
            <p:cNvPr id="104" name="Вертик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2627280" y="1616040"/>
              <a:ext cx="747396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105000" y="2090880"/>
              <a:ext cx="651996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 прогнозе налоговых доходов бюджета Нагорского муниципального района на 2019 год учтена недоимка по налоговым платежам без учета недоимки отсутствующих должников, организаций, не осуществляющих деятельность, а также находящихся в процедурах банкротства или направивших заявления Арбитражный суд о признании банкротом, в сум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775,3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вал 3"/>
          <p:cNvGrpSpPr/>
          <p:nvPr/>
        </p:nvGrpSpPr>
        <p:grpSpPr>
          <a:xfrm>
            <a:off x="19080" y="4724280"/>
            <a:ext cx="2187720" cy="2328840"/>
            <a:chOff x="19080" y="4724280"/>
            <a:chExt cx="2187720" cy="2328840"/>
          </a:xfrm>
        </p:grpSpPr>
        <p:pic>
          <p:nvPicPr>
            <p:cNvPr id="107" name="Овал 3" descr=""/>
            <p:cNvPicPr/>
            <p:nvPr/>
          </p:nvPicPr>
          <p:blipFill>
            <a:blip r:embed="rId3"/>
            <a:stretch/>
          </p:blipFill>
          <p:spPr>
            <a:xfrm>
              <a:off x="19080" y="4724280"/>
              <a:ext cx="218772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7200" y="5180040"/>
              <a:ext cx="1314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Налог на доходы физических лиц 245,7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4"/>
          <p:cNvGrpSpPr/>
          <p:nvPr/>
        </p:nvGrpSpPr>
        <p:grpSpPr>
          <a:xfrm>
            <a:off x="2090880" y="4724280"/>
            <a:ext cx="2116080" cy="2328840"/>
            <a:chOff x="2090880" y="4724280"/>
            <a:chExt cx="2116080" cy="2328840"/>
          </a:xfrm>
        </p:grpSpPr>
        <p:pic>
          <p:nvPicPr>
            <p:cNvPr id="110" name="Овал 4" descr=""/>
            <p:cNvPicPr/>
            <p:nvPr/>
          </p:nvPicPr>
          <p:blipFill>
            <a:blip r:embed="rId4"/>
            <a:stretch/>
          </p:blipFill>
          <p:spPr>
            <a:xfrm>
              <a:off x="2090880" y="4724280"/>
              <a:ext cx="211608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519280" y="5180040"/>
              <a:ext cx="12621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УСН- 160,3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6"/>
          <p:cNvGrpSpPr/>
          <p:nvPr/>
        </p:nvGrpSpPr>
        <p:grpSpPr>
          <a:xfrm>
            <a:off x="4091040" y="4651200"/>
            <a:ext cx="2333520" cy="2401920"/>
            <a:chOff x="4091040" y="4651200"/>
            <a:chExt cx="2333520" cy="2401920"/>
          </a:xfrm>
        </p:grpSpPr>
        <p:pic>
          <p:nvPicPr>
            <p:cNvPr id="113" name="Овал 6" descr=""/>
            <p:cNvPicPr/>
            <p:nvPr/>
          </p:nvPicPr>
          <p:blipFill>
            <a:blip r:embed="rId5"/>
            <a:stretch/>
          </p:blipFill>
          <p:spPr>
            <a:xfrm>
              <a:off x="4091040" y="4651200"/>
              <a:ext cx="233352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551480" y="5118120"/>
              <a:ext cx="141264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ЕНВД – 13,2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C:\Users\ВодоносоваЕЮ\Desktop\i.jpg"/>
          <p:cNvPicPr/>
          <p:nvPr/>
        </p:nvPicPr>
        <p:blipFill>
          <a:blip r:embed="rId6"/>
          <a:stretch/>
        </p:blipFill>
        <p:spPr>
          <a:xfrm>
            <a:off x="328680" y="1886040"/>
            <a:ext cx="2500200" cy="271440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8"/>
          <p:cNvSpPr/>
          <p:nvPr/>
        </p:nvSpPr>
        <p:spPr>
          <a:xfrm>
            <a:off x="6329520" y="4815000"/>
            <a:ext cx="1857240" cy="207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Земельный налог -39,6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9"/>
          <p:cNvSpPr/>
          <p:nvPr/>
        </p:nvSpPr>
        <p:spPr>
          <a:xfrm>
            <a:off x="8472600" y="4815000"/>
            <a:ext cx="1928880" cy="207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Налог на имущество физических лиц – 316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19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19 году его наполнение по администрируемым неналоговыми доходами в сумме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3 723,8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7 001 ,6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18 года – 16 250,9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19 год -10 725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МалыгинаНВ</cp:lastModifiedBy>
  <cp:lastPrinted>2003-10-16T12:19:06Z</cp:lastPrinted>
  <dcterms:modified xsi:type="dcterms:W3CDTF">2019-04-16T13:46:29Z</dcterms:modified>
  <cp:revision>1124</cp:revision>
  <dc:subject/>
  <dc:title>Заголовок слайда отсутствует</dc:title>
</cp:coreProperties>
</file>