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3.png" ContentType="image/pn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74.jpeg" ContentType="image/jpeg"/>
  <Override PartName="/ppt/media/image20.jpeg" ContentType="image/jpeg"/>
  <Override PartName="/ppt/media/image18.jpeg" ContentType="image/jpeg"/>
  <Override PartName="/ppt/media/image5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4.png" ContentType="image/png"/>
  <Override PartName="/ppt/media/image11.jpeg" ContentType="image/jpeg"/>
  <Override PartName="/ppt/media/image64.jpeg" ContentType="image/jpeg"/>
  <Override PartName="/ppt/media/image7.jpeg" ContentType="image/jpeg"/>
  <Override PartName="/ppt/media/image81.png" ContentType="image/png"/>
  <Override PartName="/ppt/media/image80.png" ContentType="image/png"/>
  <Override PartName="/ppt/media/image8.png" ContentType="image/png"/>
  <Override PartName="/ppt/media/image39.jpeg" ContentType="image/jpeg"/>
  <Override PartName="/ppt/media/image77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75.png" ContentType="image/png"/>
  <Override PartName="/ppt/media/image38.jpeg" ContentType="image/jpeg"/>
  <Override PartName="/ppt/media/image72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69.jpeg" ContentType="image/jpeg"/>
  <Override PartName="/ppt/media/image67.jpeg" ContentType="image/jpeg"/>
  <Override PartName="/ppt/media/image26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44E3FE0-8E38-4A42-9115-64D8D78BD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C8CB5EA-35FC-4BF1-A101-298F62E1C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8463806-241B-4E69-98DF-22F22B138F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6D2A92E-32BB-45A8-8366-12DE8D98FE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234C630-4F0E-4B20-9B72-E2D88BAA58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1676063-2D43-402C-A351-A1EB3A1C8E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94132A1-21D6-4FBF-A803-6C28BBA4F5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D1D7A32-BA76-4AC7-AF24-09056A9EB6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2E9-DB7C-4F4E-8DF4-955646CE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F89-9ABE-495B-BB4F-213B34B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988-F961-4CA0-8558-1FC2F4FD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52C-B7BD-4084-83D3-3CD789E3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532-6ED6-45E5-8556-688F44D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D40-7725-4C59-86EE-3ABBE295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A64-A81D-42F8-808E-F7AD1240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439-7F80-4D5D-A00A-A137740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D75-C49C-4D75-88D0-6072EE53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CDC-B86A-42B8-A405-0951925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2C5-F05B-407D-894E-0DC613B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358-375E-4028-8672-0ECEDB7F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165-F6D4-49F1-AFC1-ED8B987A4743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1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2 и 2023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6 078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6 916,8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2 420,5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1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2 и 2023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2 и 2023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1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0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12,1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2082,48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57123,86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8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1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2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4,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48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934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02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 2023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2023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1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2 и 2023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ile"/>
          <p:cNvSpPr/>
          <p:nvPr/>
        </p:nvSpPr>
        <p:spPr>
          <a:xfrm>
            <a:off x="936720" y="1886040"/>
            <a:ext cx="2950920" cy="235728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505080 h 2357280"/>
              <a:gd name="textAreaBottom" fmla="*/ 2214360 h 2357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2" name="File"/>
          <p:cNvSpPr/>
          <p:nvPr/>
        </p:nvSpPr>
        <p:spPr>
          <a:xfrm>
            <a:off x="4043520" y="1957320"/>
            <a:ext cx="2950920" cy="2311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495000 h 2311560"/>
              <a:gd name="textAreaBottom" fmla="*/ 2171520 h 2311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ile"/>
          <p:cNvSpPr/>
          <p:nvPr/>
        </p:nvSpPr>
        <p:spPr>
          <a:xfrm>
            <a:off x="7186680" y="1957320"/>
            <a:ext cx="3000240" cy="2286000"/>
          </a:xfrm>
          <a:custGeom>
            <a:avLst/>
            <a:gdLst>
              <a:gd name="textAreaLeft" fmla="*/ 150840 w 3000240"/>
              <a:gd name="textAreaRight" fmla="*/ 2866320 w 3000240"/>
              <a:gd name="textAreaTop" fmla="*/ 489600 h 2286000"/>
              <a:gd name="textAreaBottom" fmla="*/ 2147400 h 2286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5613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278,7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7438,55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0689,3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1,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664,0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649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9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0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1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890,7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5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40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2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6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7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69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5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0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9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1835,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4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0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1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3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,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794,5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794,5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602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202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587,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287,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2 и 2023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2 и 2023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1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296856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0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0 236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03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7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7 18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64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4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57,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4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43040" y="5138640"/>
            <a:ext cx="4809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1 году к прогнозу 2020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1 г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0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2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7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6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0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185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8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73 995,1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1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3 036,1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0 года снижение на 4,8% или 656,5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1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1 году его наполнение по администрируемым неналоговыми доходами в сумме 3 763,8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6 715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0 года – 9 326,7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1 год -10 479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84360" y="1440000"/>
          <a:ext cx="8137440" cy="673884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1 год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4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20-11-10T13:28:31Z</dcterms:modified>
  <cp:revision>1144</cp:revision>
  <dc:subject/>
  <dc:title>Заголовок слайда отсутствует</dc:title>
</cp:coreProperties>
</file>