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3.png" ContentType="image/pn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74.jpeg" ContentType="image/jpeg"/>
  <Override PartName="/ppt/media/image20.jpeg" ContentType="image/jpeg"/>
  <Override PartName="/ppt/media/image18.jpeg" ContentType="image/jpeg"/>
  <Override PartName="/ppt/media/image5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4.png" ContentType="image/png"/>
  <Override PartName="/ppt/media/image11.jpeg" ContentType="image/jpeg"/>
  <Override PartName="/ppt/media/image64.jpeg" ContentType="image/jpeg"/>
  <Override PartName="/ppt/media/image7.jpeg" ContentType="image/jpeg"/>
  <Override PartName="/ppt/media/image81.png" ContentType="image/png"/>
  <Override PartName="/ppt/media/image80.png" ContentType="image/png"/>
  <Override PartName="/ppt/media/image8.png" ContentType="image/png"/>
  <Override PartName="/ppt/media/image39.jpeg" ContentType="image/jpeg"/>
  <Override PartName="/ppt/media/image77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75.png" ContentType="image/png"/>
  <Override PartName="/ppt/media/image38.jpeg" ContentType="image/jpeg"/>
  <Override PartName="/ppt/media/image72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69.jpeg" ContentType="image/jpeg"/>
  <Override PartName="/ppt/media/image67.jpeg" ContentType="image/jpeg"/>
  <Override PartName="/ppt/media/image26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3036E1E-3DB3-4F4A-BCEE-FC2191C34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BE712BC-C139-49ED-ABAC-BC4825F50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AA39F9E-050B-4831-B536-6071FECDB5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16582B8-E57C-4F09-BD36-4BC67F9868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BD5254C-2876-45B6-9659-CB9E32AEF2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2DF2F56-0D2E-47A3-98BB-4E4291EA8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8ACE41A-2D9D-4149-8D29-AB71EBC1A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E0D6B9E-BA7D-4DFB-AD9F-E88390717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C8B-07A9-40B3-8CD5-BBCAEBD7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4B5-001A-4D1D-965B-EE0826A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622-FDD5-476E-B609-9F5EDBF9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0D2-FDF5-488D-AB9F-670167A3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D72-DA62-4CB2-9CC1-3FE97558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87D-1AC2-4160-8CC9-ED2FC9D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3DC-E703-450B-933B-7320B03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274-BF6A-427E-8F25-FD93C01E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BD3-99B5-47B5-B80D-ECF6208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4CC-5FE7-499C-B71D-2616714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B09-E24E-4960-9B8F-A0A591F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BEE-6E84-41B4-93E9-4B632AA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FBD-47D2-4E12-8C1F-0FECDEE02227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1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2 и 2023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6 072,8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6 948,78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2 427,67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1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2 и 2023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2 и 2023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1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0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12,1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2076,08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57123,86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8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1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2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4,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48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934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02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 2023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2023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1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2 и 2023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ile"/>
          <p:cNvSpPr/>
          <p:nvPr/>
        </p:nvSpPr>
        <p:spPr>
          <a:xfrm>
            <a:off x="936720" y="1886040"/>
            <a:ext cx="2950920" cy="235728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505080 h 2357280"/>
              <a:gd name="textAreaBottom" fmla="*/ 2214360 h 2357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2" name="File"/>
          <p:cNvSpPr/>
          <p:nvPr/>
        </p:nvSpPr>
        <p:spPr>
          <a:xfrm>
            <a:off x="4043520" y="1957320"/>
            <a:ext cx="2950920" cy="2311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495000 h 2311560"/>
              <a:gd name="textAreaBottom" fmla="*/ 2171520 h 2311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ile"/>
          <p:cNvSpPr/>
          <p:nvPr/>
        </p:nvSpPr>
        <p:spPr>
          <a:xfrm>
            <a:off x="7186680" y="1957320"/>
            <a:ext cx="3000240" cy="2286000"/>
          </a:xfrm>
          <a:custGeom>
            <a:avLst/>
            <a:gdLst>
              <a:gd name="textAreaLeft" fmla="*/ 150840 w 3000240"/>
              <a:gd name="textAreaRight" fmla="*/ 2866320 w 3000240"/>
              <a:gd name="textAreaTop" fmla="*/ 489600 h 2286000"/>
              <a:gd name="textAreaBottom" fmla="*/ 2147400 h 2286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5613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278,7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7432,15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0689,3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1,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664,0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649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9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0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1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890,7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5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40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2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6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7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69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5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0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9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1835,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4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0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1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3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,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788,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 788,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634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 234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594,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 294,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2 и 2023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2 и 2023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1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296856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1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0 236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03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7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7 18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64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4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5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4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43040" y="5138640"/>
            <a:ext cx="4809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1 году к прогнозу 2020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1 г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0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2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7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6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0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185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8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73 995,1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1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3 036,1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0 года снижение на 4,8% или 656,5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1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1 году его наполнение по администрируемым неналоговыми доходами в сумме 3 763,8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6 715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0 года – 9 326,7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1 год -10 479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84360" y="1440000"/>
          <a:ext cx="8137440" cy="673884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1 год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4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20-12-09T11:16:49Z</dcterms:modified>
  <cp:revision>1154</cp:revision>
  <dc:subject/>
  <dc:title>Заголовок слайда отсутствует</dc:title>
</cp:coreProperties>
</file>