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56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49.png" ContentType="image/png"/>
  <Override PartName="/ppt/media/image65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18.jpeg" ContentType="image/jpeg"/>
  <Override PartName="/ppt/media/image5.jpeg" ContentType="image/jpeg"/>
  <Override PartName="/ppt/media/image20.jpeg" ContentType="image/jpeg"/>
  <Override PartName="/ppt/media/image22.png" ContentType="image/png"/>
  <Override PartName="/ppt/media/image23.png" ContentType="image/png"/>
  <Override PartName="/ppt/media/image55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2.jpeg" ContentType="image/jpeg"/>
  <Override PartName="/ppt/media/image19.png" ContentType="image/png"/>
  <Override PartName="/ppt/media/image79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15.jpeg" ContentType="image/jpeg"/>
  <Override PartName="/ppt/media/image80.png" ContentType="image/png"/>
  <Override PartName="/ppt/media/image39.jpeg" ContentType="image/jpeg"/>
  <Override PartName="/ppt/media/image25.jpeg" ContentType="image/jpeg"/>
  <Override PartName="/ppt/media/image77.png" ContentType="image/png"/>
  <Override PartName="/ppt/media/image74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70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11.png" ContentType="image/png"/>
  <Override PartName="/ppt/media/image24.png" ContentType="image/png"/>
  <Override PartName="/ppt/media/image68.jpeg" ContentType="image/jpeg"/>
  <Override PartName="/ppt/media/image69.png" ContentType="image/png"/>
  <Override PartName="/ppt/media/image67.jpeg" ContentType="image/jpeg"/>
  <Override PartName="/ppt/media/image17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81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8.jpeg" ContentType="image/jpeg"/>
  <Override PartName="/ppt/media/image26.png" ContentType="image/png"/>
  <Override PartName="/ppt/media/image31.jpeg" ContentType="image/jpeg"/>
  <Override PartName="/ppt/media/image32.jpeg" ContentType="image/jpeg"/>
  <Override PartName="/ppt/media/image33.png" ContentType="image/pn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0D02DB4-FA98-496E-A9E3-BF4F7511C2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938A6C7-6C5D-4BBC-A850-59C3B62D6E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234DF0A-2FAE-46FB-AA62-0C670A8427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2B4497F-69A7-46B8-9A2F-D672FCA05A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AB31424-CDD1-444A-BD69-372BC43C15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A323704-8947-47D0-BF2B-C8FFE9B0AD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6CB331F-BCBD-450A-A2E3-33D2E53C32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139F402-F148-4471-9FE7-4919BDD289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A6E-104C-4413-9A58-BB5DE922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833-42CE-40E0-AB75-99FD4A42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31F-0A57-479F-AF13-B42EEC8C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D4B-AF30-49A5-A036-8F1595B7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C27-C793-47BE-B9ED-E0E564C7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789-BC75-4764-AC05-B65E4993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048-9ABE-4301-91B0-12FF3B7C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08F-EABA-473D-B49B-9919AD11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5BF-233F-40F7-9451-0251191D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557-E967-4ED7-AA6D-5F673A82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4E8-8E63-4C06-B58F-8BA13089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113-23B5-4CA7-BB2E-14CE432E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1AA1-0375-4D80-B88C-DE6C28F77E5D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7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58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2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3 и 2024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1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2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4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218 862,29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205 253,7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7 301,5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2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3 и 2024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3 и 2024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0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3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6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2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2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5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38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39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0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7"/>
          <p:cNvGrpSpPr/>
          <p:nvPr/>
        </p:nvGrpSpPr>
        <p:grpSpPr>
          <a:xfrm>
            <a:off x="4753080" y="957240"/>
            <a:ext cx="4178160" cy="2714760"/>
            <a:chOff x="4753080" y="957240"/>
            <a:chExt cx="4178160" cy="2714760"/>
          </a:xfrm>
        </p:grpSpPr>
        <p:sp>
          <p:nvSpPr>
            <p:cNvPr id="143" name="Скругленный прямоугольник 18"/>
            <p:cNvSpPr/>
            <p:nvPr/>
          </p:nvSpPr>
          <p:spPr>
            <a:xfrm>
              <a:off x="4753080" y="1177920"/>
              <a:ext cx="4178160" cy="2132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Скругленный прямоугольник 4"/>
            <p:cNvSpPr/>
            <p:nvPr/>
          </p:nvSpPr>
          <p:spPr>
            <a:xfrm>
              <a:off x="5070600" y="957240"/>
              <a:ext cx="37443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, с учетом повышения заработной платы в 2021 год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6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48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49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82,2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6237,29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69871,09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7,2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2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2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ile"/>
          <p:cNvSpPr/>
          <p:nvPr/>
        </p:nvSpPr>
        <p:spPr>
          <a:xfrm>
            <a:off x="217440" y="792000"/>
            <a:ext cx="10296720" cy="11527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96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ile"/>
          <p:cNvSpPr/>
          <p:nvPr/>
        </p:nvSpPr>
        <p:spPr>
          <a:xfrm>
            <a:off x="217440" y="2087640"/>
            <a:ext cx="10296720" cy="107928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6000" y="3384720"/>
            <a:ext cx="10296360" cy="1079280"/>
          </a:xfrm>
          <a:custGeom>
            <a:avLst/>
            <a:gdLst>
              <a:gd name="textAreaLeft" fmla="*/ 517680 w 10296360"/>
              <a:gd name="textAreaRight" fmla="*/ 9836640 w 1029636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4608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7440" y="5832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0,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3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2,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2,4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с двумя скругленными противолежащими углами 22"/>
          <p:cNvSpPr/>
          <p:nvPr/>
        </p:nvSpPr>
        <p:spPr>
          <a:xfrm>
            <a:off x="614520" y="2671920"/>
            <a:ext cx="5572080" cy="392904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2"/>
          <p:cNvSpPr/>
          <p:nvPr/>
        </p:nvSpPr>
        <p:spPr>
          <a:xfrm>
            <a:off x="7329600" y="417204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2825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пожарная безопасность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550,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2 - 2024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2 -2024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2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3 и 2024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ile"/>
          <p:cNvSpPr/>
          <p:nvPr/>
        </p:nvSpPr>
        <p:spPr>
          <a:xfrm>
            <a:off x="185760" y="2386080"/>
            <a:ext cx="2500200" cy="2000160"/>
          </a:xfrm>
          <a:custGeom>
            <a:avLst/>
            <a:gdLst>
              <a:gd name="textAreaLeft" fmla="*/ 125640 w 2500200"/>
              <a:gd name="textAreaRight" fmla="*/ 2388600 w 2500200"/>
              <a:gd name="textAreaTop" fmla="*/ 428400 h 2000160"/>
              <a:gd name="textAreaBottom" fmla="*/ 1878840 h 20001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08" name="File"/>
          <p:cNvSpPr/>
          <p:nvPr/>
        </p:nvSpPr>
        <p:spPr>
          <a:xfrm>
            <a:off x="2900520" y="2386080"/>
            <a:ext cx="2500200" cy="2025720"/>
          </a:xfrm>
          <a:custGeom>
            <a:avLst/>
            <a:gdLst>
              <a:gd name="textAreaLeft" fmla="*/ 125640 w 2500200"/>
              <a:gd name="textAreaRight" fmla="*/ 2388600 w 2500200"/>
              <a:gd name="textAreaTop" fmla="*/ 433800 h 2025720"/>
              <a:gd name="textAreaBottom" fmla="*/ 1902960 h 2025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ile"/>
          <p:cNvSpPr/>
          <p:nvPr/>
        </p:nvSpPr>
        <p:spPr>
          <a:xfrm>
            <a:off x="5543640" y="2457360"/>
            <a:ext cx="2500200" cy="2000520"/>
          </a:xfrm>
          <a:custGeom>
            <a:avLst/>
            <a:gdLst>
              <a:gd name="textAreaLeft" fmla="*/ 125640 w 2500200"/>
              <a:gd name="textAreaRight" fmla="*/ 2388600 w 2500200"/>
              <a:gd name="textAreaTop" fmla="*/ 428400 h 2000520"/>
              <a:gd name="textAreaBottom" fmla="*/ 1879200 h 20005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471600" y="2886120"/>
            <a:ext cx="20714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5757840" y="2814480"/>
            <a:ext cx="2286000" cy="13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0376,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3114720" y="2957400"/>
            <a:ext cx="2071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15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216" name="File"/>
          <p:cNvSpPr/>
          <p:nvPr/>
        </p:nvSpPr>
        <p:spPr>
          <a:xfrm>
            <a:off x="8258040" y="2457360"/>
            <a:ext cx="2428920" cy="20718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е вопросы в облас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кономик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43,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23" name="File"/>
          <p:cNvSpPr/>
          <p:nvPr/>
        </p:nvSpPr>
        <p:spPr>
          <a:xfrm>
            <a:off x="936720" y="1814400"/>
            <a:ext cx="4392360" cy="4000680"/>
          </a:xfrm>
          <a:custGeom>
            <a:avLst/>
            <a:gdLst>
              <a:gd name="textAreaLeft" fmla="*/ 220680 w 4392360"/>
              <a:gd name="textAreaRight" fmla="*/ 4196160 w 4392360"/>
              <a:gd name="textAreaTop" fmla="*/ 857160 h 4000680"/>
              <a:gd name="textAreaBottom" fmla="*/ 3758040 h 40006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ile"/>
          <p:cNvSpPr/>
          <p:nvPr/>
        </p:nvSpPr>
        <p:spPr>
          <a:xfrm>
            <a:off x="1089000" y="2171880"/>
            <a:ext cx="4392720" cy="3714480"/>
          </a:xfrm>
          <a:custGeom>
            <a:avLst/>
            <a:gdLst>
              <a:gd name="textAreaLeft" fmla="*/ 220680 w 4392720"/>
              <a:gd name="textAreaRight" fmla="*/ 4196520 w 4392720"/>
              <a:gd name="textAreaTop" fmla="*/ 795600 h 3714480"/>
              <a:gd name="textAreaBottom" fmla="*/ 3489120 h 3714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ругие вопросы в области национальной экономик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900480" y="3386160"/>
            <a:ext cx="3714840" cy="1285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443,7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 руб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5920" indent="-385920"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22"/>
          <p:cNvSpPr/>
          <p:nvPr/>
        </p:nvSpPr>
        <p:spPr>
          <a:xfrm>
            <a:off x="328680" y="2243160"/>
            <a:ext cx="6215040" cy="328608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ведение комплексных кадастровых раб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Жилищно-коммунальное хозяй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280" y="1679040"/>
            <a:ext cx="9721800" cy="4753080"/>
          </a:xfrm>
          <a:prstGeom prst="rect">
            <a:avLst/>
          </a:prstGeom>
          <a:ln w="0">
            <a:noFill/>
          </a:ln>
        </p:spPr>
      </p:pic>
      <p:sp>
        <p:nvSpPr>
          <p:cNvPr id="235" name="Блок-схема: альтернативный процесс 3"/>
          <p:cNvSpPr/>
          <p:nvPr/>
        </p:nvSpPr>
        <p:spPr>
          <a:xfrm>
            <a:off x="828720" y="1671480"/>
            <a:ext cx="9001080" cy="135756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беспечение мероприятий по переселению граждан из аварийного жилищного фо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трелка вниз 4"/>
          <p:cNvSpPr/>
          <p:nvPr/>
        </p:nvSpPr>
        <p:spPr>
          <a:xfrm>
            <a:off x="2971800" y="3171960"/>
            <a:ext cx="484200" cy="1571400"/>
          </a:xfrm>
          <a:prstGeom prst="down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трелка вниз 5"/>
          <p:cNvSpPr/>
          <p:nvPr/>
        </p:nvSpPr>
        <p:spPr>
          <a:xfrm>
            <a:off x="7472520" y="3171960"/>
            <a:ext cx="484200" cy="1643040"/>
          </a:xfrm>
          <a:prstGeom prst="down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6"/>
          <p:cNvSpPr/>
          <p:nvPr/>
        </p:nvSpPr>
        <p:spPr>
          <a:xfrm>
            <a:off x="1614600" y="4957920"/>
            <a:ext cx="3429000" cy="141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чет средств Фонда содействия реформированию жилищно-коммунального хозяйства -6958,5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7"/>
          <p:cNvSpPr/>
          <p:nvPr/>
        </p:nvSpPr>
        <p:spPr>
          <a:xfrm>
            <a:off x="5829480" y="4957920"/>
            <a:ext cx="3286080" cy="142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чет средств областного бюджета-63,3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9368,6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8000,4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4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1632,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2120,6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41,09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6431,8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0144,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5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6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7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8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3663,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ilm"/>
          <p:cNvSpPr/>
          <p:nvPr/>
        </p:nvSpPr>
        <p:spPr>
          <a:xfrm>
            <a:off x="7705800" y="0"/>
            <a:ext cx="3095640" cy="7201080"/>
          </a:xfrm>
          <a:custGeom>
            <a:avLst/>
            <a:gdLst>
              <a:gd name="textAreaLeft" fmla="*/ 710640 w 3095640"/>
              <a:gd name="textAreaRight" fmla="*/ 2447640 w 3095640"/>
              <a:gd name="textAreaTop" fmla="*/ 2710080 h 7201080"/>
              <a:gd name="textAreaBottom" fmla="*/ 4476240 h 720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19,6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122,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732,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3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74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76" name="File"/>
          <p:cNvSpPr/>
          <p:nvPr/>
        </p:nvSpPr>
        <p:spPr>
          <a:xfrm>
            <a:off x="3043080" y="3386160"/>
            <a:ext cx="4751640" cy="2143080"/>
          </a:xfrm>
          <a:custGeom>
            <a:avLst/>
            <a:gdLst>
              <a:gd name="textAreaLeft" fmla="*/ 238680 w 4751640"/>
              <a:gd name="textAreaRight" fmla="*/ 4539600 w 4751640"/>
              <a:gd name="textAreaTop" fmla="*/ 459000 h 2143080"/>
              <a:gd name="textAreaBottom" fmla="*/ 2013120 h 21430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82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 519,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019,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 852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452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 228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928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7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507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2431,9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500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7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8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9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300" name="AutoShape 21"/>
          <p:cNvSpPr/>
          <p:nvPr/>
        </p:nvSpPr>
        <p:spPr>
          <a:xfrm>
            <a:off x="5400720" y="3457440"/>
            <a:ext cx="3384360" cy="20005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равнивание бюджетной обеспеченности муниципальных образований   по реализации ими их отдельных расходных обязательств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5,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Содержимое 4" descr=""/>
          <p:cNvPicPr/>
          <p:nvPr/>
        </p:nvPicPr>
        <p:blipFill>
          <a:blip r:embed="rId2"/>
          <a:stretch/>
        </p:blipFill>
        <p:spPr>
          <a:xfrm>
            <a:off x="542880" y="1670040"/>
            <a:ext cx="4767480" cy="477360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5" descr=""/>
          <p:cNvPicPr/>
          <p:nvPr/>
        </p:nvPicPr>
        <p:blipFill>
          <a:blip r:embed="rId3"/>
          <a:stretch/>
        </p:blipFill>
        <p:spPr>
          <a:xfrm>
            <a:off x="5492880" y="1616040"/>
            <a:ext cx="4767120" cy="482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3 и 2024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3" descr="C:\2\i.jpg"/>
          <p:cNvPicPr/>
          <p:nvPr/>
        </p:nvPicPr>
        <p:blipFill>
          <a:blip r:embed="rId1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3 и 2024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Содержимое 4" descr=""/>
          <p:cNvPicPr/>
          <p:nvPr/>
        </p:nvPicPr>
        <p:blipFill>
          <a:blip r:embed="rId1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5" descr=""/>
          <p:cNvPicPr/>
          <p:nvPr/>
        </p:nvPicPr>
        <p:blipFill>
          <a:blip r:embed="rId2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Содержимое 4" descr=""/>
          <p:cNvPicPr/>
          <p:nvPr/>
        </p:nvPicPr>
        <p:blipFill>
          <a:blip r:embed="rId2"/>
          <a:stretch/>
        </p:blipFill>
        <p:spPr>
          <a:xfrm>
            <a:off x="530280" y="1682640"/>
            <a:ext cx="4859280" cy="474840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5" descr=""/>
          <p:cNvPicPr/>
          <p:nvPr/>
        </p:nvPicPr>
        <p:blipFill>
          <a:blip r:embed="rId3"/>
          <a:stretch/>
        </p:blipFill>
        <p:spPr>
          <a:xfrm>
            <a:off x="5479920" y="1682640"/>
            <a:ext cx="4859640" cy="47484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2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2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957320"/>
            <a:ext cx="4929120" cy="67788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743200"/>
            <a:ext cx="4929120" cy="35712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9960" y="3309840"/>
            <a:ext cx="495612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986280"/>
            <a:ext cx="4929120" cy="62208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824360"/>
            <a:ext cx="4786200" cy="72072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761080"/>
            <a:ext cx="4929120" cy="69696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8040" y="1779480"/>
            <a:ext cx="3486240" cy="4919760"/>
            <a:chOff x="7358040" y="1779480"/>
            <a:chExt cx="348624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8040" y="1779480"/>
              <a:ext cx="348624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2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67 111,1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957320"/>
            <a:ext cx="1571760" cy="785880"/>
          </a:xfrm>
          <a:custGeom>
            <a:avLst/>
            <a:gdLst>
              <a:gd name="textAreaLeft" fmla="*/ 196200 w 1571760"/>
              <a:gd name="textAreaRight" fmla="*/ 1375560 w 157176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5 09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635200"/>
            <a:ext cx="1428840" cy="604800"/>
          </a:xfrm>
          <a:custGeom>
            <a:avLst/>
            <a:gdLst>
              <a:gd name="textAreaLeft" fmla="*/ 151200 w 1428840"/>
              <a:gd name="textAreaRight" fmla="*/ 1277640 w 1428840"/>
              <a:gd name="textAreaTop" fmla="*/ 151200 h 604800"/>
              <a:gd name="textAreaBottom" fmla="*/ 4536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28" y="5400"/>
                </a:lnTo>
                <a:lnTo>
                  <a:pt x="17028" y="0"/>
                </a:lnTo>
                <a:lnTo>
                  <a:pt x="21600" y="10800"/>
                </a:lnTo>
                <a:lnTo>
                  <a:pt x="17028" y="21600"/>
                </a:lnTo>
                <a:lnTo>
                  <a:pt x="17028" y="16200"/>
                </a:lnTo>
                <a:lnTo>
                  <a:pt x="0" y="16200"/>
                </a:lnTo>
                <a:lnTo>
                  <a:pt x="22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87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349800"/>
            <a:ext cx="1500480" cy="634680"/>
          </a:xfrm>
          <a:custGeom>
            <a:avLst/>
            <a:gdLst>
              <a:gd name="textAreaLeft" fmla="*/ 158760 w 1500480"/>
              <a:gd name="textAreaRight" fmla="*/ 1341720 w 1500480"/>
              <a:gd name="textAreaTop" fmla="*/ 158760 h 634680"/>
              <a:gd name="textAreaBottom" fmla="*/ 476280 h 63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29" y="5400"/>
                </a:lnTo>
                <a:lnTo>
                  <a:pt x="17029" y="0"/>
                </a:lnTo>
                <a:lnTo>
                  <a:pt x="21600" y="10800"/>
                </a:lnTo>
                <a:lnTo>
                  <a:pt x="17029" y="21600"/>
                </a:lnTo>
                <a:lnTo>
                  <a:pt x="17029" y="16200"/>
                </a:lnTo>
                <a:lnTo>
                  <a:pt x="0" y="16200"/>
                </a:lnTo>
                <a:lnTo>
                  <a:pt x="22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2 50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984480"/>
            <a:ext cx="1428840" cy="623880"/>
          </a:xfrm>
          <a:custGeom>
            <a:avLst/>
            <a:gdLst>
              <a:gd name="textAreaLeft" fmla="*/ 155880 w 1428840"/>
              <a:gd name="textAreaRight" fmla="*/ 1272960 w 142884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84" y="5400"/>
                </a:lnTo>
                <a:lnTo>
                  <a:pt x="16884" y="0"/>
                </a:lnTo>
                <a:lnTo>
                  <a:pt x="21600" y="10800"/>
                </a:lnTo>
                <a:lnTo>
                  <a:pt x="16884" y="21600"/>
                </a:lnTo>
                <a:lnTo>
                  <a:pt x="16884" y="16200"/>
                </a:lnTo>
                <a:lnTo>
                  <a:pt x="0" y="16200"/>
                </a:lnTo>
                <a:lnTo>
                  <a:pt x="235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0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15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824360"/>
            <a:ext cx="1536480" cy="720720"/>
          </a:xfrm>
          <a:custGeom>
            <a:avLst/>
            <a:gdLst>
              <a:gd name="textAreaLeft" fmla="*/ 177120 w 1536480"/>
              <a:gd name="textAreaRight" fmla="*/ 1359360 w 153648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15" y="5400"/>
                </a:lnTo>
                <a:lnTo>
                  <a:pt x="16615" y="0"/>
                </a:lnTo>
                <a:lnTo>
                  <a:pt x="21600" y="10800"/>
                </a:lnTo>
                <a:lnTo>
                  <a:pt x="16615" y="21600"/>
                </a:lnTo>
                <a:lnTo>
                  <a:pt x="16615" y="16200"/>
                </a:lnTo>
                <a:lnTo>
                  <a:pt x="0" y="16200"/>
                </a:lnTo>
                <a:lnTo>
                  <a:pt x="249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2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2 году к прогнозу 2021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2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 на 2022 г от прогноза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1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 24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96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0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7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4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9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7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9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1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2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4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53 482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2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1 год -15 091,3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21 года рост на 16,4% или 2 129,3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98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19,4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2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2 году его наполнение по администрируемым неналоговыми доходами в сумме 4 693,9 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5 852,2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21 года – 15 294,0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2 год -10 546,1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2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84360" y="1440000"/>
          <a:ext cx="8137440" cy="6740280"/>
        </p:xfrm>
        <a:graphic>
          <a:graphicData uri="http://schemas.openxmlformats.org/drawingml/2006/table">
            <a:tbl>
              <a:tblPr/>
              <a:tblGrid>
                <a:gridCol w="2441520"/>
                <a:gridCol w="1035000"/>
                <a:gridCol w="961920"/>
                <a:gridCol w="1035360"/>
                <a:gridCol w="888840"/>
                <a:gridCol w="887400"/>
                <a:gridCol w="88740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на 2022 год от прогноза на 20201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29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5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74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, получаемые в виде арендной платы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использования имущества, находящегося в государств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использования имущества, находящегося в собственнос-ти муниципальных рай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87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 6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08" name="Рисунок 8" descr="26785.jpeg"/>
          <p:cNvPicPr/>
          <p:nvPr/>
        </p:nvPicPr>
        <p:blipFill>
          <a:blip r:embed="rId1"/>
          <a:stretch/>
        </p:blipFill>
        <p:spPr>
          <a:xfrm>
            <a:off x="0" y="2816280"/>
            <a:ext cx="1859040" cy="1682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23200" y="5168880"/>
            <a:ext cx="157824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DELOPROISV</cp:lastModifiedBy>
  <cp:lastPrinted>2003-10-16T12:19:06Z</cp:lastPrinted>
  <dcterms:modified xsi:type="dcterms:W3CDTF">2022-06-06T08:46:10Z</dcterms:modified>
  <cp:revision>1175</cp:revision>
  <dc:subject/>
  <dc:title>Заголовок слайда отсутствует</dc:title>
</cp:coreProperties>
</file>