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DDB6-9068-4FCB-B0A3-C6749B4507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2920-42D8-4A65-BDAC-8F447FD79A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6C9A-9997-4363-A481-DE264E7114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C3C0-7701-4983-AF84-2D1C88E40E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D9B-68F9-423D-8DA7-A41E0AAE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3E0-D7EE-4BBC-9269-366E06B6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3CD-76AD-4025-BB4A-BF13E5B0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59C-B001-4168-B15B-5F9DA2A1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057-B9FA-449B-A714-65A304CD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AD6-D11C-4388-9395-BA3A0F66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A69-1AB2-4487-9118-72D62E82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EF5-676C-4685-B8EC-4284B9A6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330-DB8F-4CE2-9994-EFBA07AC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AE5-4599-4F73-8971-4F3BFD70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CFC-A3BE-4AD6-88CC-D4FD94AE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8C7-68BF-423B-B6E6-F929F598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D30F-56C5-4881-A72E-7E9DAB910049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267"/>
          <p:cNvSpPr/>
          <p:nvPr/>
        </p:nvSpPr>
        <p:spPr>
          <a:xfrm>
            <a:off x="571680" y="285840"/>
            <a:ext cx="7992720" cy="6094440"/>
          </a:xfrm>
          <a:prstGeom prst="horizontalScroll">
            <a:avLst>
              <a:gd name="adj" fmla="val 12500"/>
            </a:avLst>
          </a:prstGeom>
          <a:solidFill>
            <a:srgbClr val="00ffff">
              <a:alpha val="20000"/>
            </a:srgbClr>
          </a:solidFill>
          <a:ln w="9360">
            <a:solidFill>
              <a:srgbClr val="990099"/>
            </a:solidFill>
            <a:miter/>
          </a:ln>
          <a:effectLst>
            <a:outerShdw dist="50938" dir="3061439" blurRad="0" rotWithShape="0">
              <a:srgbClr val="ffffff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Исполнение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бюджета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муниципального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образования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Нагорски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муниципальны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район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Кировско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област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за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2015год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68360" y="5661000"/>
            <a:ext cx="856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60640" indent="-797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Georgia"/>
                <a:ea typeface="Arial"/>
              </a:rPr>
              <a:t>    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став расходов бюджета Нагорского муниципального района в 2015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Диаграмма 5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45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  <a:ea typeface="Arial"/>
              </a:rPr>
              <a:t>Отраслевая структура расходов в 2015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969840"/>
          <a:ext cx="8964720" cy="5459400"/>
        </p:xfrm>
        <a:graphic>
          <a:graphicData uri="http://schemas.openxmlformats.org/drawingml/2006/table">
            <a:tbl>
              <a:tblPr/>
              <a:tblGrid>
                <a:gridCol w="4427640"/>
                <a:gridCol w="865080"/>
                <a:gridCol w="1224000"/>
                <a:gridCol w="1150920"/>
                <a:gridCol w="129708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ый расход, тыс.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исполнения, %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льный вес,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286561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99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64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щегосударственные вопрос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19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2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оборо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6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888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безопасность и правоохранительная деятельност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1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27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эконом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144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2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илищно – коммунальное хозяйств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64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разов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548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2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ультура и кинематография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8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2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оциальная полит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45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27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ическая культура и спор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888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служивание государственного и муниципального долг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9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72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жбюджетные трансферты общего характер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02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ирование отраслей социально – культурной сферы в 2015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Диаграмма 4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держка отраслей экономики района в 2015 г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Диаграмма 3" descr=""/>
          <p:cNvPicPr/>
          <p:nvPr/>
        </p:nvPicPr>
        <p:blipFill>
          <a:blip r:embed="rId1"/>
          <a:stretch/>
        </p:blipFill>
        <p:spPr>
          <a:xfrm>
            <a:off x="500040" y="2143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бюджетные трансферты общего характера  поселениям района в 2015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Диаграмма 3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Д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 численности и денежном содержании муниципальных служащих и работников муниципальных учреждений, финансируемых из бюджета муниципального района, за 2015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28760" y="2500200"/>
          <a:ext cx="8143920" cy="343872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760"/>
              </a:tblGrid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ь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чная численность, челове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содержание (фактически произведенные выплаты по оплате труда с начислениями), тыс. рубл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е служащие и работники органов местного самоуправления райо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1531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и образова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815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и культур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11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ЧЕТ О ВЫПОЛНЕНИИ МУНИЦИПАЛЬНОГО ЗАДА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оказание муниципальных услуг (выполнение работ) в разрезе главных распорядителей средств  бюджета муниципального  района на 2015-2017 годы  за 2015г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Таблица 5" descr=""/>
          <p:cNvPicPr/>
          <p:nvPr/>
        </p:nvPicPr>
        <p:blipFill>
          <a:blip r:embed="rId1"/>
          <a:stretch/>
        </p:blipFill>
        <p:spPr>
          <a:xfrm>
            <a:off x="285840" y="1139760"/>
            <a:ext cx="850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Таблица 3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07732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ниципальные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Диаграмма 3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8001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фицит и муниципальный дол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4240" y="1214280"/>
          <a:ext cx="7715520" cy="5170680"/>
        </p:xfrm>
        <a:graphic>
          <a:graphicData uri="http://schemas.openxmlformats.org/drawingml/2006/table">
            <a:tbl>
              <a:tblPr/>
              <a:tblGrid>
                <a:gridCol w="4060800"/>
                <a:gridCol w="1876680"/>
                <a:gridCol w="1778040"/>
              </a:tblGrid>
              <a:tr h="731880"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(тыс. рубле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 (тыс. рубле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ОВ БЮДЖЕТО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2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57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5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5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 бюджетом муниципального района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90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90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бюджетом муниципального района  кредитов от кредитных организаций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95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95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 бюджетных кредитов от других бюджетов бюджетной системы Российской Федерации бюджетом муниципального района  в валюте 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бюджетом муниципального района кредитов от других бюджетов бюджетной системы Российской Федерации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средств бюджет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7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2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Вертикальный свиток 4"/>
          <p:cNvSpPr/>
          <p:nvPr/>
        </p:nvSpPr>
        <p:spPr>
          <a:xfrm>
            <a:off x="0" y="500040"/>
            <a:ext cx="9144000" cy="5786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Бюджет муниципального образования Нагорский муниципальный район Кировской области за 2015 год исполнен по доходам в сумме 281304,3 тыс. рублей и по расходам в сумме 286561,4 тыс. рублей, с дефицитом 5257,1 тыс. рубл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&amp;Pcy;&amp;iecy;&amp;rcy;&amp;iecy;&amp;vcy;&amp;ycy;&amp;pcy;&amp;ocy;&amp;lcy;&amp;ncy;&amp;iecy;&amp;ncy; &amp;pcy;&amp;lcy;&amp;acy;&amp;ncy; &amp;pcy;&amp;ocy; &amp;dcy;&amp;ocy;&amp;khcy;&amp;ocy;&amp;dcy;&amp;acy;&amp;mcy; &amp;kcy;&amp;rcy;&amp;acy;&amp;iecy;&amp;vcy;&amp;ocy;&amp;gcy;&amp;ocy; &amp;bcy;&amp;yucy;&amp;dcy;&amp;zhcy;&amp;iecy;&amp;tcy;&amp;acy; LifeNews.pro"/>
          <p:cNvPicPr/>
          <p:nvPr/>
        </p:nvPicPr>
        <p:blipFill>
          <a:blip r:embed="rId1"/>
          <a:stretch/>
        </p:blipFill>
        <p:spPr>
          <a:xfrm>
            <a:off x="2428920" y="3929040"/>
            <a:ext cx="4357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400" spc="-1" strike="noStrike">
                <a:solidFill>
                  <a:srgbClr val="361fc3"/>
                </a:solidFill>
                <a:latin typeface="Monotype Corsiva"/>
              </a:rPr>
              <a:t>Спасибо за внимание !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46c0a"/>
          </a:solidFill>
          <a:ln w="936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ение доходной части бюджета Нагорского муниципального района за 2015 год,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7120" y="1996920"/>
          <a:ext cx="8329680" cy="2718000"/>
        </p:xfrm>
        <a:graphic>
          <a:graphicData uri="http://schemas.openxmlformats.org/drawingml/2006/table">
            <a:tbl>
              <a:tblPr/>
              <a:tblGrid>
                <a:gridCol w="2522520"/>
                <a:gridCol w="2017800"/>
                <a:gridCol w="1944720"/>
                <a:gridCol w="184464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2015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15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ственные доход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242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145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487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159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доход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9729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304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" descr="&amp;Ncy;&amp;ocy;&amp;vcy;&amp;ocy;&amp;scy;&amp;tcy;&amp;icy; &quot; &amp;Scy; 2014 &amp;gcy;&amp;ocy;&amp;dcy;&amp;acy; &amp;mcy;&amp;iecy;&amp;ncy;&amp;yacy;&amp;yucy;&amp;tcy;&amp;scy;&amp;yacy; &amp;ncy;&amp;ocy;&amp;rcy;&amp;mcy;&amp;acy;&amp;tcy;&amp;icy;&amp;vcy;&amp;ycy; &amp;rcy;&amp;acy;&amp;scy;&amp;pcy;&amp;rcy;&amp;iecy;&amp;dcy;&amp;iecy;&amp;lcy;&amp;iecy;&amp;ncy;&amp;icy;&amp;yacy; &amp;ncy;&amp;iecy;&amp;ncy;&amp;acy;&amp;lcy;&amp;ocy;&amp;gcy;&amp;ocy;&amp;vcy;&amp;ycy;&amp;khcy; &amp;dcy;&amp;ocy;&amp;khcy;&amp;ocy;&amp;dcy;&amp;ocy;&amp;vcy; &amp;vcy; &amp;bcy;&amp;yucy;&amp;dcy;&amp;zhcy;&amp;iecy;&amp;tcy;&amp;ycy; &amp;gcy;&amp;ocy;&amp;rcy;&amp;ocy;&amp;dcy;&amp;scy;&amp;kcy;&amp;icy;&amp;khcy; &amp;ocy;&amp;kcy;&amp;rcy;&amp;ucy;&amp;gcy;&amp;ocy;&amp;vcy; &quot; &amp;Mcy;&amp;icy;&amp;ncy;&amp;icy;&amp;scy;&amp;tcy;&amp;iecy;&amp;rcy;&amp;scy;&amp;tcy;&amp;vcy;&amp;ocy; &amp;icy;&amp;mcy;&amp;ucy;&amp;shchcy;&amp;iecy;&amp;scy;&amp;tcy;&amp;vcy;&amp;iecy;&amp;ncy;"/>
          <p:cNvPicPr/>
          <p:nvPr/>
        </p:nvPicPr>
        <p:blipFill>
          <a:blip r:embed="rId1"/>
          <a:stretch/>
        </p:blipFill>
        <p:spPr>
          <a:xfrm>
            <a:off x="2500200" y="4857840"/>
            <a:ext cx="2786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Диаграмма 3" descr=""/>
          <p:cNvPicPr/>
          <p:nvPr/>
        </p:nvPicPr>
        <p:blipFill>
          <a:blip r:embed="rId1"/>
          <a:stretch/>
        </p:blipFill>
        <p:spPr>
          <a:xfrm>
            <a:off x="214200" y="1477800"/>
            <a:ext cx="8786880" cy="5166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доходов бюджета Нагорского 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муниципального района  2015 год к уровню 2014 года, тыс. рублей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Выноска 2 3"/>
          <p:cNvSpPr/>
          <p:nvPr/>
        </p:nvSpPr>
        <p:spPr>
          <a:xfrm>
            <a:off x="2786040" y="3500280"/>
            <a:ext cx="1071720" cy="42876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45759"/>
              <a:gd name="adj6" fmla="val -35106"/>
            </a:avLst>
          </a:prstGeom>
          <a:solidFill>
            <a:srgbClr val="92d050"/>
          </a:solidFill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+5726,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Выноска 2 4"/>
          <p:cNvSpPr/>
          <p:nvPr/>
        </p:nvSpPr>
        <p:spPr>
          <a:xfrm>
            <a:off x="6929280" y="1571760"/>
            <a:ext cx="1229040" cy="3445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6189"/>
              <a:gd name="adj5" fmla="val 138092"/>
              <a:gd name="adj6" fmla="val -52967"/>
            </a:avLst>
          </a:prstGeom>
          <a:solidFill>
            <a:srgbClr val="92d050"/>
          </a:solidFill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2137,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6972480" cy="15429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c0099"/>
                </a:solidFill>
                <a:latin typeface="Calibri"/>
              </a:rPr>
              <a:t>Динамика поступления безвозмездных поступлений бюджета Нагорского муниципального района за 2015 год к уровню 2014 года, тыс. 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8760" y="1900080"/>
          <a:ext cx="8215200" cy="4505400"/>
        </p:xfrm>
        <a:graphic>
          <a:graphicData uri="http://schemas.openxmlformats.org/drawingml/2006/table">
            <a:tbl>
              <a:tblPr/>
              <a:tblGrid>
                <a:gridCol w="2757240"/>
                <a:gridCol w="1785960"/>
                <a:gridCol w="1857600"/>
                <a:gridCol w="1814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14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15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2015 года от 2014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та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339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44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795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сид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341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452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0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вен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877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88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789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МБ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2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9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безвозмездные поступле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0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остатков субсидий, субвенц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04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безвозмездных поступл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296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159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37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2" descr="&amp;Pcy;&amp;lcy;&amp;acy;&amp;ncy; &amp;pcy;&amp;ocy; &amp;dcy;&amp;ocy;&amp;khcy;&amp;ocy;&amp;dcy;&amp;acy;&amp;mcy; &amp;gcy;&amp;ocy;&amp;rcy;&amp;ocy;&amp;dcy;&amp;scy;&amp;kcy;&amp;ocy;&amp;gcy;&amp;ocy; &amp;bcy;&amp;yucy;&amp;dcy;&amp;zhcy;&amp;iecy;&amp;tcy;&amp;acy; &amp;ncy;&amp;acy; 2012 &amp;gcy;&amp;ocy;&amp;dcy; &amp;vcy;&amp;ycy;&amp;pcy;&amp;ocy;&amp;lcy;&amp;ncy;&amp;iecy;&amp;ncy; &amp;ncy;&amp;acy; 95"/>
          <p:cNvPicPr/>
          <p:nvPr/>
        </p:nvPicPr>
        <p:blipFill>
          <a:blip r:embed="rId1"/>
          <a:stretch/>
        </p:blipFill>
        <p:spPr>
          <a:xfrm>
            <a:off x="7286760" y="214200"/>
            <a:ext cx="1517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28760"/>
            <a:ext cx="864072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поступлений основных налоговых доходов  бюджета Нагорского муниципального района в 2014 и 20</a:t>
            </a:r>
            <a:r>
              <a:rPr b="1" lang="en-US" sz="1800" spc="-1" strike="noStrike">
                <a:solidFill>
                  <a:srgbClr val="333399"/>
                </a:solidFill>
                <a:latin typeface="Georgia"/>
                <a:ea typeface="Arial"/>
              </a:rPr>
              <a:t>1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  <a:ea typeface="Arial"/>
              </a:rPr>
              <a:t>5 гг., тыс</a:t>
            </a: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. рубле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8" descr=""/>
          <p:cNvPicPr/>
          <p:nvPr/>
        </p:nvPicPr>
        <p:blipFill>
          <a:blip r:embed="rId1"/>
          <a:stretch/>
        </p:blipFill>
        <p:spPr>
          <a:xfrm>
            <a:off x="0" y="1197000"/>
            <a:ext cx="9164520" cy="566100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право с вырезом 4"/>
          <p:cNvSpPr/>
          <p:nvPr/>
        </p:nvSpPr>
        <p:spPr>
          <a:xfrm rot="20420400">
            <a:off x="666720" y="3232080"/>
            <a:ext cx="1244520" cy="768600"/>
          </a:xfrm>
          <a:custGeom>
            <a:avLst/>
            <a:gdLst>
              <a:gd name="textAreaLeft" fmla="*/ 136080 w 1244520"/>
              <a:gd name="textAreaRight" fmla="*/ 1108440 w 1244520"/>
              <a:gd name="textAreaTop" fmla="*/ 192240 h 768600"/>
              <a:gd name="textAreaBottom" fmla="*/ 576720 h 76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67" y="5400"/>
                </a:lnTo>
                <a:lnTo>
                  <a:pt x="16867" y="0"/>
                </a:lnTo>
                <a:lnTo>
                  <a:pt x="21600" y="10800"/>
                </a:lnTo>
                <a:lnTo>
                  <a:pt x="16867" y="21600"/>
                </a:lnTo>
                <a:lnTo>
                  <a:pt x="16867" y="16200"/>
                </a:lnTo>
                <a:lnTo>
                  <a:pt x="0" y="16200"/>
                </a:lnTo>
                <a:lnTo>
                  <a:pt x="236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cd9">
              <a:alpha val="6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Times New Roman"/>
              </a:rPr>
              <a:t>+ </a:t>
            </a:r>
            <a:r>
              <a:rPr b="1" lang="ru-RU" sz="1400" spc="-1" strike="noStrike">
                <a:solidFill>
                  <a:srgbClr val="cc0099"/>
                </a:solidFill>
                <a:latin typeface="Times New Roman"/>
              </a:rPr>
              <a:t>174,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право с вырезом 5"/>
          <p:cNvSpPr/>
          <p:nvPr/>
        </p:nvSpPr>
        <p:spPr>
          <a:xfrm rot="19470000">
            <a:off x="1992240" y="2135160"/>
            <a:ext cx="1149480" cy="584280"/>
          </a:xfrm>
          <a:custGeom>
            <a:avLst/>
            <a:gdLst>
              <a:gd name="textAreaLeft" fmla="*/ 146160 w 1149480"/>
              <a:gd name="textAreaRight" fmla="*/ 1003320 w 1149480"/>
              <a:gd name="textAreaTop" fmla="*/ 146160 h 584280"/>
              <a:gd name="textAreaBottom" fmla="*/ 438480 h 584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3" y="5400"/>
                </a:lnTo>
                <a:lnTo>
                  <a:pt x="16103" y="0"/>
                </a:lnTo>
                <a:lnTo>
                  <a:pt x="21600" y="10800"/>
                </a:lnTo>
                <a:lnTo>
                  <a:pt x="16103" y="21600"/>
                </a:lnTo>
                <a:lnTo>
                  <a:pt x="16103" y="16200"/>
                </a:lnTo>
                <a:lnTo>
                  <a:pt x="0" y="16200"/>
                </a:lnTo>
                <a:lnTo>
                  <a:pt x="274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cd9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Times New Roman"/>
              </a:rPr>
              <a:t>+25,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право с вырезом 6"/>
          <p:cNvSpPr/>
          <p:nvPr/>
        </p:nvSpPr>
        <p:spPr>
          <a:xfrm rot="20472000">
            <a:off x="3344400" y="2962440"/>
            <a:ext cx="1079640" cy="576000"/>
          </a:xfrm>
          <a:custGeom>
            <a:avLst/>
            <a:gdLst>
              <a:gd name="textAreaLeft" fmla="*/ 144000 w 1079640"/>
              <a:gd name="textAreaRight" fmla="*/ 936000 w 1079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840" y="5400"/>
                </a:lnTo>
                <a:lnTo>
                  <a:pt x="15840" y="0"/>
                </a:lnTo>
                <a:lnTo>
                  <a:pt x="21600" y="10800"/>
                </a:lnTo>
                <a:lnTo>
                  <a:pt x="15840" y="21600"/>
                </a:lnTo>
                <a:lnTo>
                  <a:pt x="15840" y="16200"/>
                </a:lnTo>
                <a:lnTo>
                  <a:pt x="0" y="16200"/>
                </a:lnTo>
                <a:lnTo>
                  <a:pt x="288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cd9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Times New Roman"/>
              </a:rPr>
              <a:t>+ </a:t>
            </a:r>
            <a:r>
              <a:rPr b="1" lang="ru-RU" sz="1400" spc="-1" strike="noStrike">
                <a:solidFill>
                  <a:srgbClr val="cc0099"/>
                </a:solidFill>
                <a:latin typeface="Times New Roman"/>
              </a:rPr>
              <a:t>86,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трелка вправо с вырезом 7"/>
          <p:cNvSpPr/>
          <p:nvPr/>
        </p:nvSpPr>
        <p:spPr>
          <a:xfrm rot="20571600">
            <a:off x="4582800" y="1176120"/>
            <a:ext cx="1312920" cy="761760"/>
          </a:xfrm>
          <a:custGeom>
            <a:avLst/>
            <a:gdLst>
              <a:gd name="textAreaLeft" fmla="*/ 190080 w 1312920"/>
              <a:gd name="textAreaRight" fmla="*/ 1122840 w 131292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344" y="5400"/>
                </a:lnTo>
                <a:lnTo>
                  <a:pt x="15344" y="0"/>
                </a:lnTo>
                <a:lnTo>
                  <a:pt x="21600" y="10800"/>
                </a:lnTo>
                <a:lnTo>
                  <a:pt x="15344" y="21600"/>
                </a:lnTo>
                <a:lnTo>
                  <a:pt x="15344" y="16200"/>
                </a:lnTo>
                <a:lnTo>
                  <a:pt x="0" y="16200"/>
                </a:lnTo>
                <a:lnTo>
                  <a:pt x="312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cd9">
              <a:alpha val="5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Times New Roman"/>
              </a:rPr>
              <a:t>+ </a:t>
            </a:r>
            <a:r>
              <a:rPr b="1" lang="ru-RU" sz="1400" spc="-1" strike="noStrike">
                <a:solidFill>
                  <a:srgbClr val="cc0099"/>
                </a:solidFill>
                <a:latin typeface="Times New Roman"/>
              </a:rPr>
              <a:t>5160,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трелка вправо с вырезом 9"/>
          <p:cNvSpPr/>
          <p:nvPr/>
        </p:nvSpPr>
        <p:spPr>
          <a:xfrm rot="20303400">
            <a:off x="7515360" y="4520880"/>
            <a:ext cx="1081080" cy="574560"/>
          </a:xfrm>
          <a:custGeom>
            <a:avLst/>
            <a:gdLst>
              <a:gd name="textAreaLeft" fmla="*/ 144000 w 1081080"/>
              <a:gd name="textAreaRight" fmla="*/ 937080 w 1081080"/>
              <a:gd name="textAreaTop" fmla="*/ 143640 h 574560"/>
              <a:gd name="textAreaBottom" fmla="*/ 430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840" y="5400"/>
                </a:lnTo>
                <a:lnTo>
                  <a:pt x="15840" y="0"/>
                </a:lnTo>
                <a:lnTo>
                  <a:pt x="21600" y="10800"/>
                </a:lnTo>
                <a:lnTo>
                  <a:pt x="15840" y="21600"/>
                </a:lnTo>
                <a:lnTo>
                  <a:pt x="15840" y="16200"/>
                </a:lnTo>
                <a:lnTo>
                  <a:pt x="0" y="16200"/>
                </a:lnTo>
                <a:lnTo>
                  <a:pt x="288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cd9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Times New Roman"/>
              </a:rPr>
              <a:t>+265,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Стрелка вправо с вырезом 10" descr=""/>
          <p:cNvPicPr/>
          <p:nvPr/>
        </p:nvPicPr>
        <p:blipFill>
          <a:blip r:embed="rId2"/>
          <a:stretch/>
        </p:blipFill>
        <p:spPr>
          <a:xfrm>
            <a:off x="6205680" y="4273560"/>
            <a:ext cx="10062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f2dcd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Динамика поступлений неналоговых доходов в бюджет Нагорского муниципального района за 2015 год в сравнении с 2014 годом, тыс. 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7929360" cy="4572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0" y="357120"/>
            <a:ext cx="640080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Анализ недоимки в консолидированный бюджет Нагорского района за 2015 год,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2920" y="1714680"/>
          <a:ext cx="8072280" cy="5411520"/>
        </p:xfrm>
        <a:graphic>
          <a:graphicData uri="http://schemas.openxmlformats.org/drawingml/2006/table">
            <a:tbl>
              <a:tblPr/>
              <a:tblGrid>
                <a:gridCol w="3214800"/>
                <a:gridCol w="1714320"/>
                <a:gridCol w="1571760"/>
                <a:gridCol w="157140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латеж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15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16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, тыс. руб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 т.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9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4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4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ДФ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2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В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1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физических лиц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8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ельный нало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, в т.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0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2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 земл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7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5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 имущест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6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6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2" descr="&amp;Dcy;&amp;ocy;&amp;pcy;&amp;ocy;&amp;lcy;&amp;ncy;&amp;icy;&amp;tcy;&amp;iecy;&amp;lcy;&amp;softcy;&amp;ncy;&amp;ycy;&amp;iecy; &amp;dcy;&amp;ocy;&amp;khcy;&amp;ocy;&amp;dcy;&amp;ycy; &amp;bcy;&amp;yucy;&amp;dcy;&amp;zhcy;&amp;iecy;&amp;tcy;&amp;acy; &amp;pcy;&amp;ocy;&amp;jcy;&amp;dcy;&amp;ucy;&amp;tcy; &amp;ncy;&amp;acy; &amp;scy;&amp;iecy;&amp;lcy;&amp;softcy;&amp;scy;&amp;kcy;&amp;ocy;&amp;iecy; &amp;khcy;&amp;ocy;&amp;zcy;&amp;yacy;&amp;jcy;&amp;scy;&amp;tcy;&amp;vcy;&amp;ocy; &amp;icy; &amp;gcy;&amp;acy;&amp;rcy;&amp;acy;&amp;ncy;&amp;tcy;&amp;icy;&amp;icy; &amp;pcy;&amp;ocy; &amp;icy;&amp;ncy;&amp;vcy;&amp;iecy;&amp;scy;&amp;tcy;&amp;kcy;&amp;rcy;&amp;iecy;&amp;dcy;&amp;icy;&amp;tcy;&amp;acy;&amp;mcy;: &amp;Pcy;&amp;ocy;&amp;rcy;&amp;tcy;&amp;acy;&amp;lcy; &amp;mcy;&amp;acy;&amp;lcy;&amp;ocy;&amp;gcy;&amp;ocy; &amp;icy; &amp;scy;&amp;rcy;&amp;iecy;&amp;dcy;&amp;ncy;&amp;iecy;&amp;gcy;&amp;ocy; &amp;pcy;&amp;rcy;&amp;iecy;&amp;dcy;&amp;pcy;&amp;rcy;&amp;icy;&amp;ncy;&amp;icy;&amp;mcy;&amp;acy;&amp;tcy;&amp;iecy;&amp;lcy;"/>
          <p:cNvPicPr/>
          <p:nvPr/>
        </p:nvPicPr>
        <p:blipFill>
          <a:blip r:embed="rId1"/>
          <a:stretch/>
        </p:blipFill>
        <p:spPr>
          <a:xfrm>
            <a:off x="428760" y="142920"/>
            <a:ext cx="2071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324000" y="549360"/>
            <a:ext cx="8135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 РАСХОДОВ БЮДЖЕТА МУНИЦИПАЛЬНОГО ОБРАЗОВАНИЯ НАГОРСКИЙ МУНИЦИПАЛЬНЫЙ РАЙОН КИРОВСКОЙ ОБЛАСТИ</a:t>
            </a: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724360" y="157176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2015 г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887640" y="2871720"/>
            <a:ext cx="10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39640" y="15717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2014 г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8"/>
          <p:cNvSpPr/>
          <p:nvPr/>
        </p:nvSpPr>
        <p:spPr>
          <a:xfrm>
            <a:off x="3527280" y="3392640"/>
            <a:ext cx="2124360" cy="0"/>
          </a:xfrm>
          <a:prstGeom prst="line">
            <a:avLst/>
          </a:prstGeom>
          <a:ln w="19044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527280" y="2708280"/>
            <a:ext cx="1441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66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с. руб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250920" y="2421000"/>
            <a:ext cx="3168720" cy="2628720"/>
          </a:xfrm>
          <a:prstGeom prst="flowChartMultidocumen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77894,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ыс.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5724360" y="2205000"/>
            <a:ext cx="3168720" cy="3168720"/>
          </a:xfrm>
          <a:prstGeom prst="flowChartMultidocumen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86561,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ыс.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6:40:34Z</dcterms:created>
  <dc:creator>Лариса Патрушева</dc:creator>
  <dc:description/>
  <dc:language>en-US</dc:language>
  <cp:lastModifiedBy>ВодоносоваЕЮ</cp:lastModifiedBy>
  <dcterms:modified xsi:type="dcterms:W3CDTF">2016-04-01T08:07:33Z</dcterms:modified>
  <cp:revision>402</cp:revision>
  <dc:subject/>
  <dc:title>Департамент финансов  Кировской области</dc:title>
</cp:coreProperties>
</file>