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06E8-D7E3-423A-8C64-3475C5560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D44F-564B-4F61-BEED-F030D0A73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3BE-4DC6-45F3-A52E-696B84076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A9B7-AA57-4DC1-A1B9-A2AA64336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2294-09A9-489D-8FEF-B12D84338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C98-240C-4D07-802C-60711D04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700-E61D-48C7-AA74-B53FF34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0E1-3CF3-41B3-BDAC-C0377EDE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4A0-BA90-4569-98BC-6802341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ABF-986A-4D09-B323-C852C82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686-E3A5-426F-9EBB-23D9658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ED2-B04B-4FAC-A27C-44E63A6A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006-D709-41DE-932C-C26422BA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2D4-F007-473F-848E-5B871D2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5D3-0F0C-4DDC-9153-910D66E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442-AB4D-4F61-B10C-67D4CDD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8C8-2FD4-4777-B126-A0E83C8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B2F-710B-4C38-A760-AA90F04D3E72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20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20 год к уровню 2019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1785960"/>
          <a:ext cx="8215560" cy="522432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9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20 года от 2019 года.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31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8 30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592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0 77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419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 77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36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 196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 29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4 55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Анализ недоимки в консолидированный бюджет Нагорского района за 2020 год, </a:t>
            </a:r>
            <a:br>
              <a:rPr sz="2400"/>
            </a:b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4200" y="1785960"/>
          <a:ext cx="8501040" cy="492912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0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1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8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6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90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82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4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6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0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1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3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725400"/>
          </a:xfrm>
          <a:prstGeom prst="rect">
            <a:avLst/>
          </a:prstGeom>
          <a:solidFill>
            <a:srgbClr val="ebb391"/>
          </a:solidFill>
          <a:ln w="9360">
            <a:solidFill>
              <a:srgbClr val="968c8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Работа, проводимая  в районе по привлечению и увеличению </a:t>
            </a:r>
            <a:br>
              <a:rPr sz="1600"/>
            </a:b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доходной части бюджета 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133200" y="1133640"/>
            <a:ext cx="8894880" cy="554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pasitepomogite.ru/wp-content/uploads/Upravlenie-debitorskoj-zadolzhennostyu.jpg"/>
          <p:cNvPicPr/>
          <p:nvPr/>
        </p:nvPicPr>
        <p:blipFill>
          <a:blip r:embed="rId2"/>
          <a:stretch/>
        </p:blipFill>
        <p:spPr>
          <a:xfrm>
            <a:off x="136440" y="214200"/>
            <a:ext cx="2649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231920"/>
            <a:ext cx="827244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kayrosblog.ru/wp-content/uploads/2016/12/Rashody-lichnogo-byudzheta-kak-derzhat-sebya-v-rukah-5-768x511.jpg"/>
          <p:cNvPicPr/>
          <p:nvPr/>
        </p:nvPicPr>
        <p:blipFill>
          <a:blip r:embed="rId2"/>
          <a:stretch/>
        </p:blipFill>
        <p:spPr>
          <a:xfrm>
            <a:off x="4714920" y="142920"/>
            <a:ext cx="4214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0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9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1756,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53459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5215,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20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4200" y="928800"/>
          <a:ext cx="8715600" cy="5835600"/>
        </p:xfrm>
        <a:graphic>
          <a:graphicData uri="http://schemas.openxmlformats.org/drawingml/2006/table">
            <a:tbl>
              <a:tblPr/>
              <a:tblGrid>
                <a:gridCol w="4094280"/>
                <a:gridCol w="841320"/>
                <a:gridCol w="1190520"/>
                <a:gridCol w="1121040"/>
                <a:gridCol w="1468440"/>
              </a:tblGrid>
              <a:tr h="9205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8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55d7e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215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49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2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 – коммунальное хозяй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8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8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дравоохран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7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04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4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4" descr=""/>
          <p:cNvPicPr/>
          <p:nvPr/>
        </p:nvPicPr>
        <p:blipFill>
          <a:blip r:embed="rId1"/>
          <a:stretch/>
        </p:blipFill>
        <p:spPr>
          <a:xfrm>
            <a:off x="460440" y="2000160"/>
            <a:ext cx="8397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20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Диаграмма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уживание муниципального долга в 2020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20 год исполнен по доходам в сумме 297158,1 тыс. рублей и по расходам в сумме 295215,6 тыс. рублей, с профицитом       1942,5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бюджетные трансферты целевого характера поселениям района в 20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ого норматива расходов на содержание органов местного самоуправления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40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аботная плата с начислениями за 2020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едиторская задолженность по заработной плате с начислениями за 2020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Диаграмма 5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5631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8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8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ограмм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14240" y="1214280"/>
          <a:ext cx="7715520" cy="518796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6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4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6868"/>
          </a:solidFill>
          <a:ln w="9360">
            <a:solidFill>
              <a:srgbClr val="b39d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20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920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31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 430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 350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 15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3203640" y="4797360"/>
            <a:ext cx="278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20 год к уровню 2019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 года, тыс. рублей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428760"/>
          </a:xfrm>
          <a:prstGeom prst="borderCallout2">
            <a:avLst>
              <a:gd name="adj1" fmla="val 18750"/>
              <a:gd name="adj2" fmla="val -8333"/>
              <a:gd name="adj3" fmla="val 32972"/>
              <a:gd name="adj4" fmla="val -2235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4 638,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6929280" y="1643040"/>
            <a:ext cx="13575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44 550,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607600" cy="117000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алоговым доходам за 2020 год 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341360"/>
          <a:ext cx="8425080" cy="5238720"/>
        </p:xfrm>
        <a:graphic>
          <a:graphicData uri="http://schemas.openxmlformats.org/drawingml/2006/table">
            <a:tbl>
              <a:tblPr/>
              <a:tblGrid>
                <a:gridCol w="2557440"/>
                <a:gridCol w="865440"/>
                <a:gridCol w="1225440"/>
                <a:gridCol w="1224000"/>
                <a:gridCol w="1295280"/>
                <a:gridCol w="12574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0 года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0 года от плана ,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1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13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1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алог на доходы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884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7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кциз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80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прощен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37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20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6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налог на вмененный дох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5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79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тент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спошли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4" descr="https://im0-tub-ru.yandex.net/i?id=be48b5f7c614fd6dbd40b31ad88a09a1&amp;n=33&amp;h=215&amp;w=325"/>
          <p:cNvPicPr/>
          <p:nvPr/>
        </p:nvPicPr>
        <p:blipFill>
          <a:blip r:embed="rId1"/>
          <a:stretch/>
        </p:blipFill>
        <p:spPr>
          <a:xfrm>
            <a:off x="136440" y="285840"/>
            <a:ext cx="186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за 2020 год в сравнении с 2019 годом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0" y="1214280"/>
            <a:ext cx="89503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1601400">
            <a:off x="275760" y="3035160"/>
            <a:ext cx="1000080" cy="436680"/>
          </a:xfrm>
          <a:custGeom>
            <a:avLst/>
            <a:gdLst>
              <a:gd name="textAreaLeft" fmla="*/ 77400 w 1000080"/>
              <a:gd name="textAreaRight" fmla="*/ 922680 w 1000080"/>
              <a:gd name="textAreaTop" fmla="*/ 109080 h 436680"/>
              <a:gd name="textAreaBottom" fmla="*/ 327600 h 43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53" y="5400"/>
                </a:lnTo>
                <a:lnTo>
                  <a:pt x="18253" y="0"/>
                </a:lnTo>
                <a:lnTo>
                  <a:pt x="21600" y="10800"/>
                </a:lnTo>
                <a:lnTo>
                  <a:pt x="18253" y="21600"/>
                </a:lnTo>
                <a:lnTo>
                  <a:pt x="18253" y="16200"/>
                </a:lnTo>
                <a:lnTo>
                  <a:pt x="0" y="16200"/>
                </a:lnTo>
                <a:lnTo>
                  <a:pt x="1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593,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226400">
            <a:off x="1568160" y="2717280"/>
            <a:ext cx="1009440" cy="435240"/>
          </a:xfrm>
          <a:custGeom>
            <a:avLst/>
            <a:gdLst>
              <a:gd name="textAreaLeft" fmla="*/ 108720 w 1009440"/>
              <a:gd name="textAreaRight" fmla="*/ 900720 w 1009440"/>
              <a:gd name="textAreaTop" fmla="*/ 108720 h 435240"/>
              <a:gd name="textAreaBottom" fmla="*/ 326520 h 435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41" y="5400"/>
                </a:ln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16941" y="16200"/>
                </a:lnTo>
                <a:lnTo>
                  <a:pt x="0" y="16200"/>
                </a:lnTo>
                <a:lnTo>
                  <a:pt x="233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2 442,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1652400">
            <a:off x="2508120" y="3800160"/>
            <a:ext cx="874800" cy="414360"/>
          </a:xfrm>
          <a:custGeom>
            <a:avLst/>
            <a:gdLst>
              <a:gd name="textAreaLeft" fmla="*/ 103320 w 874800"/>
              <a:gd name="textAreaRight" fmla="*/ 771480 w 8748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89" y="5400"/>
                </a:lnTo>
                <a:lnTo>
                  <a:pt x="16489" y="0"/>
                </a:lnTo>
                <a:lnTo>
                  <a:pt x="21600" y="10800"/>
                </a:lnTo>
                <a:lnTo>
                  <a:pt x="16489" y="21600"/>
                </a:lnTo>
                <a:lnTo>
                  <a:pt x="16489" y="16200"/>
                </a:lnTo>
                <a:lnTo>
                  <a:pt x="0" y="16200"/>
                </a:lnTo>
                <a:lnTo>
                  <a:pt x="25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390,0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19349400">
            <a:off x="3552840" y="1355400"/>
            <a:ext cx="1041480" cy="441360"/>
          </a:xfrm>
          <a:custGeom>
            <a:avLst/>
            <a:gdLst>
              <a:gd name="textAreaLeft" fmla="*/ 110160 w 1041480"/>
              <a:gd name="textAreaRight" fmla="*/ 931320 w 104148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32" y="5400"/>
                </a:lnTo>
                <a:lnTo>
                  <a:pt x="17032" y="0"/>
                </a:lnTo>
                <a:lnTo>
                  <a:pt x="21600" y="10800"/>
                </a:lnTo>
                <a:lnTo>
                  <a:pt x="17032" y="21600"/>
                </a:lnTo>
                <a:lnTo>
                  <a:pt x="17032" y="16200"/>
                </a:lnTo>
                <a:lnTo>
                  <a:pt x="0" y="16200"/>
                </a:lnTo>
                <a:lnTo>
                  <a:pt x="22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3 390,0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1929600">
            <a:off x="5524560" y="3704760"/>
            <a:ext cx="842760" cy="414360"/>
          </a:xfrm>
          <a:custGeom>
            <a:avLst/>
            <a:gdLst>
              <a:gd name="textAreaLeft" fmla="*/ 103680 w 842760"/>
              <a:gd name="textAreaRight" fmla="*/ 739080 w 84276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74" y="5400"/>
                </a:lnTo>
                <a:lnTo>
                  <a:pt x="16274" y="0"/>
                </a:lnTo>
                <a:lnTo>
                  <a:pt x="21600" y="10800"/>
                </a:lnTo>
                <a:lnTo>
                  <a:pt x="16274" y="21600"/>
                </a:lnTo>
                <a:lnTo>
                  <a:pt x="16274" y="16200"/>
                </a:lnTo>
                <a:lnTo>
                  <a:pt x="0" y="16200"/>
                </a:lnTo>
                <a:lnTo>
                  <a:pt x="26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82,9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4559400" y="3833640"/>
            <a:ext cx="90324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еналоговым доходам за 2020 год п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276200"/>
          <a:ext cx="8319960" cy="4459320"/>
        </p:xfrm>
        <a:graphic>
          <a:graphicData uri="http://schemas.openxmlformats.org/drawingml/2006/table">
            <a:tbl>
              <a:tblPr/>
              <a:tblGrid>
                <a:gridCol w="2257200"/>
                <a:gridCol w="1214640"/>
                <a:gridCol w="1357200"/>
                <a:gridCol w="1114560"/>
                <a:gridCol w="1224000"/>
                <a:gridCol w="1152360"/>
              </a:tblGrid>
              <a:tr h="77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0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18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земл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6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0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1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85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Прочие доходы от использования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ВО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раф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2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2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доходы от оказания платных услу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75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58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http://lance24.ru/wp-content/uploads/2017/03/money.jpg"/>
          <p:cNvPicPr/>
          <p:nvPr/>
        </p:nvPicPr>
        <p:blipFill>
          <a:blip r:embed="rId1"/>
          <a:stretch/>
        </p:blipFill>
        <p:spPr>
          <a:xfrm>
            <a:off x="3564000" y="5877000"/>
            <a:ext cx="2448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8e6d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20 год в сравнении с 2019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17600" y="164952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4643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сполнение плана по безвозмездным поступлениям по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бюджету Нагорского муниципального района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2960" y="1500120"/>
          <a:ext cx="8258040" cy="4724640"/>
        </p:xfrm>
        <a:graphic>
          <a:graphicData uri="http://schemas.openxmlformats.org/drawingml/2006/table">
            <a:tbl>
              <a:tblPr/>
              <a:tblGrid>
                <a:gridCol w="2786040"/>
                <a:gridCol w="1143000"/>
                <a:gridCol w="1214280"/>
                <a:gridCol w="928800"/>
                <a:gridCol w="1000080"/>
                <a:gridCol w="1185840"/>
              </a:tblGrid>
              <a:tr h="115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0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 58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222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23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ежбюджетные трансфер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6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3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 430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589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pencioner.ru/upload/iblock/f03/planirovshchik.jpg"/>
          <p:cNvPicPr/>
          <p:nvPr/>
        </p:nvPicPr>
        <p:blipFill>
          <a:blip r:embed="rId1"/>
          <a:stretch/>
        </p:blipFill>
        <p:spPr>
          <a:xfrm>
            <a:off x="136440" y="214200"/>
            <a:ext cx="21319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GlavF</cp:lastModifiedBy>
  <dcterms:modified xsi:type="dcterms:W3CDTF">2021-02-15T12:25:39Z</dcterms:modified>
  <cp:revision>647</cp:revision>
  <dc:subject/>
  <dc:title>Департамент финансов  Кировской области</dc:title>
</cp:coreProperties>
</file>